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7543440" y="5943600"/>
            <a:ext cx="1600200" cy="27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3800" y="6172200"/>
            <a:ext cx="1600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96080" y="653580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7169F57-A3BC-4821-A61E-1A57851A5900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43800" y="6172200"/>
            <a:ext cx="1600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96080" y="653580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34C3F37-35D3-446B-971D-DC69C4F886B1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43800" y="6172200"/>
            <a:ext cx="1600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3580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FA2DA0C-1ED5-4AF5-B18C-C65487193F30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543800" y="6172200"/>
            <a:ext cx="1600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96080" y="653580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7520DFD-F1D4-40E4-98F5-5D06C3F160D2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543800" y="6172200"/>
            <a:ext cx="1600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696080" y="653580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AD4B5D7-C5A3-47D3-9EB6-63334D2F55A6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543800" y="6172200"/>
            <a:ext cx="1600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696080" y="653580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6B3DD20-638E-4769-9EF3-3C2BE7B4C0C8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543800" y="6172200"/>
            <a:ext cx="1600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7696080" y="653580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CDB63FA-EC0C-4390-9432-E45FEEFFFEB0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543800" y="5943600"/>
            <a:ext cx="16002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7696080" y="653580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31419CC-0D5F-4506-8050-D187E18A9B8F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4320" y="1390680"/>
            <a:ext cx="2778120" cy="3333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32080" y="1390680"/>
            <a:ext cx="2778120" cy="3333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75440" y="1390680"/>
            <a:ext cx="2778120" cy="3333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5240" y="474336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) Southern sea o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82840" y="47768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) Sea Urch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14320" y="476892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) Kelp b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733400" y="25560"/>
            <a:ext cx="5675400" cy="68054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632400" y="289080"/>
            <a:ext cx="198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-Selected Spe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28840" y="1549440"/>
            <a:ext cx="10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ckro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36760" y="9810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nde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98040" y="2146320"/>
            <a:ext cx="56592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y small offsp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ttle or no parental care and protection of offsp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ly reproductive 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 offspring die before reaching reproductive 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all ad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ed to unstable climate and environmen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population growth rate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size fluctuates wildly above and belo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ing capacity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ist n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ability to comp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ly successional spe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10a Page 17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28720" y="25560"/>
            <a:ext cx="5684760" cy="6805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09280" y="2281320"/>
            <a:ext cx="55681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wer, larger offsp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parental care and protection of offsp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r reproductive 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 offspring survive to reproductive 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r ad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ed to stable climate and environmental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r population growth rate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size fairly stable and usually close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ing capacity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alist n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ability to comp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 successional spe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59000" y="175896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ph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91040" y="153828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gua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47440" y="279360"/>
            <a:ext cx="205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-Selected Spe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10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7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 rot="16200000">
            <a:off x="-1254600" y="2829240"/>
            <a:ext cx="32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centage surviving (log sca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2960" y="8460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4920" y="20145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7960" y="3271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7960" y="4478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77600" y="5827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1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7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065240" y="0"/>
            <a:ext cx="7164360" cy="5916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141560" y="1049400"/>
            <a:ext cx="1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1560" y="2189160"/>
            <a:ext cx="1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1560" y="3448080"/>
            <a:ext cx="1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41560" y="4675320"/>
            <a:ext cx="1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06080" y="48830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ly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2419800">
            <a:off x="2192400" y="189000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ant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70200" y="509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13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7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42800" y="0"/>
            <a:ext cx="6913800" cy="68054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848160" y="195912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85240" y="195912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ural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62600" y="195912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man-Domin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1320" y="2527200"/>
            <a:ext cx="200808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mplex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Energy sour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Waste produ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Nutrien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Net prima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productiv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32960" y="2527200"/>
            <a:ext cx="230976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Biologically diver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Renewable sol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Little, if an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Recycl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hared among man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pec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65760" y="2527200"/>
            <a:ext cx="2379960" cy="34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Biologicall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implifi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Mostly nonrenewable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fossil fuel energ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Often lost of wast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Used, destroyed, or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degraded to support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human activit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14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7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320840" y="25560"/>
            <a:ext cx="6500880" cy="68054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365280" y="2803680"/>
            <a:ext cx="22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STAIN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2556600">
            <a:off x="5222160" y="1343880"/>
            <a:ext cx="17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8957600">
            <a:off x="1896480" y="148572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ar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8874200">
            <a:off x="5099040" y="45802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o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2616600">
            <a:off x="2207880" y="4455360"/>
            <a:ext cx="16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tr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cd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201760" y="25560"/>
            <a:ext cx="4392720" cy="68054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15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7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09960" y="452520"/>
            <a:ext cx="246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d7e"/>
                </a:solidFill>
                <a:latin typeface="Arial"/>
              </a:rPr>
              <a:t>Principles of Sustain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19760" y="971640"/>
            <a:ext cx="17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w Nature 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53760" y="97164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ssons for 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-27000" y="1450800"/>
            <a:ext cx="3646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s on renewable solar energ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ycles nutrients and wastes. There is little waste in nat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biodiversity to maintain itself and adapt to new environmental condi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 a species population size and resource use by interactions with its environment and other spec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27600" y="1359000"/>
            <a:ext cx="4202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y mostly on renewable solar energ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ent and reduce pollution and recycle and reuse re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rve biodiversity by protecting ecosystem services and preventing premature exti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pec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 births and wasteful resource use to prevent environmental overload and depletion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gradation of re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96840" y="5544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d7e"/>
                </a:solidFill>
                <a:latin typeface="Arial"/>
              </a:rPr>
              <a:t>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</a:rPr>
              <a:t>Click to view anim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35920" y="4200480"/>
            <a:ext cx="38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ture-recapture method intera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908440" y="1825560"/>
            <a:ext cx="33256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</a:rPr>
              <a:t>Click to view anim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35920" y="4200480"/>
            <a:ext cx="38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ture-recapture method intera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057400" y="2144880"/>
            <a:ext cx="50292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3360" y="1486080"/>
            <a:ext cx="26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Clumped (elepha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11400" y="1486080"/>
            <a:ext cx="290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Uniform (creosote bus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54840" y="1486080"/>
            <a:ext cx="26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Random (dande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2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8920" y="1836720"/>
            <a:ext cx="896616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615960" y="25560"/>
            <a:ext cx="6343560" cy="7002720"/>
            <a:chOff x="615960" y="25560"/>
            <a:chExt cx="6343560" cy="700272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615960" y="314280"/>
              <a:ext cx="6343560" cy="650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854800" y="25560"/>
              <a:ext cx="17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PULATION 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52280" y="2643120"/>
              <a:ext cx="15674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rowth fac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biotic potentia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960" y="3429000"/>
              <a:ext cx="271368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avorable ligh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avorable temperatur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avorable chemical environ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optimal level of critical nutrient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442880" y="3033720"/>
              <a:ext cx="78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biot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97600" y="417204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ot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6320" y="4343400"/>
              <a:ext cx="2773080" cy="26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igh reproductive 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lized n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equate food supp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itable habit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bility to compete for resour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bility to hide from or def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gainst predat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bility to resist diseases and parasi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bility to migrate and live in oth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abita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bility to adapt to environmen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an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54320" y="2643120"/>
              <a:ext cx="24498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crease fac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nvironmental resistanc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65040" y="3249720"/>
              <a:ext cx="2713680" cy="98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oo much or too little ligh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emperature too high or too lo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nfavorable chemical environ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too much or too little of critical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utrient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86280" y="3033720"/>
              <a:ext cx="78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biot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941000" y="417204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ot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55680" y="4343400"/>
              <a:ext cx="2885760" cy="268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w reproductive 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alized n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adequate food supp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suitable or destroyed habit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o many competit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sufficient ability to hide from or def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gainst predat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ability to resist diseases and parasi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ability to migrate and live in oth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abita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ability to adapt to environmen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an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3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53120" y="101160"/>
            <a:ext cx="291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© 2004 Brooks/Cole – Thomson Learn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 rot="16200000">
            <a:off x="-248400" y="2928240"/>
            <a:ext cx="200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size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22440" y="5927760"/>
            <a:ext cx="91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4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031760" y="82440"/>
            <a:ext cx="7131240" cy="5850000"/>
            <a:chOff x="1031760" y="82440"/>
            <a:chExt cx="7131240" cy="585000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1031760" y="82440"/>
              <a:ext cx="7131240" cy="585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039680" y="5700600"/>
              <a:ext cx="691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434960" y="1749600"/>
            <a:ext cx="221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ing capacity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7960" y="584280"/>
            <a:ext cx="158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a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93800" y="3049560"/>
            <a:ext cx="102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o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78240" y="3859200"/>
            <a:ext cx="132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6040" y="2612880"/>
            <a:ext cx="241200" cy="2961000"/>
          </a:xfrm>
          <a:custGeom>
            <a:avLst/>
            <a:gdLst>
              <a:gd name="textAreaLeft" fmla="*/ 0 w 241200"/>
              <a:gd name="textAreaRight" fmla="*/ 169200 w 241200"/>
              <a:gd name="textAreaTop" fmla="*/ 123120 h 2961000"/>
              <a:gd name="textAreaBottom" fmla="*/ 2837880 h 296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71680" y="523800"/>
            <a:ext cx="6370560" cy="5278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41840" y="7239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41840" y="1968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41840" y="3227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54520" y="44593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-660600" y="3066840"/>
            <a:ext cx="278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sheep (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3560" y="5594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05800" y="5594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98040" y="5594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48960" y="5594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6320" y="5594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45960" y="5594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1320" y="60483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5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8240" y="717480"/>
            <a:ext cx="119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sh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10600" y="1093680"/>
            <a:ext cx="18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ing 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1020600"/>
            <a:ext cx="355320" cy="36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78640" y="1397160"/>
            <a:ext cx="10800" cy="46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31800" y="92376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31800" y="213048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31800" y="341136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31800" y="464976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624040" y="5446440"/>
            <a:ext cx="0" cy="14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693960" y="5446440"/>
            <a:ext cx="0" cy="14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889520" y="5446440"/>
            <a:ext cx="0" cy="14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843520" y="5446440"/>
            <a:ext cx="0" cy="14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008840" y="5446440"/>
            <a:ext cx="0" cy="14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488960" y="565200"/>
            <a:ext cx="6235920" cy="5352840"/>
            <a:chOff x="1488960" y="565200"/>
            <a:chExt cx="6235920" cy="535284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1488960" y="565200"/>
              <a:ext cx="6235920" cy="53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500120" y="5721480"/>
              <a:ext cx="601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816120" y="129708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6120" y="23907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-506520" y="3046680"/>
            <a:ext cx="20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reinde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59600" y="57135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96120" y="57135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240" y="57135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77360" y="57135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87240" y="57135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61320" y="633564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6120" y="34956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86400" y="4600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43440" y="59292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6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014560" y="558324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84480" y="558324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280040" y="558324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34040" y="558324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399360" y="558324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09840" y="1468440"/>
            <a:ext cx="1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09840" y="2575080"/>
            <a:ext cx="1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09840" y="3666960"/>
            <a:ext cx="1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09840" y="4794120"/>
            <a:ext cx="1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64160" y="430056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29440" y="1184400"/>
            <a:ext cx="1271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sh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21800" y="1909800"/>
            <a:ext cx="122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as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86200" y="1627200"/>
            <a:ext cx="671760" cy="19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814720" y="2193840"/>
            <a:ext cx="377640" cy="209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057040" y="4838760"/>
            <a:ext cx="398520" cy="65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581040" y="545760"/>
            <a:ext cx="8013600" cy="5367240"/>
            <a:chOff x="581040" y="545760"/>
            <a:chExt cx="8013600" cy="536724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581040" y="801360"/>
              <a:ext cx="798048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678280" y="545760"/>
              <a:ext cx="2916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© 2004 Brooks/Cole – Thomson Learn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 rot="16200000">
            <a:off x="-827280" y="3169800"/>
            <a:ext cx="23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individu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44760" y="59976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8720" y="5464080"/>
            <a:ext cx="13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Irrup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92120" y="179388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57120" y="418140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Cyc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87720" y="14130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Irre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97160" y="504828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43280" y="215280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393800" y="1581120"/>
            <a:ext cx="48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565000" y="4349880"/>
            <a:ext cx="48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43440" y="591516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7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770040" y="633240"/>
            <a:ext cx="8213760" cy="4117680"/>
            <a:chOff x="770040" y="633240"/>
            <a:chExt cx="8213760" cy="411768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770040" y="633240"/>
              <a:ext cx="8213760" cy="41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839880" y="4384800"/>
              <a:ext cx="7966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 rot="16200000">
            <a:off x="-1226520" y="24894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size (thousan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4040" y="720720"/>
            <a:ext cx="455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4040" y="1152360"/>
            <a:ext cx="455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4040" y="1609560"/>
            <a:ext cx="455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4040" y="2066760"/>
            <a:ext cx="455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5840" y="244008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5840" y="288432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5840" y="332892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5840" y="378612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7640" y="425592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4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2452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5648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6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8664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7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1860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8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4876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9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8072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90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1088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91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4284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9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7444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93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61320" y="48736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31800" y="1017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32160" y="132084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yn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8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68912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37500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01984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52796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51604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19724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83560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68988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836604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83808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260676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26920" y="303696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349236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177624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6920" y="220680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131436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9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98720" y="190440"/>
            <a:ext cx="7019640" cy="57006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rot="16200000">
            <a:off x="-395640" y="3291840"/>
            <a:ext cx="23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individu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757080" y="139068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11320" y="5965920"/>
            <a:ext cx="1598760" cy="337320"/>
            <a:chOff x="3811320" y="5965920"/>
            <a:chExt cx="1598760" cy="337320"/>
          </a:xfrm>
        </p:grpSpPr>
        <p:sp>
          <p:nvSpPr>
            <p:cNvPr id="210" name=""/>
            <p:cNvSpPr/>
            <p:nvPr/>
          </p:nvSpPr>
          <p:spPr>
            <a:xfrm>
              <a:off x="3811320" y="596592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08280" y="6146640"/>
              <a:ext cx="90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3839040" y="378000"/>
            <a:ext cx="18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ing 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21000" y="1368360"/>
            <a:ext cx="126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peci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4645080"/>
            <a:ext cx="123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peci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45240" y="55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76360" y="48006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76840" y="1168560"/>
            <a:ext cx="393840" cy="3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6T19:40:24Z</dcterms:created>
  <dc:creator>Chris Madison</dc:creator>
  <dc:description/>
  <dc:language>en-US</dc:language>
  <cp:lastModifiedBy>you</cp:lastModifiedBy>
  <dcterms:modified xsi:type="dcterms:W3CDTF">2004-10-07T19:15:24Z</dcterms:modified>
  <cp:revision>1367</cp:revision>
  <dc:subject/>
  <dc:title>No Slide Title</dc:title>
</cp:coreProperties>
</file>