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543440" y="5943600"/>
            <a:ext cx="16002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4F05F6-AA58-4590-A2AB-218E190B309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7E36EB-275E-4477-93D8-83C721186D1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F214B8-575F-4749-8192-9DC1B06F77C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03DC59-D5EE-4E01-B3A0-ECC119992E6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3FCE1A-A4B4-4CD3-89C9-2EF6A11C045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1940E7-3909-47B3-8CF6-AF379DE9B4F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95F088-DA58-4FCE-BB61-03FC1AC756E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543800" y="5943600"/>
            <a:ext cx="1600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30BFC8-A1D8-4893-B385-4C93E0AB48E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432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3208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5440" y="1390680"/>
            <a:ext cx="277812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5240" y="47433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Southern sea o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82840" y="47768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Sea Urch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4320" y="47689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Kelp b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33400" y="25560"/>
            <a:ext cx="5675400" cy="6805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32400" y="28908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8840" y="1549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ck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36760" y="981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nde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2146320"/>
            <a:ext cx="56592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mall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or no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die before reaching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unstable climate and environm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luctuates wildly above and be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a 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25560"/>
            <a:ext cx="5684760" cy="680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09280" y="2281320"/>
            <a:ext cx="5568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wer, larger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survive to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r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stable climate and environment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airly stable and usually clos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9000" y="17589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1040" y="153828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gua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47440" y="27936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16200000">
            <a:off x="-1254600" y="2829240"/>
            <a:ext cx="32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surviving (log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2960" y="846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2014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960" y="3271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960" y="44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77600" y="5827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5240" y="0"/>
            <a:ext cx="7164360" cy="591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1560" y="104940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1560" y="21891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1560" y="3448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1560" y="46753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6080" y="48830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419800">
            <a:off x="2192400" y="1890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70200" y="509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42800" y="0"/>
            <a:ext cx="6913800" cy="6805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48160" y="1959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85240" y="19591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62600" y="19591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-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320" y="2527200"/>
            <a:ext cx="2008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 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Waste 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et pri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2960" y="2527200"/>
            <a:ext cx="23097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 dive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newable so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ittle, if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cycl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ed among m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65760" y="2527200"/>
            <a:ext cx="23799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ostly nonrenewable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ssil fuel 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ften lost of was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Used, destroyed, or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graded to support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uman activ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20840" y="25560"/>
            <a:ext cx="6500880" cy="6805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65280" y="2803680"/>
            <a:ext cx="22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556600">
            <a:off x="5222160" y="1343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57600">
            <a:off x="1896480" y="14857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874200">
            <a:off x="5099040" y="45802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616600">
            <a:off x="2207880" y="4455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tr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c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01760" y="25560"/>
            <a:ext cx="4392720" cy="6805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9960" y="452520"/>
            <a:ext cx="24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Principles of Sustain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19760" y="97164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w Nature 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53760" y="9716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sons for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27000" y="1450800"/>
            <a:ext cx="364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s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es nutrients and wastes. There is little waste in na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iodiversity to maintain itself and adapt to new environmental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a species population size and resource use by interactions with its environment and other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27600" y="1359000"/>
            <a:ext cx="420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mostly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 and reduce pollution and recycle and reus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 biodiversity by protecting ecosystem services and preventing premature exti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births and wasteful resource use to prevent environmental overload and depletion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adation of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96840" y="554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908440" y="1825560"/>
            <a:ext cx="3325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057400" y="2144880"/>
            <a:ext cx="5029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360" y="148608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lumped (eleph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1400" y="148608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Uniform (creosote bu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54840" y="148608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Random (dande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920" y="1836720"/>
            <a:ext cx="89661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15960" y="25560"/>
            <a:ext cx="6343560" cy="7002720"/>
            <a:chOff x="615960" y="25560"/>
            <a:chExt cx="6343560" cy="70027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15960" y="314280"/>
              <a:ext cx="6343560" cy="65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54800" y="25560"/>
              <a:ext cx="17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ULATION 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2280" y="2643120"/>
              <a:ext cx="1567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wth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iotic potenti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60" y="3429000"/>
              <a:ext cx="27136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ptimal level of critical 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28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976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6320" y="4343400"/>
              <a:ext cx="2773080" cy="26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gh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table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compete for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4320" y="2643120"/>
              <a:ext cx="2449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rease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nvironmental resista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5040" y="3249720"/>
              <a:ext cx="271368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o much or too litt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mperature too high or too 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too much or too little of critic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62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410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5680" y="4343400"/>
              <a:ext cx="288576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suitable or destroyed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o many competi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ufficient 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3120" y="101160"/>
            <a:ext cx="29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2004 Brooks/Cole – Thomson Lear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-248400" y="2928240"/>
            <a:ext cx="20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440" y="5927760"/>
            <a:ext cx="9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31760" y="82440"/>
            <a:ext cx="7131240" cy="5850000"/>
            <a:chOff x="1031760" y="82440"/>
            <a:chExt cx="7131240" cy="5850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031760" y="82440"/>
              <a:ext cx="7131240" cy="58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39680" y="5700600"/>
              <a:ext cx="69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434960" y="1749600"/>
            <a:ext cx="22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7960" y="58428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3800" y="304956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78240" y="385920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612880"/>
            <a:ext cx="241200" cy="2961000"/>
          </a:xfrm>
          <a:custGeom>
            <a:avLst/>
            <a:gdLst>
              <a:gd name="textAreaLeft" fmla="*/ 0 w 241200"/>
              <a:gd name="textAreaRight" fmla="*/ 169200 w 241200"/>
              <a:gd name="textAreaTop" fmla="*/ 123120 h 2961000"/>
              <a:gd name="textAreaBottom" fmla="*/ 2837880 h 296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1680" y="523800"/>
            <a:ext cx="6370560" cy="527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1840" y="723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1840" y="1968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1840" y="3227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4520" y="44593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660600" y="306684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heep (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35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580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04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48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632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5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1320" y="6048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8240" y="7174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0600" y="109368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1020600"/>
            <a:ext cx="3553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8640" y="1397160"/>
            <a:ext cx="1080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800" y="923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31800" y="21304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1800" y="3411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1800" y="4649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40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9396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89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43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088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88960" y="565200"/>
            <a:ext cx="6235920" cy="5352840"/>
            <a:chOff x="1488960" y="565200"/>
            <a:chExt cx="6235920" cy="5352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488960" y="565200"/>
              <a:ext cx="6235920" cy="53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00120" y="5721480"/>
              <a:ext cx="60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16120" y="12970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2390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506520" y="304668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reind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960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9612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736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7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1320" y="6335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6120" y="3495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6400" y="4600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3440" y="59292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145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8448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80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34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993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146844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09840" y="2575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9840" y="36669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9840" y="47941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4160" y="430056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29440" y="1184400"/>
            <a:ext cx="127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1800" y="190980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6200" y="1627200"/>
            <a:ext cx="67176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14720" y="2193840"/>
            <a:ext cx="37764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057040" y="4838760"/>
            <a:ext cx="398520" cy="6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81040" y="545760"/>
            <a:ext cx="8013600" cy="5367240"/>
            <a:chOff x="581040" y="545760"/>
            <a:chExt cx="8013600" cy="53672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81040" y="801360"/>
              <a:ext cx="79804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678280" y="545760"/>
              <a:ext cx="29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2004 Brooks/Cole – Thomson Learn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6200000">
            <a:off x="-827280" y="316980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4760" y="59976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720" y="546408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r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2120" y="179388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7120" y="4181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y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7720" y="1413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7160" y="50482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43280" y="215280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93800" y="158112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65000" y="43498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3440" y="591516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70040" y="633240"/>
            <a:ext cx="8213760" cy="4117680"/>
            <a:chOff x="770040" y="633240"/>
            <a:chExt cx="8213760" cy="41176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70040" y="633240"/>
              <a:ext cx="8213760" cy="41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9880" y="4384800"/>
              <a:ext cx="796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16200000">
            <a:off x="-1226520" y="24894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thousa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040" y="72072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040" y="11523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040" y="16095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4040" y="20667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5840" y="24400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840" y="28843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840" y="33289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5840" y="37861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640" y="425592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45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64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66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860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87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07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108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428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44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1320" y="48736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1800" y="1017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13208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8912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750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198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52796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1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72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8356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8988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6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80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2606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0369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492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177624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220680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314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9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98720" y="190440"/>
            <a:ext cx="7019640" cy="570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-395640" y="329184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57080" y="13906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11320" y="5965920"/>
            <a:ext cx="1598760" cy="337320"/>
            <a:chOff x="3811320" y="5965920"/>
            <a:chExt cx="1598760" cy="337320"/>
          </a:xfrm>
        </p:grpSpPr>
        <p:sp>
          <p:nvSpPr>
            <p:cNvPr id="210" name=""/>
            <p:cNvSpPr/>
            <p:nvPr/>
          </p:nvSpPr>
          <p:spPr>
            <a:xfrm>
              <a:off x="3811320" y="59659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8280" y="6146640"/>
              <a:ext cx="90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839040" y="37800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21000" y="136836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64508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5240" y="55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48006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6840" y="1168560"/>
            <a:ext cx="3938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9:40:24Z</dcterms:created>
  <dc:creator>Chris Madison</dc:creator>
  <dc:description/>
  <dc:language>en-US</dc:language>
  <cp:lastModifiedBy>you</cp:lastModifiedBy>
  <dcterms:modified xsi:type="dcterms:W3CDTF">2004-10-07T19:15:24Z</dcterms:modified>
  <cp:revision>1367</cp:revision>
  <dc:subject/>
  <dc:title>No Slide Title</dc:title>
</cp:coreProperties>
</file>