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49D-7EB9-4D7C-98A4-879A3AC9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1F2-F48F-4E9C-9C28-6B7C729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8C3-FDA6-4118-B953-E928E7F9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252-1C1F-44EE-8FD0-EF25F39D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9D7-9E0E-426E-A527-E7EF7FB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A19-39B1-44E9-91E8-6FA5085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C29-909B-41F6-871B-BE7C9937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4DB-9834-43D9-A0E1-E566160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FD9-7AB5-4A2B-A821-0D5531EC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19C-DC3C-4A43-BCBD-231711B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E0E-3223-4E59-AD08-30276D8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75D-F37D-4E99-837F-5F37E19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5563-8824-4CC7-975D-D12BA4C01F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557360"/>
            <a:ext cx="544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ina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960" y="3178080"/>
            <a:ext cx="63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t inhabitant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6553080"/>
            <a:ext cx="2409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8-10, p. 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936960"/>
            <a:ext cx="3848040" cy="292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43360" y="3933720"/>
            <a:ext cx="331776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280" y="2320920"/>
            <a:ext cx="8393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interaction that benefits one and has little or no effect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040" y="4122720"/>
            <a:ext cx="839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319" t="1050" r="2362" b="8703"/>
          <a:stretch/>
        </p:blipFill>
        <p:spPr>
          <a:xfrm>
            <a:off x="611280" y="1214280"/>
            <a:ext cx="793260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837720" y="1565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8-11 p. 1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787" t="4199" r="1295" b="10803"/>
          <a:stretch/>
        </p:blipFill>
        <p:spPr>
          <a:xfrm>
            <a:off x="314280" y="1236600"/>
            <a:ext cx="8526600" cy="55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76400" y="6450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12 p. 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280" y="1430280"/>
            <a:ext cx="8278560" cy="5454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25080" y="16178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3440" y="4929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812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2 p. 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67120" y="1957320"/>
            <a:ext cx="6176880" cy="393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86080" y="5575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3 p. 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960" y="250812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20" y="35258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520" y="456084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680" y="550080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720" y="148284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560" y="2371680"/>
            <a:ext cx="277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920" y="3260880"/>
            <a:ext cx="294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5000" y="414972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6080" y="503856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 Partitioning and Niche Special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70320" y="1181160"/>
            <a:ext cx="5284440" cy="564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9216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7 p.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3200" y="268128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8-8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. 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840" y="533700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8400" y="6222960"/>
            <a:ext cx="43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9 p. 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7320" y="2174760"/>
            <a:ext cx="205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2960" y="3395520"/>
            <a:ext cx="144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2560" y="4695840"/>
            <a:ext cx="7286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t ecological roles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0:35Z</dcterms:modified>
  <cp:revision>43</cp:revision>
  <dc:subject/>
  <dc:title>PowerPoint Presentation</dc:title>
</cp:coreProperties>
</file>