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C65-C0CA-4DD0-8DA8-FAC299A3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B44-F66A-4A64-9833-B403F050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DC6-132F-4D64-BC06-6DC1749E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264-8165-47DA-81B5-CB023E6F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627-B87D-464A-B8D3-81E3FB3D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52C-2492-4A54-A5B4-F548999F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FD5-4313-4DA7-95EE-5734F899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BCC-5A93-4E0C-81DD-BD392B74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6EE-553C-4923-A855-E6199B6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0FC-3B74-487D-90F6-5E03835F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C62-358F-4568-8D11-0BA9F4B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AA1-61E1-4E5F-9F85-DAAF6E47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61A2-B694-414D-900F-276E5B7BBA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Ecolog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2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Mutu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1080" y="1557360"/>
            <a:ext cx="544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ination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520" y="2367000"/>
            <a:ext cx="562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tional mutu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960" y="3178080"/>
            <a:ext cx="630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t inhabitant 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8120" y="6553080"/>
            <a:ext cx="24098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8-10, p. 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3936960"/>
            <a:ext cx="3848040" cy="292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43360" y="3933720"/>
            <a:ext cx="3317760" cy="29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Commensalis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280" y="2320920"/>
            <a:ext cx="8393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interaction that benefits one and has little or no effect on the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7040" y="4122720"/>
            <a:ext cx="8393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ample: Small plants growing in shade of larger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cological Succession:  Communities in Trans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240" y="1863720"/>
            <a:ext cx="4821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240" y="2873520"/>
            <a:ext cx="527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20" y="3882960"/>
            <a:ext cx="3917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ioneer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2880" y="4892760"/>
            <a:ext cx="496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ccessional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319" t="1050" r="2362" b="8703"/>
          <a:stretch/>
        </p:blipFill>
        <p:spPr>
          <a:xfrm>
            <a:off x="611280" y="1214280"/>
            <a:ext cx="7932600" cy="557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837720" y="15652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g. 8-11 p. 1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787" t="4199" r="1295" b="10803"/>
          <a:stretch/>
        </p:blipFill>
        <p:spPr>
          <a:xfrm>
            <a:off x="314280" y="1236600"/>
            <a:ext cx="8526600" cy="555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econdary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76400" y="64501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12 p. 1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Rate of Succes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1800" y="1685880"/>
            <a:ext cx="311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ili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3240" y="3200400"/>
            <a:ext cx="2804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hi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440" y="471492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Stability and Sustainability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8400" y="1330200"/>
            <a:ext cx="328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turb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9480" y="2190600"/>
            <a:ext cx="4790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7320" y="3052800"/>
            <a:ext cx="212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8040" y="3914640"/>
            <a:ext cx="291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ta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" y="477684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il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960" y="5638680"/>
            <a:ext cx="5808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autionary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960" y="1432080"/>
            <a:ext cx="535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ty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720" y="2513160"/>
            <a:ext cx="398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les of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720" y="3595680"/>
            <a:ext cx="4906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cies inte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160" y="4676760"/>
            <a:ext cx="5540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 in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3440" y="5759280"/>
            <a:ext cx="551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bility of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5280" y="1430280"/>
            <a:ext cx="8278560" cy="5454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munity Structure and Species 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25080" y="16178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24720" y="2509920"/>
            <a:ext cx="42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25440" y="3402000"/>
            <a:ext cx="411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ies rich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6520" y="4294080"/>
            <a:ext cx="39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ch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3440" y="49291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ge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812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2 p. 1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560" y="1643040"/>
            <a:ext cx="249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3920" y="3056040"/>
            <a:ext cx="195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80" y="446868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80" y="5883120"/>
            <a:ext cx="7279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ory of island biogeograp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67120" y="1957320"/>
            <a:ext cx="6176880" cy="3933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86080" y="5575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3 p. 1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eneral Types of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4240" y="1581120"/>
            <a:ext cx="2041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8960" y="2508120"/>
            <a:ext cx="654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native (exotic or ali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20" y="3525840"/>
            <a:ext cx="26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c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520" y="4560840"/>
            <a:ext cx="26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st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4680" y="5500800"/>
            <a:ext cx="314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Competi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720" y="1482840"/>
            <a:ext cx="603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specific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560" y="2371680"/>
            <a:ext cx="277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920" y="3260880"/>
            <a:ext cx="294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rasit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5000" y="4149720"/>
            <a:ext cx="299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6080" y="5038560"/>
            <a:ext cx="395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n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4280" y="5927760"/>
            <a:ext cx="5357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 part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 Partitioning and Niche Specializ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70320" y="1181160"/>
            <a:ext cx="5284440" cy="5649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9216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8-7 p.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3200" y="2681280"/>
            <a:ext cx="208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 to Fig. 8-8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. 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pecies Interactions:  Pre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7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200" y="16351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2868480"/>
            <a:ext cx="164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560" y="4102200"/>
            <a:ext cx="414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y acqui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840" y="5337000"/>
            <a:ext cx="487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 avo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18400" y="6222960"/>
            <a:ext cx="433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8-9 p. 1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ymbiotic Species Interactions:  Parasitism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17320" y="2174760"/>
            <a:ext cx="2056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52960" y="3395520"/>
            <a:ext cx="144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2560" y="4695840"/>
            <a:ext cx="7286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t ecological roles of para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0:35Z</dcterms:modified>
  <cp:revision>43</cp:revision>
  <dc:subject/>
  <dc:title>PowerPoint Presentation</dc:title>
</cp:coreProperties>
</file>