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798-F400-4175-8021-B1BBE3B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810-B9CF-40CF-AE98-FDB74FB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935-03A7-4BA9-BFB3-7E65C6FF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4F0-E2C8-44B2-B3D9-C6AEAC36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53B-1132-4BFD-9C5A-9DA70ED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0B2-E457-4B60-BDCB-F3EBA45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9FB-B314-4E20-9C07-DDFDF410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701-532D-4F31-8311-222494B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A4B-78DE-40A7-80B9-4297992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A52-4795-4740-BABD-F2647FB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04C-94EA-4512-8942-91A518F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2F8-6D47-49F7-AB0A-AF199CE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C7C8-1201-47CE-BE60-A4F65B7584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557360"/>
            <a:ext cx="544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ina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960" y="3178080"/>
            <a:ext cx="63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t inhabitant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6553080"/>
            <a:ext cx="2409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8-10, p. 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936960"/>
            <a:ext cx="3848040" cy="292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43360" y="3933720"/>
            <a:ext cx="331776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280" y="2320920"/>
            <a:ext cx="8393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interaction that benefits one and has little or no effect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040" y="4122720"/>
            <a:ext cx="839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319" t="1050" r="2362" b="8703"/>
          <a:stretch/>
        </p:blipFill>
        <p:spPr>
          <a:xfrm>
            <a:off x="611280" y="1214280"/>
            <a:ext cx="793260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837720" y="1565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8-11 p. 1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787" t="4199" r="1295" b="10803"/>
          <a:stretch/>
        </p:blipFill>
        <p:spPr>
          <a:xfrm>
            <a:off x="314280" y="1236600"/>
            <a:ext cx="8526600" cy="55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76400" y="6450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12 p. 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280" y="1430280"/>
            <a:ext cx="8278560" cy="5454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25080" y="16178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3440" y="4929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812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2 p. 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67120" y="1957320"/>
            <a:ext cx="6176880" cy="393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86080" y="5575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3 p. 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960" y="250812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20" y="35258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520" y="456084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680" y="550080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720" y="148284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560" y="2371680"/>
            <a:ext cx="277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920" y="3260880"/>
            <a:ext cx="294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5000" y="414972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6080" y="503856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 Partitioning and Niche Special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70320" y="1181160"/>
            <a:ext cx="5284440" cy="564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9216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7 p.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3200" y="268128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8-8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. 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840" y="533700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8400" y="6222960"/>
            <a:ext cx="43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9 p. 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7320" y="2174760"/>
            <a:ext cx="205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2960" y="3395520"/>
            <a:ext cx="144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2560" y="4695840"/>
            <a:ext cx="7286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t ecological roles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0:35Z</dcterms:modified>
  <cp:revision>43</cp:revision>
  <dc:subject/>
  <dc:title>PowerPoint Presentation</dc:title>
</cp:coreProperties>
</file>