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43F-C075-404C-8F4E-94D3247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D33-2DCE-4C24-AE76-C649C0D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CAD-AE1F-489B-9695-5750681F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97A-0293-430C-B5CC-B59D388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E68-D407-492A-A975-B515B2B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D61-8F75-4F13-B234-3D6E50C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769-396E-4F0A-925C-68687C47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47D-1E6F-455A-82A1-49825AF1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D79-E2FE-43BC-87D9-517C8160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577-E938-4FE1-8B09-C1C5E54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842-2E50-4351-BB93-C49376D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5F6-456F-4759-B0EF-6CE191C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E2E-7A3E-453E-ADD7-D2F6719281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nimations/ocean_zones.html" TargetMode="External"/><Relationship Id="rId2" Type="http://schemas.openxmlformats.org/officeDocument/2006/relationships/hyperlink" Target="file:///animations/ocean_zones.html" TargetMode="External"/><Relationship Id="rId3" Type="http://schemas.openxmlformats.org/officeDocument/2006/relationships/hyperlink" Target="file:///animations/ocean_zones.htm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nimations/lake_zonation.html" TargetMode="External"/><Relationship Id="rId2" Type="http://schemas.openxmlformats.org/officeDocument/2006/relationships/hyperlink" Target="file:///animations/lake_zonati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quatic Biodiversity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997600" y="717480"/>
            <a:ext cx="31464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66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resh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2200" y="1271520"/>
            <a:ext cx="394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974120" y="12733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ing wa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_x0008_071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136520" y="1957320"/>
            <a:ext cx="6567480" cy="490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239600" y="655020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6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_x0008_0715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405160" y="25560"/>
            <a:ext cx="3971880" cy="6805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28"/>
          <p:cNvSpPr/>
          <p:nvPr/>
        </p:nvSpPr>
        <p:spPr>
          <a:xfrm>
            <a:off x="3502080" y="3636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reshwater Syste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2455560" y="793800"/>
            <a:ext cx="96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logica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0"/>
          <p:cNvSpPr/>
          <p:nvPr/>
        </p:nvSpPr>
        <p:spPr>
          <a:xfrm>
            <a:off x="5385960" y="7938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1"/>
          <p:cNvSpPr/>
          <p:nvPr/>
        </p:nvSpPr>
        <p:spPr>
          <a:xfrm>
            <a:off x="2412720" y="1539720"/>
            <a:ext cx="1416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trient cycl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ste treat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t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lu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nd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har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bitats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quatic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bio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ient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2"/>
          <p:cNvSpPr/>
          <p:nvPr/>
        </p:nvSpPr>
        <p:spPr>
          <a:xfrm>
            <a:off x="5006880" y="1498680"/>
            <a:ext cx="1433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rinking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rrigation wa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dro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rido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4"/>
          <p:cNvSpPr/>
          <p:nvPr/>
        </p:nvSpPr>
        <p:spPr>
          <a:xfrm>
            <a:off x="3670200" y="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Natural Capit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87480" y="88920"/>
            <a:ext cx="5849640" cy="668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8"/>
          <p:cNvSpPr/>
          <p:nvPr/>
        </p:nvSpPr>
        <p:spPr>
          <a:xfrm>
            <a:off x="3580200" y="46720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el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649920" y="765000"/>
            <a:ext cx="100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650640" y="222732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 second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6651000" y="376704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ondary to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r-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651360" y="5229360"/>
            <a:ext cx="160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All producer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consumers t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Times New Roman"/>
              </a:rPr>
              <a:t>decomposer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 rot="5400000">
            <a:off x="6973920" y="25056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"/>
          <p:cNvSpPr/>
          <p:nvPr/>
        </p:nvSpPr>
        <p:spPr>
          <a:xfrm rot="5400000">
            <a:off x="6997680" y="16876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 rot="5400000">
            <a:off x="6986520" y="3194280"/>
            <a:ext cx="689040" cy="342720"/>
          </a:xfrm>
          <a:prstGeom prst="rightArrow">
            <a:avLst>
              <a:gd name="adj1" fmla="val 50000"/>
              <a:gd name="adj2" fmla="val 50263"/>
            </a:avLst>
          </a:prstGeom>
          <a:solidFill>
            <a:srgbClr val="ff5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6"/>
          <p:cNvSpPr/>
          <p:nvPr/>
        </p:nvSpPr>
        <p:spPr>
          <a:xfrm rot="5400000">
            <a:off x="7008840" y="4700520"/>
            <a:ext cx="688680" cy="342720"/>
          </a:xfrm>
          <a:prstGeom prst="rightArrow">
            <a:avLst>
              <a:gd name="adj1" fmla="val 50000"/>
              <a:gd name="adj2" fmla="val 50236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Oligo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473960" y="6553080"/>
            <a:ext cx="16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a, 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&#9;0717a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1231920" y="1271520"/>
            <a:ext cx="7334280" cy="52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ypes of Lakes: Eutrophic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46960" y="655308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17b, p. 13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&#9;0717b.jpg    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903240" y="1184400"/>
            <a:ext cx="7367760" cy="52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Zones in Lak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ttor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net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undal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ic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6" descr="_x0008_0718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773280" y="2311560"/>
            <a:ext cx="7705440" cy="4546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tream Syst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73280" y="1079640"/>
            <a:ext cx="215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noff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72560" y="165420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sh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888080" y="1081080"/>
            <a:ext cx="3918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rainage bas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887360" y="1654200"/>
            <a:ext cx="297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58260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8 p. 14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etland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of Wet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irie Pot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uman Impacts on Wetlands and Strea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ms, diversions and ca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od control levees and di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and Eutroph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62680" y="420048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provinc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&#13;Picture-1.jpg                                                  0001C85A_x0007_smeagol                        BB150139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90720" y="1692360"/>
            <a:ext cx="5362560" cy="21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20" y="1600200"/>
            <a:ext cx="8071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that influence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2200" y="2676600"/>
            <a:ext cx="441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t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42560" y="3944880"/>
            <a:ext cx="4767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life z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39680" y="5213520"/>
            <a:ext cx="741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activities that affect aquatic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/>
          </p:cNvPr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339360" y="42004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zonation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&#13;Picture-1.jpg                                                  0001C85A_x0007_smeagol                        BB150139:"/>
          <p:cNvPicPr/>
          <p:nvPr/>
        </p:nvPicPr>
        <p:blipFill>
          <a:blip r:embed="rId3"/>
          <a:stretch/>
        </p:blipFill>
        <p:spPr>
          <a:xfrm>
            <a:off x="2711520" y="1504800"/>
            <a:ext cx="3720960" cy="25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323160" y="420048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ke turnover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873520" y="1677960"/>
            <a:ext cx="3396960" cy="22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366876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ck to view anim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49480" y="420048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hic nature of lakes interac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&#13;Picture-1.jpg                                                  0001C85A_x0007_smeagol                        BB150139:"/>
          <p:cNvPicPr/>
          <p:nvPr/>
        </p:nvPicPr>
        <p:blipFill>
          <a:blip r:embed="rId1"/>
          <a:stretch/>
        </p:blipFill>
        <p:spPr>
          <a:xfrm>
            <a:off x="2227320" y="2001960"/>
            <a:ext cx="4689360" cy="19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_x0008_070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3857760" y="2571840"/>
            <a:ext cx="5286240" cy="383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quatic Environments:  Types, Components, and Limiting Factor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560" y="1353960"/>
            <a:ext cx="36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0560" y="2062080"/>
            <a:ext cx="4478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0200" y="277020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n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9840" y="3479760"/>
            <a:ext cx="20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kt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9840" y="4187880"/>
            <a:ext cx="22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th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8760" y="4896000"/>
            <a:ext cx="275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uphotic z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0200" y="6154560"/>
            <a:ext cx="397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solved oxyg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2 p. 12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7" descr="Slide3"/>
          <p:cNvPicPr/>
          <p:nvPr/>
        </p:nvPicPr>
        <p:blipFill>
          <a:blip r:embed="rId2"/>
          <a:srcRect l="40256" t="69386" r="35280" b="1727"/>
          <a:stretch/>
        </p:blipFill>
        <p:spPr>
          <a:xfrm>
            <a:off x="7466040" y="1433520"/>
            <a:ext cx="1677960" cy="148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altwater Life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62000" y="1494000"/>
            <a:ext cx="33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z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01960" y="23814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3080" y="3189240"/>
            <a:ext cx="431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astal wet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1640" y="4038480"/>
            <a:ext cx="305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gro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62720" y="4886280"/>
            <a:ext cx="403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tidal z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61640" y="5735520"/>
            <a:ext cx="3891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rrier isla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6307560" y="29700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tua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ean Zon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2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28"/>
          <p:cNvSpPr/>
          <p:nvPr/>
        </p:nvSpPr>
        <p:spPr>
          <a:xfrm>
            <a:off x="7336800" y="6553080"/>
            <a:ext cx="22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7-6 p. 13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_x0008_0706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923760" y="1224000"/>
            <a:ext cx="687708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622600" cy="54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_x0008_0712.jpg                                                       0006E6B9&#9;ROCKETEER                      ABA78158:"/>
          <p:cNvPicPr/>
          <p:nvPr/>
        </p:nvPicPr>
        <p:blipFill>
          <a:blip r:embed="rId1"/>
          <a:stretch/>
        </p:blipFill>
        <p:spPr>
          <a:xfrm>
            <a:off x="1747800" y="0"/>
            <a:ext cx="7396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7-12 p. 13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_x0008_0713.jpg                                                       001A5776_x0007_smeagol                        BB150139:"/>
          <p:cNvPicPr/>
          <p:nvPr/>
        </p:nvPicPr>
        <p:blipFill>
          <a:blip r:embed="rId1"/>
          <a:stretch/>
        </p:blipFill>
        <p:spPr>
          <a:xfrm>
            <a:off x="2011320" y="25560"/>
            <a:ext cx="5119560" cy="6805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155680" y="1219320"/>
            <a:ext cx="32990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war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il ero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gae growth from fertilizer runof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grove destruc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ef bleach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ing sea level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UV exposure from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zone deple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cyanide and dynami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harvest coral reef fis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al removal for building material, aquariums, and jewel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mage from anchors, ships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tourist div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64040" y="666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Natural Capital Degradation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08240" y="51444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Times New Roman"/>
              </a:rPr>
              <a:t>Coral Reefs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_x0008_0714.jpg                                                       001A8C0F_x0007_smeagol                        BB150139:"/>
          <p:cNvPicPr/>
          <p:nvPr/>
        </p:nvPicPr>
        <p:blipFill>
          <a:blip r:embed="rId1"/>
          <a:stretch/>
        </p:blipFill>
        <p:spPr>
          <a:xfrm>
            <a:off x="1940040" y="25560"/>
            <a:ext cx="5262480" cy="680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443400" y="533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Marine Eco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041560" y="1357200"/>
            <a:ext cx="31654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f of coastal wetlands lost to agriculture and urban develop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one-third of mangrove forests lost since 1980 to agriculture, development, and aquaculture shrimp far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out 10% of world’s beaches eroding because of coastal development and rising sea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cean bottom habitats degraded by dredging and trawler fishing boa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25% of coral reefs severely damaged and 11% have been destroy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986920" y="381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1627"/>
                </a:solidFill>
                <a:latin typeface="Times New Roman"/>
              </a:rPr>
              <a:t>Natural Capital Degrad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iLLuSioN</cp:lastModifiedBy>
  <dcterms:modified xsi:type="dcterms:W3CDTF">2009-10-08T03:11:56Z</dcterms:modified>
  <cp:revision>47</cp:revision>
  <dc:subject/>
  <dc:title>PowerPoint Presentation</dc:title>
</cp:coreProperties>
</file>