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1D3-313F-4B89-A671-8BA1E825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16C-0392-4B4F-A982-26966BEC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3E2-D49E-417B-8567-A6628155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F43-188D-4CEA-AB8F-D002573E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34F4-581B-4CE5-8B4A-3C2E3CEA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927-27C2-4AF8-AB02-A4ED1E1F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C759-B7F8-4AB3-8AD7-AE1538D8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A52-7E45-43BF-8EF4-89841C90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AC6-5022-438D-A680-B06816FF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C38-2038-41F2-A8AF-CDD193AA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7F0-321D-497F-ACAB-BE0FBB3E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1D9-2507-4AF2-B5A6-CFF36825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5D27-38E4-4015-B69F-5C9E82AA99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animations/ocean_zones.html" TargetMode="External"/><Relationship Id="rId2" Type="http://schemas.openxmlformats.org/officeDocument/2006/relationships/hyperlink" Target="file:///animations/ocean_zones.html" TargetMode="External"/><Relationship Id="rId3" Type="http://schemas.openxmlformats.org/officeDocument/2006/relationships/hyperlink" Target="file:///animations/ocean_zones.html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animations/lake_zonation.html" TargetMode="External"/><Relationship Id="rId2" Type="http://schemas.openxmlformats.org/officeDocument/2006/relationships/hyperlink" Target="file:///animations/lake_zonation.html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quatic Biodiversity 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997600" y="717480"/>
            <a:ext cx="31464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066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reshwater Life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22200" y="1271520"/>
            <a:ext cx="394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nding wa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974120" y="1273320"/>
            <a:ext cx="374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wing wa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5" descr="_x0008_0716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1136520" y="1957320"/>
            <a:ext cx="6567480" cy="4900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7239600" y="6550200"/>
            <a:ext cx="23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16 p. 13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26" descr="_x0008_0715.jpg                                                       001A5776_x0007_smeagol                        BB150139:"/>
          <p:cNvPicPr/>
          <p:nvPr/>
        </p:nvPicPr>
        <p:blipFill>
          <a:blip r:embed="rId1"/>
          <a:stretch/>
        </p:blipFill>
        <p:spPr>
          <a:xfrm>
            <a:off x="2405160" y="25560"/>
            <a:ext cx="3971880" cy="6805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28"/>
          <p:cNvSpPr/>
          <p:nvPr/>
        </p:nvSpPr>
        <p:spPr>
          <a:xfrm>
            <a:off x="3502080" y="3636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Freshwater Syste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29"/>
          <p:cNvSpPr/>
          <p:nvPr/>
        </p:nvSpPr>
        <p:spPr>
          <a:xfrm>
            <a:off x="2455560" y="793800"/>
            <a:ext cx="96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cological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30"/>
          <p:cNvSpPr/>
          <p:nvPr/>
        </p:nvSpPr>
        <p:spPr>
          <a:xfrm>
            <a:off x="5385960" y="793800"/>
            <a:ext cx="9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conomic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31"/>
          <p:cNvSpPr/>
          <p:nvPr/>
        </p:nvSpPr>
        <p:spPr>
          <a:xfrm>
            <a:off x="2412720" y="1539720"/>
            <a:ext cx="1416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r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utrient cycl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ste treat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nt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lu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ood contr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oundwat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har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bitats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quatic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rrestri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d bio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vers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ient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32"/>
          <p:cNvSpPr/>
          <p:nvPr/>
        </p:nvSpPr>
        <p:spPr>
          <a:xfrm>
            <a:off x="5006880" y="1498680"/>
            <a:ext cx="14335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inking wat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rrigation wat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ydroelectric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rridor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4"/>
          <p:cNvSpPr/>
          <p:nvPr/>
        </p:nvSpPr>
        <p:spPr>
          <a:xfrm>
            <a:off x="3670200" y="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Natural Capita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87480" y="88920"/>
            <a:ext cx="5849640" cy="668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7" name="Text Box 18"/>
          <p:cNvSpPr/>
          <p:nvPr/>
        </p:nvSpPr>
        <p:spPr>
          <a:xfrm>
            <a:off x="3580200" y="46720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el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649920" y="765000"/>
            <a:ext cx="100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o primar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6650640" y="2227320"/>
            <a:ext cx="114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o secondar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6651000" y="3767040"/>
            <a:ext cx="122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condary to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igher-lev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6651360" y="5229360"/>
            <a:ext cx="160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Times New Roman"/>
              </a:rPr>
              <a:t>All producers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Times New Roman"/>
              </a:rPr>
              <a:t>consumers to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Times New Roman"/>
              </a:rPr>
              <a:t>decomposer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23"/>
          <p:cNvSpPr/>
          <p:nvPr/>
        </p:nvSpPr>
        <p:spPr>
          <a:xfrm rot="5400000">
            <a:off x="6973920" y="250560"/>
            <a:ext cx="689040" cy="342720"/>
          </a:xfrm>
          <a:prstGeom prst="rightArrow">
            <a:avLst>
              <a:gd name="adj1" fmla="val 50000"/>
              <a:gd name="adj2" fmla="val 50263"/>
            </a:avLst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4"/>
          <p:cNvSpPr/>
          <p:nvPr/>
        </p:nvSpPr>
        <p:spPr>
          <a:xfrm rot="5400000">
            <a:off x="6997680" y="1687680"/>
            <a:ext cx="689040" cy="342720"/>
          </a:xfrm>
          <a:prstGeom prst="rightArrow">
            <a:avLst>
              <a:gd name="adj1" fmla="val 50000"/>
              <a:gd name="adj2" fmla="val 50263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5"/>
          <p:cNvSpPr/>
          <p:nvPr/>
        </p:nvSpPr>
        <p:spPr>
          <a:xfrm rot="5400000">
            <a:off x="6986520" y="3194280"/>
            <a:ext cx="689040" cy="342720"/>
          </a:xfrm>
          <a:prstGeom prst="rightArrow">
            <a:avLst>
              <a:gd name="adj1" fmla="val 50000"/>
              <a:gd name="adj2" fmla="val 50263"/>
            </a:avLst>
          </a:prstGeom>
          <a:solidFill>
            <a:srgbClr val="ff5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6"/>
          <p:cNvSpPr/>
          <p:nvPr/>
        </p:nvSpPr>
        <p:spPr>
          <a:xfrm rot="5400000">
            <a:off x="7008840" y="4700520"/>
            <a:ext cx="688680" cy="342720"/>
          </a:xfrm>
          <a:prstGeom prst="rightArrow">
            <a:avLst>
              <a:gd name="adj1" fmla="val 50000"/>
              <a:gd name="adj2" fmla="val 50236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ypes of Lakes: Oligotrophic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473960" y="6553080"/>
            <a:ext cx="167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17a,  p. 13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8" descr="&#9;0717a.jpg                                                      0001C85A_x0007_smeagol                        BB150139:"/>
          <p:cNvPicPr/>
          <p:nvPr/>
        </p:nvPicPr>
        <p:blipFill>
          <a:blip r:embed="rId1"/>
          <a:stretch/>
        </p:blipFill>
        <p:spPr>
          <a:xfrm>
            <a:off x="1231920" y="1271520"/>
            <a:ext cx="7334280" cy="521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ypes of Lakes: Eutrophic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446960" y="655308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17b, p. 13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&#9;0717b.jpg                                                      0001C85A_x0007_smeagol                        BB150139:"/>
          <p:cNvPicPr/>
          <p:nvPr/>
        </p:nvPicPr>
        <p:blipFill>
          <a:blip r:embed="rId1"/>
          <a:stretch/>
        </p:blipFill>
        <p:spPr>
          <a:xfrm>
            <a:off x="903240" y="1184400"/>
            <a:ext cx="7367760" cy="524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Life Zones in Lak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ttoral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mnetic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fundal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nthic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6" descr="_x0008_0718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773280" y="2311560"/>
            <a:ext cx="7705440" cy="4546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tream Sys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73280" y="1079640"/>
            <a:ext cx="2152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noff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72560" y="1654200"/>
            <a:ext cx="299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888080" y="1081080"/>
            <a:ext cx="3918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ainage bas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887360" y="1654200"/>
            <a:ext cx="297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odpl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582600" y="6553080"/>
            <a:ext cx="23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7-18 p. 14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etland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ortance of Wet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w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airie Pot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ood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un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uman Impacts on Wetlands and Strea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8446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ams, diversions and can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od control levees and dik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 and Eutroph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tland de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/>
          </p:cNvPr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262680" y="4200480"/>
            <a:ext cx="26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cean provinces interac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" descr="&#13;Picture-1.jpg                                                  0001C85A_x0007_smeagol                        BB150139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90720" y="1692360"/>
            <a:ext cx="5362560" cy="215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44720" y="1600200"/>
            <a:ext cx="8071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that influence aquatic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42200" y="2676600"/>
            <a:ext cx="441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ltwater life zon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42560" y="3944880"/>
            <a:ext cx="476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eshwater life zon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39680" y="5213520"/>
            <a:ext cx="7419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activities that affect aquatic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/>
          </p:cNvPr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339360" y="420048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ke zonation interac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&#13;Picture-1.jpg                                                  0001C85A_x0007_smeagol                        BB150139:"/>
          <p:cNvPicPr/>
          <p:nvPr/>
        </p:nvPicPr>
        <p:blipFill>
          <a:blip r:embed="rId3"/>
          <a:stretch/>
        </p:blipFill>
        <p:spPr>
          <a:xfrm>
            <a:off x="2711520" y="1504800"/>
            <a:ext cx="3720960" cy="250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323160" y="4200480"/>
            <a:ext cx="24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ke turnover interac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&#13;Picture-1.jpg                                                  0001C85A_x0007_smeagol                        BB150139:"/>
          <p:cNvPicPr/>
          <p:nvPr/>
        </p:nvPicPr>
        <p:blipFill>
          <a:blip r:embed="rId1"/>
          <a:stretch/>
        </p:blipFill>
        <p:spPr>
          <a:xfrm>
            <a:off x="2873520" y="1677960"/>
            <a:ext cx="3396960" cy="22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366876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949480" y="4200480"/>
            <a:ext cx="32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ophic nature of lakes interac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&#13;Picture-1.jpg                                                  0001C85A_x0007_smeagol                        BB150139:"/>
          <p:cNvPicPr/>
          <p:nvPr/>
        </p:nvPicPr>
        <p:blipFill>
          <a:blip r:embed="rId1"/>
          <a:stretch/>
        </p:blipFill>
        <p:spPr>
          <a:xfrm>
            <a:off x="2227320" y="2001960"/>
            <a:ext cx="4689360" cy="196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8" descr="_x0008_0702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3857760" y="2571840"/>
            <a:ext cx="5286240" cy="3833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quatic Environments:  Types, Components, and Limiting Factor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60560" y="1353960"/>
            <a:ext cx="369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rine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60560" y="2062080"/>
            <a:ext cx="4478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eshwater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0200" y="2770200"/>
            <a:ext cx="240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ankt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59840" y="3479760"/>
            <a:ext cx="205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kt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59840" y="4187880"/>
            <a:ext cx="220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nth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58760" y="4896000"/>
            <a:ext cx="2751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uphotic zo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60200" y="6154560"/>
            <a:ext cx="397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ssolved oxyg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2 p. 12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7" descr="Slide3"/>
          <p:cNvPicPr/>
          <p:nvPr/>
        </p:nvPicPr>
        <p:blipFill>
          <a:blip r:embed="rId2"/>
          <a:srcRect l="40256" t="69386" r="35280" b="1727"/>
          <a:stretch/>
        </p:blipFill>
        <p:spPr>
          <a:xfrm>
            <a:off x="7466040" y="1433520"/>
            <a:ext cx="1677960" cy="148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altwater Life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62000" y="1494000"/>
            <a:ext cx="338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astal zo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01960" y="238140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stuar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63080" y="3189240"/>
            <a:ext cx="431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astal wetla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161640" y="4038480"/>
            <a:ext cx="305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ngrov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62720" y="4886280"/>
            <a:ext cx="4031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tidal zo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161640" y="5735520"/>
            <a:ext cx="389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rrier isla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1" name="Text Box 8"/>
          <p:cNvSpPr/>
          <p:nvPr/>
        </p:nvSpPr>
        <p:spPr>
          <a:xfrm>
            <a:off x="6307560" y="29700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stuar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ean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02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28"/>
          <p:cNvSpPr/>
          <p:nvPr/>
        </p:nvSpPr>
        <p:spPr>
          <a:xfrm>
            <a:off x="7336800" y="6553080"/>
            <a:ext cx="22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6 p. 13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33" descr="_x0008_0706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923760" y="1224000"/>
            <a:ext cx="6877080" cy="5605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622600" cy="54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ral Ree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_x0008_0712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1747800" y="0"/>
            <a:ext cx="7396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7-12 p. 13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_x0008_0713.jpg                                                       001A5776_x0007_smeagol                        BB150139:"/>
          <p:cNvPicPr/>
          <p:nvPr/>
        </p:nvPicPr>
        <p:blipFill>
          <a:blip r:embed="rId1"/>
          <a:stretch/>
        </p:blipFill>
        <p:spPr>
          <a:xfrm>
            <a:off x="2011320" y="25560"/>
            <a:ext cx="5119560" cy="6805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2155680" y="1219320"/>
            <a:ext cx="3299040" cy="45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cean warm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il eros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gae growth from fertilizer runof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grove destruc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al reef bleach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ising sea level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UV exposure from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zone deple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ing cyanide and dynami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harvest coral reef fis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al removal for building material, aquariums, and jewel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mage from anchors, ships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tourist div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164040" y="6660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Times New Roman"/>
              </a:rPr>
              <a:t>Natural Capital Degradation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108240" y="51444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Times New Roman"/>
              </a:rPr>
              <a:t>Coral Reefs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3" descr="_x0008_0714.jpg                                                       001A8C0F_x0007_smeagol                        BB150139:"/>
          <p:cNvPicPr/>
          <p:nvPr/>
        </p:nvPicPr>
        <p:blipFill>
          <a:blip r:embed="rId1"/>
          <a:stretch/>
        </p:blipFill>
        <p:spPr>
          <a:xfrm>
            <a:off x="1940040" y="25560"/>
            <a:ext cx="5262480" cy="6805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3443400" y="53352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1627"/>
                </a:solidFill>
                <a:latin typeface="Times New Roman"/>
              </a:rPr>
              <a:t>Marine Ecosys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041560" y="1357200"/>
            <a:ext cx="316548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lf of coastal wetlands lost to agriculture and urban developmen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ver one-third of mangrove forests lost since 1980 to agriculture, development, and aquaculture shrimp farm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out 10% of world’s beaches eroding because of coastal development and rising sea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cean bottom habitats degraded by dredging and trawler fishing boa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ver 25% of coral reefs severely damaged and 11% have been destroy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2986920" y="3816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1627"/>
                </a:solidFill>
                <a:latin typeface="Times New Roman"/>
              </a:rPr>
              <a:t>Natural Capital Degrad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iLLuSioN</cp:lastModifiedBy>
  <dcterms:modified xsi:type="dcterms:W3CDTF">2009-10-08T03:11:56Z</dcterms:modified>
  <cp:revision>47</cp:revision>
  <dc:subject/>
  <dc:title>PowerPoint Presentation</dc:title>
</cp:coreProperties>
</file>