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A95-C5D9-4EEB-87C1-947B7C07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BBB-229A-4DBC-8472-CCAEB44A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350-3394-46DA-9492-05EF489E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1A5-C202-41E5-9B49-B2C5A508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28F-8D10-4991-B17A-B13E87FB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95A-3F4B-4315-BD43-C0E4D68C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05D-8FD9-453B-B667-A920B93D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FB8-E4D1-4F92-BC0B-26D932BB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1B6-ACAA-481F-B339-3F9957E8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817-5E07-43A4-8632-A400FE9C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E22-9480-4385-90D3-CC3C448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0A8-0DD3-436B-A6EE-A2040A4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D4F9-CF55-4B55-9930-B8EBBE42EC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imate and Terrestrial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iomes:  Climate and Life on Land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6720" y="1576440"/>
            <a:ext cx="888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lationship between latitude and altitu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27440" y="2481120"/>
            <a:ext cx="343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ert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26000" y="3386160"/>
            <a:ext cx="892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assland, Tundra and Chaparral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7800" y="4290840"/>
            <a:ext cx="3409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est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7080" y="5195880"/>
            <a:ext cx="409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untain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1608120"/>
            <a:ext cx="1395360" cy="2905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2795760" y="1569960"/>
            <a:ext cx="6348240" cy="2921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497960" y="1449360"/>
            <a:ext cx="102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ce and sn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520" y="72216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492920" y="221472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ndra (herb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hens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se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498680" y="282744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ifer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474560" y="399564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op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506240" y="341136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idu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2722320" y="445284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op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850920" y="445284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idu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141880" y="445284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ifer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6525360" y="4452840"/>
            <a:ext cx="120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ndra (herbs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hens, mosse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8214480" y="4452840"/>
            <a:ext cx="79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lar i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sn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187320" y="2879640"/>
            <a:ext cx="20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6720" y="0"/>
            <a:ext cx="7548840" cy="6146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353400" y="62103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mal Condit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785920" y="54356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ld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013840" y="42102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 rot="20397000">
            <a:off x="4091760" y="48736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rmocli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523120" y="324324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69000" y="3278160"/>
            <a:ext cx="168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rm wat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shed westwar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162440" y="33400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46080" y="261468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QU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877480" y="1598760"/>
            <a:ext cx="148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rface wind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w westwar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34960" y="179280"/>
            <a:ext cx="8093160" cy="5967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6" name="Text Box 4"/>
          <p:cNvSpPr/>
          <p:nvPr/>
        </p:nvSpPr>
        <p:spPr>
          <a:xfrm>
            <a:off x="6113880" y="26398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 Niñ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39120" y="55483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usually warm period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194480" y="51166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usually high rainf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224720" y="4697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oug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781200" y="4775040"/>
            <a:ext cx="355320" cy="20340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781200" y="5207040"/>
            <a:ext cx="355320" cy="203040"/>
          </a:xfrm>
          <a:prstGeom prst="rect">
            <a:avLst/>
          </a:prstGeom>
          <a:solidFill>
            <a:srgbClr val="33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81200" y="5626080"/>
            <a:ext cx="355320" cy="203400"/>
          </a:xfrm>
          <a:prstGeom prst="rect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43440" y="6121440"/>
            <a:ext cx="16002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Figure 6-13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Page 109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20600" y="0"/>
            <a:ext cx="7319880" cy="6135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132360" y="6224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 Niño Condit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797080" y="558468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ld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 rot="21177000">
            <a:off x="3494880" y="50752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rmocli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980360" y="436104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4790160" y="408780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rm water deepens of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th 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416920" y="341460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70360" y="3252960"/>
            <a:ext cx="129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rm wa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ow stopp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revers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327680" y="348156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6360" y="274644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QU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302040" y="1477800"/>
            <a:ext cx="146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ought i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stralia a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theast As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5069160" y="706320"/>
            <a:ext cx="163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nds weaken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using updraf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stor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mes:  Latitude and Altitud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Slide21"/>
          <p:cNvPicPr/>
          <p:nvPr/>
        </p:nvPicPr>
        <p:blipFill>
          <a:blip r:embed="rId1"/>
          <a:srcRect l="0" t="16052" r="0" b="26856"/>
          <a:stretch/>
        </p:blipFill>
        <p:spPr>
          <a:xfrm>
            <a:off x="223920" y="2049480"/>
            <a:ext cx="8699400" cy="37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1" name="Text Box 5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8 p. 1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769480" y="6348240"/>
            <a:ext cx="360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6-17 p. 1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ser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33560" y="178596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ical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769480" y="6173640"/>
            <a:ext cx="360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6-20 p. 11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35360" y="3139920"/>
            <a:ext cx="464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e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34640" y="4494240"/>
            <a:ext cx="332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ld deser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rassland, Tundra, and Chaparral Biom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99160" y="1666800"/>
            <a:ext cx="804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opical grasslands and Savann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99880" y="2422440"/>
            <a:ext cx="541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e grass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00600" y="3179880"/>
            <a:ext cx="767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ar grasslands (Arctic tundra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99520" y="3936960"/>
            <a:ext cx="308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mafros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0240" y="4694400"/>
            <a:ext cx="369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pine tundr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98440" y="5451480"/>
            <a:ext cx="291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ar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743400" y="6330960"/>
            <a:ext cx="76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s. 6-23, 6-24, and 6-25 pp. 116-11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rest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0" y="1631880"/>
            <a:ext cx="447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opical rain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160" y="2630520"/>
            <a:ext cx="606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mperate deciduous 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960" y="3684600"/>
            <a:ext cx="8931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ergreen coniferous forest (boreal forest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880" y="4842000"/>
            <a:ext cx="4920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mperate rain fores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54240" y="6313320"/>
            <a:ext cx="843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s. 6-29, 6-30, 6-31, and 6-32 pp. 121-12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ountain Biom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3520" y="2305080"/>
            <a:ext cx="385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mic latitu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15160" y="3765600"/>
            <a:ext cx="543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lands of biodivers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9840" y="1482840"/>
            <a:ext cx="608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influencing weath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60560" y="2828880"/>
            <a:ext cx="5934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influencing clim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59840" y="4175280"/>
            <a:ext cx="883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 of climate on distribution of bi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59840" y="5522760"/>
            <a:ext cx="7841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racteristics of major biome typ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1"/>
          <a:stretch/>
        </p:blipFill>
        <p:spPr>
          <a:xfrm>
            <a:off x="5014800" y="1500120"/>
            <a:ext cx="412920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2"/>
          <a:stretch/>
        </p:blipFill>
        <p:spPr>
          <a:xfrm>
            <a:off x="5021280" y="4224240"/>
            <a:ext cx="4122720" cy="2633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ather:  A Brief Int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46600" y="1847880"/>
            <a:ext cx="251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ath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47680" y="2967120"/>
            <a:ext cx="326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rm fro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47320" y="4087800"/>
            <a:ext cx="290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ld fro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46960" y="5208480"/>
            <a:ext cx="25761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ath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e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7773840" y="655308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2 p. 10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34720" y="1162080"/>
            <a:ext cx="350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33640" y="1962000"/>
            <a:ext cx="345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34720" y="2762280"/>
            <a:ext cx="400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even hea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34000" y="3562200"/>
            <a:ext cx="232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as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34360" y="436248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’s ro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33640" y="5162400"/>
            <a:ext cx="4185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perties of ai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4" descr="_x0008_0605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4600440" y="1203480"/>
            <a:ext cx="4543560" cy="5654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7789320" y="6578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5 p. 1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as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2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29" descr="Slide5"/>
          <p:cNvPicPr/>
          <p:nvPr/>
        </p:nvPicPr>
        <p:blipFill>
          <a:blip r:embed="rId1"/>
          <a:srcRect l="0" t="0" r="17780" b="0"/>
          <a:stretch/>
        </p:blipFill>
        <p:spPr>
          <a:xfrm>
            <a:off x="1581120" y="1197000"/>
            <a:ext cx="6051600" cy="565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 Box 1028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7 p. 1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ir Circul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8" descr="_x0008_0608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0" y="1355760"/>
            <a:ext cx="4411800" cy="4586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_x0008_0610.jpg                                                       0006E66D&#9;ROCKETEER                      ABA78158:"/>
          <p:cNvPicPr/>
          <p:nvPr/>
        </p:nvPicPr>
        <p:blipFill>
          <a:blip r:embed="rId2"/>
          <a:stretch/>
        </p:blipFill>
        <p:spPr>
          <a:xfrm>
            <a:off x="4411800" y="47520"/>
            <a:ext cx="4700520" cy="6782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1"/>
          <p:cNvSpPr/>
          <p:nvPr/>
        </p:nvSpPr>
        <p:spPr>
          <a:xfrm>
            <a:off x="7589880" y="65120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10, p. 10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3000240" y="562464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6-8, p. 10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1816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hort-Term Climate Changes:  ENSO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678080" y="6543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2 p. 1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87480" y="1768320"/>
            <a:ext cx="8956080" cy="3925800"/>
            <a:chOff x="87480" y="1768320"/>
            <a:chExt cx="8956080" cy="3925800"/>
          </a:xfrm>
        </p:grpSpPr>
        <p:pic>
          <p:nvPicPr>
            <p:cNvPr id="97" name="Picture 5" descr="Slide11"/>
            <p:cNvPicPr/>
            <p:nvPr/>
          </p:nvPicPr>
          <p:blipFill>
            <a:blip r:embed="rId1"/>
            <a:srcRect l="0" t="0" r="17780" b="4877"/>
            <a:stretch/>
          </p:blipFill>
          <p:spPr>
            <a:xfrm>
              <a:off x="87480" y="1768320"/>
              <a:ext cx="4524120" cy="39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Slide12"/>
            <p:cNvPicPr/>
            <p:nvPr/>
          </p:nvPicPr>
          <p:blipFill>
            <a:blip r:embed="rId2"/>
            <a:srcRect l="0" t="0" r="19350" b="4877"/>
            <a:stretch/>
          </p:blipFill>
          <p:spPr>
            <a:xfrm>
              <a:off x="4606560" y="1768320"/>
              <a:ext cx="4437000" cy="392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eenhouse Effe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4240" y="1287360"/>
            <a:ext cx="8205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4 p. 1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Slide15"/>
          <p:cNvPicPr/>
          <p:nvPr/>
        </p:nvPicPr>
        <p:blipFill>
          <a:blip r:embed="rId1"/>
          <a:srcRect l="787" t="13580" r="1043" b="23706"/>
          <a:stretch/>
        </p:blipFill>
        <p:spPr>
          <a:xfrm>
            <a:off x="270000" y="2111400"/>
            <a:ext cx="8605800" cy="412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AutoShape 2"/>
          <p:cNvSpPr/>
          <p:nvPr/>
        </p:nvSpPr>
        <p:spPr>
          <a:xfrm>
            <a:off x="299880" y="49752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ain Shadow Effe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6400" y="1461960"/>
            <a:ext cx="373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croclima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6-15 p. 1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_x0008_0615.jpg                                                       0006E66D&#9;ROCKETEER                      ABA78158:"/>
          <p:cNvPicPr/>
          <p:nvPr/>
        </p:nvPicPr>
        <p:blipFill>
          <a:blip r:embed="rId1"/>
          <a:stretch/>
        </p:blipFill>
        <p:spPr>
          <a:xfrm>
            <a:off x="57240" y="2225520"/>
            <a:ext cx="8966160" cy="367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10-02T01:46:40Z</dcterms:modified>
  <cp:revision>44</cp:revision>
  <dc:subject/>
  <dc:title>PowerPoint Presentation</dc:title>
</cp:coreProperties>
</file>