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0C2-82D8-47D0-B09C-F49F27A8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749-A2B7-4A8D-8983-CAD6DF1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40B-5219-4FC5-B842-F64602A7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444-EF4B-4F0C-B2B9-92F51241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980-88B8-4566-ADDB-864E1C61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398-FA6A-447C-83D9-7D23A108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44F-234F-44D3-943C-78032CD9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527-C342-4406-A122-55CDBAD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5D5-34DE-426E-A06C-88CBE07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996-F1FF-4F04-BE96-0027436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6EA-68EA-4975-9742-5F96BBE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2BC-EA3A-4491-AD9E-41E7F627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E9B8-4C68-4138-A935-B102E4E559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mate and Terrestrial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iomes:  Climate and Life on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6720" y="1576440"/>
            <a:ext cx="888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lationship between latitude and altitu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7440" y="2481120"/>
            <a:ext cx="343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er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6000" y="3386160"/>
            <a:ext cx="892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assland, Tundra and Chaparral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7800" y="4290840"/>
            <a:ext cx="340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es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7080" y="519588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untain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1608120"/>
            <a:ext cx="1395360" cy="290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795760" y="1569960"/>
            <a:ext cx="6348240" cy="2921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497960" y="144936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ce 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520" y="7221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92920" y="221472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498680" y="28274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4560" y="39956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506240" y="34113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22320" y="44528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850920" y="445284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141880" y="44528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525360" y="4452840"/>
            <a:ext cx="120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8214480" y="4452840"/>
            <a:ext cx="7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lar 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187320" y="287964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6720" y="0"/>
            <a:ext cx="7548840" cy="6146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353400" y="6210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mal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785920" y="54356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013840" y="4210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 rot="20397000">
            <a:off x="4091760" y="48736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523120" y="324324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69000" y="3278160"/>
            <a:ext cx="168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shed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62440" y="33400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6080" y="26146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877480" y="1598760"/>
            <a:ext cx="148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rface wind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w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34960" y="179280"/>
            <a:ext cx="8093160" cy="596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6113880" y="26398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Niñ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39120" y="55483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warm period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194480" y="51166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high rainf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24720" y="4697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oug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81200" y="4775040"/>
            <a:ext cx="355320" cy="2034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81200" y="5207040"/>
            <a:ext cx="355320" cy="203040"/>
          </a:xfrm>
          <a:prstGeom prst="rect">
            <a:avLst/>
          </a:prstGeom>
          <a:solidFill>
            <a:srgbClr val="33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81200" y="5626080"/>
            <a:ext cx="355320" cy="20340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3440" y="6121440"/>
            <a:ext cx="16002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Figure 6-13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Page 109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20600" y="0"/>
            <a:ext cx="7319880" cy="6135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132360" y="6224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 Niño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797080" y="558468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 rot="21177000">
            <a:off x="3494880" y="50752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0360" y="436104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4790160" y="40878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 deepens 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th 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416920" y="341460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70360" y="3252960"/>
            <a:ext cx="129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ow stopp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revers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327680" y="348156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6360" y="27464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02040" y="1477800"/>
            <a:ext cx="14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ught 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 a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east As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069160" y="706320"/>
            <a:ext cx="163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ds weaken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ing updraf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to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mes:  Latitude and Altitud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Slide21"/>
          <p:cNvPicPr/>
          <p:nvPr/>
        </p:nvPicPr>
        <p:blipFill>
          <a:blip r:embed="rId1"/>
          <a:srcRect l="0" t="16052" r="0" b="26856"/>
          <a:stretch/>
        </p:blipFill>
        <p:spPr>
          <a:xfrm>
            <a:off x="223920" y="2049480"/>
            <a:ext cx="869940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8 p. 1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769480" y="63482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17 p. 1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er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3560" y="17859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769480" y="61736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20 p. 1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35360" y="313992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34640" y="449424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assland, Tundra, and Chaparral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9160" y="1666800"/>
            <a:ext cx="804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grasslands and Savann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99880" y="24224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gras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00600" y="3179880"/>
            <a:ext cx="767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ar grasslands (Arctic tundr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99520" y="3936960"/>
            <a:ext cx="308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mafro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0240" y="4694400"/>
            <a:ext cx="369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ine tundr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98440" y="545148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ar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743400" y="6330960"/>
            <a:ext cx="76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3, 6-24, and 6-25 pp. 116-1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0" y="1631880"/>
            <a:ext cx="44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opical rain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160" y="2630520"/>
            <a:ext cx="606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deciduous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960" y="3684600"/>
            <a:ext cx="893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green coniferous forest (boreal forest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880" y="4842000"/>
            <a:ext cx="49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rain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54240" y="6313320"/>
            <a:ext cx="84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9, 6-30, 6-31, and 6-32 pp. 121-1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ountain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3520" y="2305080"/>
            <a:ext cx="385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15160" y="3765600"/>
            <a:ext cx="54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lands of biodivers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9840" y="1482840"/>
            <a:ext cx="60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weath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60560" y="2828880"/>
            <a:ext cx="5934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clim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9840" y="4175280"/>
            <a:ext cx="883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of climate on distribution of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59840" y="5522760"/>
            <a:ext cx="7841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cteristics of major biome typ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5014800" y="1500120"/>
            <a:ext cx="412920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5021280" y="4224240"/>
            <a:ext cx="4122720" cy="2633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ather:  A Brief Int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46600" y="1847880"/>
            <a:ext cx="251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47680" y="2967120"/>
            <a:ext cx="326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rm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47320" y="4087800"/>
            <a:ext cx="290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6960" y="5208480"/>
            <a:ext cx="2576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7773840" y="655308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2 p. 10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720" y="1162080"/>
            <a:ext cx="350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33640" y="1962000"/>
            <a:ext cx="345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34720" y="276228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 he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34000" y="3562200"/>
            <a:ext cx="23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as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34360" y="436248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’s ro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33640" y="5162400"/>
            <a:ext cx="418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ies of ai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4" descr="_x0008_060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4600440" y="1203480"/>
            <a:ext cx="4543560" cy="5654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7789320" y="6578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5 p. 1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29" descr="Slide5"/>
          <p:cNvPicPr/>
          <p:nvPr/>
        </p:nvPicPr>
        <p:blipFill>
          <a:blip r:embed="rId1"/>
          <a:srcRect l="0" t="0" r="17780" b="0"/>
          <a:stretch/>
        </p:blipFill>
        <p:spPr>
          <a:xfrm>
            <a:off x="1581120" y="1197000"/>
            <a:ext cx="6051600" cy="565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1028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7 p. 1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ir Circul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8" descr="_x0008_0608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0" y="1355760"/>
            <a:ext cx="4411800" cy="458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_x0008_0610.jpg                                                       0006E66D&#9;ROCKETEER                      ABA78158:"/>
          <p:cNvPicPr/>
          <p:nvPr/>
        </p:nvPicPr>
        <p:blipFill>
          <a:blip r:embed="rId2"/>
          <a:stretch/>
        </p:blipFill>
        <p:spPr>
          <a:xfrm>
            <a:off x="4411800" y="47520"/>
            <a:ext cx="4700520" cy="6782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1"/>
          <p:cNvSpPr/>
          <p:nvPr/>
        </p:nvSpPr>
        <p:spPr>
          <a:xfrm>
            <a:off x="7589880" y="65120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10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000240" y="562464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8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816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hort-Term Climate Changes:  ENSO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67808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2 p. 1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87480" y="1768320"/>
            <a:ext cx="8956080" cy="3925800"/>
            <a:chOff x="87480" y="1768320"/>
            <a:chExt cx="8956080" cy="3925800"/>
          </a:xfrm>
        </p:grpSpPr>
        <p:pic>
          <p:nvPicPr>
            <p:cNvPr id="97" name="Picture 5" descr="Slide11"/>
            <p:cNvPicPr/>
            <p:nvPr/>
          </p:nvPicPr>
          <p:blipFill>
            <a:blip r:embed="rId1"/>
            <a:srcRect l="0" t="0" r="17780" b="4877"/>
            <a:stretch/>
          </p:blipFill>
          <p:spPr>
            <a:xfrm>
              <a:off x="87480" y="1768320"/>
              <a:ext cx="4524120" cy="39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Slide12"/>
            <p:cNvPicPr/>
            <p:nvPr/>
          </p:nvPicPr>
          <p:blipFill>
            <a:blip r:embed="rId2"/>
            <a:srcRect l="0" t="0" r="19350" b="4877"/>
            <a:stretch/>
          </p:blipFill>
          <p:spPr>
            <a:xfrm>
              <a:off x="4606560" y="1768320"/>
              <a:ext cx="4437000" cy="392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house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4240" y="1287360"/>
            <a:ext cx="820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4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Slide15"/>
          <p:cNvPicPr/>
          <p:nvPr/>
        </p:nvPicPr>
        <p:blipFill>
          <a:blip r:embed="rId1"/>
          <a:srcRect l="787" t="13580" r="1043" b="23706"/>
          <a:stretch/>
        </p:blipFill>
        <p:spPr>
          <a:xfrm>
            <a:off x="270000" y="2111400"/>
            <a:ext cx="8605800" cy="41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AutoShape 2"/>
          <p:cNvSpPr/>
          <p:nvPr/>
        </p:nvSpPr>
        <p:spPr>
          <a:xfrm>
            <a:off x="299880" y="49752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ain Shadow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6400" y="1461960"/>
            <a:ext cx="373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clim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5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_x0008_061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57240" y="2225520"/>
            <a:ext cx="8966160" cy="36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2T01:46:40Z</dcterms:modified>
  <cp:revision>44</cp:revision>
  <dc:subject/>
  <dc:title>PowerPoint Presentation</dc:title>
</cp:coreProperties>
</file>