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EA6-A73D-4CA8-A6E9-3C3E85FB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F13-E511-479A-AF5E-B9D60136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E4D-7071-43B2-ABD4-7C1B196D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40C-1BC9-425D-B033-CA98C03A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85D-FF3D-4B85-88C1-8AE41B43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D53-43FA-4A84-93AF-E927123C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911-F2C5-4B09-97C7-25AAEAB2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CFC-156A-4E4E-B2B6-03E322EF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423-3C95-4A30-AFD6-1F73764E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C07-977C-43D1-880D-EA2EE1E1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5CD-587B-48E4-B9B9-15F15B9A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A65-B202-4911-A1C2-0FA23F97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AE0D-7BC6-4885-8FFC-D409991FC7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animations/moth_change.html" TargetMode="External"/><Relationship Id="rId2" Type="http://schemas.openxmlformats.org/officeDocument/2006/relationships/hyperlink" Target="file:///animations/moth_change.html" TargetMode="External"/><Relationship Id="rId3" Type="http://schemas.openxmlformats.org/officeDocument/2006/relationships/hyperlink" Target="file:///animations/moth_change.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nimations/stabilizing_selection.html" TargetMode="External"/><Relationship Id="rId2" Type="http://schemas.openxmlformats.org/officeDocument/2006/relationships/hyperlink" Target="file:///animations/stabilizing_selection.html" TargetMode="External"/><Relationship Id="rId3" Type="http://schemas.openxmlformats.org/officeDocument/2006/relationships/hyperlink" Target="file:///animations/stabilizing_selection.html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nimations/disruptive_selection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volution and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4" descr="_x0008_0507.jpg                                                       0006E64B&#9;ROCKETEER                      ABA78158:"/>
          <p:cNvPicPr/>
          <p:nvPr/>
        </p:nvPicPr>
        <p:blipFill>
          <a:blip r:embed="rId1"/>
          <a:stretch/>
        </p:blipFill>
        <p:spPr>
          <a:xfrm>
            <a:off x="0" y="3146400"/>
            <a:ext cx="9144000" cy="3711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peciation, Extinction, and Biodiversit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62320" y="1400040"/>
            <a:ext cx="288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796560" y="1400040"/>
            <a:ext cx="513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graphic isol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808640" y="2089080"/>
            <a:ext cx="5528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roductive isol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7435440" y="6553080"/>
            <a:ext cx="216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5-7 p. 9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>
            <a:hlinkClick r:id="rId1"/>
          </p:cNvPr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575440" y="4200480"/>
            <a:ext cx="39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ample of directional selection ani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3">
            <a:hlinkClick r:id="rId1"/>
          </p:cNvPr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135960" y="421632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bilizing selection ani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027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8"/>
          <p:cNvSpPr/>
          <p:nvPr/>
        </p:nvSpPr>
        <p:spPr>
          <a:xfrm>
            <a:off x="3143520" y="4216320"/>
            <a:ext cx="28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ruptive selection ani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029" descr=""/>
          <p:cNvPicPr/>
          <p:nvPr/>
        </p:nvPicPr>
        <p:blipFill>
          <a:blip r:embed="rId2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tin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01040" y="1643040"/>
            <a:ext cx="5582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ckground extin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99960" y="2514600"/>
            <a:ext cx="432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ss extin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80160" y="4529160"/>
            <a:ext cx="4737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daptive ra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374400" y="3521160"/>
            <a:ext cx="3889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ss deple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452520" y="5554800"/>
            <a:ext cx="414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 Impac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uman Impacts on Evo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7600" y="19652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tifici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tic Engine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about Genetic Engine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960640" y="4216320"/>
            <a:ext cx="32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olutionary tree of life anim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768040" y="4216320"/>
            <a:ext cx="362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olutionary tree diagrams interac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027"/>
          <p:cNvSpPr/>
          <p:nvPr/>
        </p:nvSpPr>
        <p:spPr>
          <a:xfrm>
            <a:off x="458640" y="1611360"/>
            <a:ext cx="3319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igins of lif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31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2"/>
          <p:cNvSpPr/>
          <p:nvPr/>
        </p:nvSpPr>
        <p:spPr>
          <a:xfrm>
            <a:off x="232920" y="2585880"/>
            <a:ext cx="8859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olution and Evolutionary process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33"/>
          <p:cNvSpPr/>
          <p:nvPr/>
        </p:nvSpPr>
        <p:spPr>
          <a:xfrm>
            <a:off x="458640" y="3656160"/>
            <a:ext cx="396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logical nich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34"/>
          <p:cNvSpPr/>
          <p:nvPr/>
        </p:nvSpPr>
        <p:spPr>
          <a:xfrm>
            <a:off x="457560" y="4678200"/>
            <a:ext cx="412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 for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5"/>
          <p:cNvSpPr/>
          <p:nvPr/>
        </p:nvSpPr>
        <p:spPr>
          <a:xfrm>
            <a:off x="457920" y="5700600"/>
            <a:ext cx="409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 extin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Origins and Early Evolution of Lif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2160" y="1457280"/>
            <a:ext cx="4821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69640" y="2232000"/>
            <a:ext cx="4910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logical 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435440" y="6553080"/>
            <a:ext cx="2161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5-2 p. 8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3"/>
          <p:cNvGrpSpPr/>
          <p:nvPr/>
        </p:nvGrpSpPr>
        <p:grpSpPr>
          <a:xfrm>
            <a:off x="0" y="3336840"/>
            <a:ext cx="9144000" cy="1981440"/>
            <a:chOff x="0" y="3336840"/>
            <a:chExt cx="9144000" cy="1981440"/>
          </a:xfrm>
        </p:grpSpPr>
        <p:pic>
          <p:nvPicPr>
            <p:cNvPr id="64" name="Picture 11" descr="Slide2"/>
            <p:cNvPicPr/>
            <p:nvPr/>
          </p:nvPicPr>
          <p:blipFill>
            <a:blip r:embed="rId1"/>
            <a:srcRect l="2083" t="0" r="0" b="52625"/>
            <a:stretch/>
          </p:blipFill>
          <p:spPr>
            <a:xfrm>
              <a:off x="0" y="3336840"/>
              <a:ext cx="5430960" cy="19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2" descr="Slide2"/>
            <p:cNvPicPr/>
            <p:nvPr/>
          </p:nvPicPr>
          <p:blipFill>
            <a:blip r:embed="rId2"/>
            <a:srcRect l="12732" t="49139" r="19862" b="3228"/>
            <a:stretch/>
          </p:blipFill>
          <p:spPr>
            <a:xfrm>
              <a:off x="5405400" y="3336840"/>
              <a:ext cx="3738600" cy="1981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volution and Adapt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48920" y="2587680"/>
            <a:ext cx="396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88440" y="1544760"/>
            <a:ext cx="407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90680" y="3511440"/>
            <a:ext cx="2817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 poo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29560" y="453384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91040" y="5554800"/>
            <a:ext cx="431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atural Sele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0280" y="1927080"/>
            <a:ext cx="611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fferential reprod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23440" y="3162240"/>
            <a:ext cx="369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daptive trai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501480" y="4411800"/>
            <a:ext cx="325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logical Niches and Adapta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884720" y="6553080"/>
            <a:ext cx="1262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5-4 p. 9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811440" y="1454040"/>
            <a:ext cx="3447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logical nich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909360" y="2168640"/>
            <a:ext cx="1964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bit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4480200" y="1454040"/>
            <a:ext cx="3985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ndamental nich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4490640" y="2208240"/>
            <a:ext cx="3152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lized nich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2" descr="_x0008_0504.jpg                                                       0006E64B&#9;ROCKETEER                      ABA78158:"/>
          <p:cNvPicPr/>
          <p:nvPr/>
        </p:nvPicPr>
        <p:blipFill>
          <a:blip r:embed="rId1"/>
          <a:stretch/>
        </p:blipFill>
        <p:spPr>
          <a:xfrm>
            <a:off x="1727280" y="2725560"/>
            <a:ext cx="5422680" cy="413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road and Narrow Nich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50120" y="1562040"/>
            <a:ext cx="4511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ralist spec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49760" y="2951280"/>
            <a:ext cx="4314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alist spec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40760" y="4840200"/>
            <a:ext cx="4071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potligh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. 9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igure 5-5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ge 92-93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2130480"/>
            <a:ext cx="9144000" cy="2035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151920" y="221760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lack skimm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izes small fis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 water surfac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5000" y="3348000"/>
            <a:ext cx="736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laming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eds o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inut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sm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mud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666440" y="248436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caup and oth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ving ducks feed 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llusks, crustaceans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d aquatic veget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202560" y="212868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rown pelican dives for fish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hich it locates from the ai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836520" y="2484360"/>
            <a:ext cx="168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vocet sweeps bill throug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ud and surface water i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arch of small crustaceans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sects, and seed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313080" y="3716280"/>
            <a:ext cx="167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uisiana heron wades int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ater to seize small fis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010480" y="3487680"/>
            <a:ext cx="157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ystercatcher feeds 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ams, mussels, and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ther shellfish into which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t pries its narrow beak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5676480" y="2217600"/>
            <a:ext cx="1526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owitcher probes deepl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o mud in search of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nails, marine worms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d small crustacea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6730920" y="3500280"/>
            <a:ext cx="176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not (a sandpiper) picks up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orms and small crustacea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by receding tid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7306560" y="1697040"/>
            <a:ext cx="112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erring gull is 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ireless scaveng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7769160" y="2268360"/>
            <a:ext cx="15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uddy turnstone search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nder shells and pebbles for small invertebr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7862040" y="426240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iping plover feed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n insects and tin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ustaceans o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dy beach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52" descr="_x0008_0506.jpg                                                       001A5858_x0007_smeagol                        BB150139:"/>
          <p:cNvPicPr/>
          <p:nvPr/>
        </p:nvPicPr>
        <p:blipFill>
          <a:blip r:embed="rId1"/>
          <a:stretch/>
        </p:blipFill>
        <p:spPr>
          <a:xfrm>
            <a:off x="1353960" y="390600"/>
            <a:ext cx="5837400" cy="6429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igure 5-6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ge 93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041"/>
          <p:cNvSpPr/>
          <p:nvPr/>
        </p:nvSpPr>
        <p:spPr>
          <a:xfrm>
            <a:off x="3067560" y="648648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known finch ances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42"/>
          <p:cNvSpPr/>
          <p:nvPr/>
        </p:nvSpPr>
        <p:spPr>
          <a:xfrm>
            <a:off x="4460400" y="2556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ct and nectar eat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43"/>
          <p:cNvSpPr/>
          <p:nvPr/>
        </p:nvSpPr>
        <p:spPr>
          <a:xfrm>
            <a:off x="1470600" y="2556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uit and seed eat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44"/>
          <p:cNvSpPr/>
          <p:nvPr/>
        </p:nvSpPr>
        <p:spPr>
          <a:xfrm>
            <a:off x="1638000" y="49860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eater Koa-fin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45"/>
          <p:cNvSpPr/>
          <p:nvPr/>
        </p:nvSpPr>
        <p:spPr>
          <a:xfrm>
            <a:off x="1642680" y="17575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ona Grosbea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46"/>
          <p:cNvSpPr/>
          <p:nvPr/>
        </p:nvSpPr>
        <p:spPr>
          <a:xfrm>
            <a:off x="1614960" y="30272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kiapolaa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47"/>
          <p:cNvSpPr/>
          <p:nvPr/>
        </p:nvSpPr>
        <p:spPr>
          <a:xfrm>
            <a:off x="1590480" y="4581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ui Parrotbi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48"/>
          <p:cNvSpPr/>
          <p:nvPr/>
        </p:nvSpPr>
        <p:spPr>
          <a:xfrm>
            <a:off x="5171400" y="97776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uai Akialo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49"/>
          <p:cNvSpPr/>
          <p:nvPr/>
        </p:nvSpPr>
        <p:spPr>
          <a:xfrm>
            <a:off x="5864400" y="1406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akih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50"/>
          <p:cNvSpPr/>
          <p:nvPr/>
        </p:nvSpPr>
        <p:spPr>
          <a:xfrm>
            <a:off x="4442400" y="27939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sted Honeycreep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51"/>
          <p:cNvSpPr/>
          <p:nvPr/>
        </p:nvSpPr>
        <p:spPr>
          <a:xfrm>
            <a:off x="5541120" y="452916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apan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iLLuSioN</cp:lastModifiedBy>
  <dcterms:modified xsi:type="dcterms:W3CDTF">2009-09-15T01:36:09Z</dcterms:modified>
  <cp:revision>32</cp:revision>
  <dc:subject/>
  <dc:title>PowerPoint Presentation</dc:title>
</cp:coreProperties>
</file>