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4CE-015E-4B7D-8EB1-7830BAC3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8BE-43DD-409E-8AF9-AA823B2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2E2-7CCE-4140-8BD4-CDE6602A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DD5-FF8B-4D88-873D-7963EE23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E3B-49A4-4C35-8812-7A8DDDAF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DDC-056D-4557-8AF9-A61EA1CB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620-0443-446D-8452-ADF549AC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85A-7FCE-4AFC-BC7D-20E098D1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6A8-C73C-4E5C-9E6D-E6214C0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5F5-477B-40B8-9E1C-389D7A4E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C47-3C82-4FD3-97AF-9E8B36A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0EF-76F7-41E1-A0CF-2803504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138-8F43-4834-9FAC-A81EAD0277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nimations/moth_change.html" TargetMode="External"/><Relationship Id="rId2" Type="http://schemas.openxmlformats.org/officeDocument/2006/relationships/hyperlink" Target="file:///animations/moth_change.html" TargetMode="External"/><Relationship Id="rId3" Type="http://schemas.openxmlformats.org/officeDocument/2006/relationships/hyperlink" Target="file:///animations/moth_change.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nimations/stabilizing_selection.html" TargetMode="External"/><Relationship Id="rId2" Type="http://schemas.openxmlformats.org/officeDocument/2006/relationships/hyperlink" Target="file:///animations/stabilizing_selection.html" TargetMode="External"/><Relationship Id="rId3" Type="http://schemas.openxmlformats.org/officeDocument/2006/relationships/hyperlink" Target="file:///animations/stabilizing_selection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nimations/disruptive_selection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_x0008_0507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0" y="3146400"/>
            <a:ext cx="9144000" cy="3711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peciation, Extinction, and Biodivers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62320" y="140004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796560" y="14000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808640" y="2089080"/>
            <a:ext cx="55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roductive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7 p. 9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575440" y="420048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ample of directional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135960" y="42163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bilizing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27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8"/>
          <p:cNvSpPr/>
          <p:nvPr/>
        </p:nvSpPr>
        <p:spPr>
          <a:xfrm>
            <a:off x="3143520" y="4216320"/>
            <a:ext cx="28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ruptive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029" descr=""/>
          <p:cNvPicPr/>
          <p:nvPr/>
        </p:nvPicPr>
        <p:blipFill>
          <a:blip r:embed="rId2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01040" y="1643040"/>
            <a:ext cx="558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ckground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99960" y="2514600"/>
            <a:ext cx="432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80160" y="4529160"/>
            <a:ext cx="473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74400" y="352116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deple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52520" y="5554800"/>
            <a:ext cx="414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Impa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Evo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7600" y="1965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about 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960640" y="4216320"/>
            <a:ext cx="32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of life anim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768040" y="421632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diagrams interac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58640" y="1611360"/>
            <a:ext cx="331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igins of lif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232920" y="2585880"/>
            <a:ext cx="885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olution and Evolutionary process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458640" y="3656160"/>
            <a:ext cx="396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 ni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4"/>
          <p:cNvSpPr/>
          <p:nvPr/>
        </p:nvSpPr>
        <p:spPr>
          <a:xfrm>
            <a:off x="457560" y="4678200"/>
            <a:ext cx="412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5"/>
          <p:cNvSpPr/>
          <p:nvPr/>
        </p:nvSpPr>
        <p:spPr>
          <a:xfrm>
            <a:off x="457920" y="5700600"/>
            <a:ext cx="409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exti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rigins and Early Evolution of Lif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2160" y="145728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9640" y="2232000"/>
            <a:ext cx="491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2 p. 8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0" y="3336840"/>
            <a:ext cx="9144000" cy="1981440"/>
            <a:chOff x="0" y="3336840"/>
            <a:chExt cx="9144000" cy="1981440"/>
          </a:xfrm>
        </p:grpSpPr>
        <p:pic>
          <p:nvPicPr>
            <p:cNvPr id="64" name="Picture 11" descr="Slide2"/>
            <p:cNvPicPr/>
            <p:nvPr/>
          </p:nvPicPr>
          <p:blipFill>
            <a:blip r:embed="rId1"/>
            <a:srcRect l="2083" t="0" r="0" b="52625"/>
            <a:stretch/>
          </p:blipFill>
          <p:spPr>
            <a:xfrm>
              <a:off x="0" y="3336840"/>
              <a:ext cx="5430960" cy="19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2" descr="Slide2"/>
            <p:cNvPicPr/>
            <p:nvPr/>
          </p:nvPicPr>
          <p:blipFill>
            <a:blip r:embed="rId2"/>
            <a:srcRect l="12732" t="49139" r="19862" b="3228"/>
            <a:stretch/>
          </p:blipFill>
          <p:spPr>
            <a:xfrm>
              <a:off x="5405400" y="3336840"/>
              <a:ext cx="3738600" cy="198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Adapt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48920" y="2587680"/>
            <a:ext cx="396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88440" y="1544760"/>
            <a:ext cx="407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90680" y="3511440"/>
            <a:ext cx="2817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29560" y="45338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91040" y="555480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0280" y="1927080"/>
            <a:ext cx="611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fferential rep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23440" y="3162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trai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01480" y="4411800"/>
            <a:ext cx="325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Niches and Adapta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4 p. 9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11440" y="1454040"/>
            <a:ext cx="344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logic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909360" y="2168640"/>
            <a:ext cx="1964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480200" y="1454040"/>
            <a:ext cx="398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dament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90640" y="2208240"/>
            <a:ext cx="315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lized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2" descr="_x0008_0504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1727280" y="2725560"/>
            <a:ext cx="5422680" cy="413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road and Narrow Nich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50120" y="1562040"/>
            <a:ext cx="451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r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9760" y="2951280"/>
            <a:ext cx="4314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40760" y="4840200"/>
            <a:ext cx="407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. 9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5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2-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2130480"/>
            <a:ext cx="914400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1920" y="22176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ck skimm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izes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 water surfac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000" y="3348000"/>
            <a:ext cx="736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laming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ed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mud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66440" y="248436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up and oth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ving ducks feed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llusks,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aquatic veget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02560" y="212868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rown pelican dives for fish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hich it locates from the ai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836520" y="2484360"/>
            <a:ext cx="168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vocet sweeps bill throug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ud and surface water 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 of small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sects, and s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313080" y="3716280"/>
            <a:ext cx="167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uisiana heron wades int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ater to seize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0480" y="3487680"/>
            <a:ext cx="157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ystercatcher feeds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ams, mussels, an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ther shellfish into which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t pries its narrow beak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676480" y="2217600"/>
            <a:ext cx="1526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witcher probes deepl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o mud in search of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nails, marine worm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730920" y="3500280"/>
            <a:ext cx="17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not (a sandpiper) picks up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ms 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by receding tid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306560" y="1697040"/>
            <a:ext cx="112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erring gull is 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ireless scaveng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769160" y="2268360"/>
            <a:ext cx="15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uddy turnstone sear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nder shells and pebbles for small invertebr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862040" y="42624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ing plover f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 insects and tin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ustacean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dy bea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52" descr="_x0008_0506.jpg                                                       001A5858_x0007_smeagol                        BB150139:"/>
          <p:cNvPicPr/>
          <p:nvPr/>
        </p:nvPicPr>
        <p:blipFill>
          <a:blip r:embed="rId1"/>
          <a:stretch/>
        </p:blipFill>
        <p:spPr>
          <a:xfrm>
            <a:off x="1353960" y="390600"/>
            <a:ext cx="5837400" cy="642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6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41"/>
          <p:cNvSpPr/>
          <p:nvPr/>
        </p:nvSpPr>
        <p:spPr>
          <a:xfrm>
            <a:off x="3067560" y="6486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known finch ances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42"/>
          <p:cNvSpPr/>
          <p:nvPr/>
        </p:nvSpPr>
        <p:spPr>
          <a:xfrm>
            <a:off x="4460400" y="255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ct and nectar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43"/>
          <p:cNvSpPr/>
          <p:nvPr/>
        </p:nvSpPr>
        <p:spPr>
          <a:xfrm>
            <a:off x="1470600" y="255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uit and seed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44"/>
          <p:cNvSpPr/>
          <p:nvPr/>
        </p:nvSpPr>
        <p:spPr>
          <a:xfrm>
            <a:off x="1638000" y="4986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ater Koa-fin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45"/>
          <p:cNvSpPr/>
          <p:nvPr/>
        </p:nvSpPr>
        <p:spPr>
          <a:xfrm>
            <a:off x="1642680" y="17575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a Grosbea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46"/>
          <p:cNvSpPr/>
          <p:nvPr/>
        </p:nvSpPr>
        <p:spPr>
          <a:xfrm>
            <a:off x="1614960" y="30272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iapolaa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47"/>
          <p:cNvSpPr/>
          <p:nvPr/>
        </p:nvSpPr>
        <p:spPr>
          <a:xfrm>
            <a:off x="1590480" y="458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ui Parrotbi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48"/>
          <p:cNvSpPr/>
          <p:nvPr/>
        </p:nvSpPr>
        <p:spPr>
          <a:xfrm>
            <a:off x="5171400" y="9777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uai Akialo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49"/>
          <p:cNvSpPr/>
          <p:nvPr/>
        </p:nvSpPr>
        <p:spPr>
          <a:xfrm>
            <a:off x="5864400" y="140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akih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50"/>
          <p:cNvSpPr/>
          <p:nvPr/>
        </p:nvSpPr>
        <p:spPr>
          <a:xfrm>
            <a:off x="4442400" y="27939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sted Honeycree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51"/>
          <p:cNvSpPr/>
          <p:nvPr/>
        </p:nvSpPr>
        <p:spPr>
          <a:xfrm>
            <a:off x="5541120" y="45291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apa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9-15T01:36:09Z</dcterms:modified>
  <cp:revision>32</cp:revision>
  <dc:subject/>
  <dc:title>PowerPoint Presentation</dc:title>
</cp:coreProperties>
</file>