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A96-11DF-43D0-AFCF-37BDFD0D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419-FE70-4E43-BDF0-CA9523BE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09F-A7CA-419D-89AC-9A206FF7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C3D9-225A-4C76-A9EA-E63039B2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C49-853E-4E76-9319-D99064F6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A942-22EC-43EE-8E08-2398953C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E62-D550-4909-B85F-DFFC104B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EB8-6587-40DE-9FEA-8F9CAB43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0FF-E95D-4DA5-BC9A-733CA67D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9DF-6A41-4466-8A2C-5BC2056A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70D-2942-44E5-9A76-A85A34D3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4D8-E8DB-4E4B-9299-7C66ED14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D9D3-86F2-4A7D-B073-07BB564A47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systems:  What Are They and How Do They Work?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520" y="1509840"/>
            <a:ext cx="431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tic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520" y="2844720"/>
            <a:ext cx="422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es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9360" y="4179960"/>
            <a:ext cx="4881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520" y="5516640"/>
            <a:ext cx="4991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unctional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Energy Flow in Eco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59000" y="3562200"/>
            <a:ext cx="3889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ophic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77720" y="5064120"/>
            <a:ext cx="2928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d we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32440" y="2178000"/>
            <a:ext cx="324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d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ophic Level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0680" y="1357200"/>
            <a:ext cx="728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consumer (herbivo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0320" y="2300400"/>
            <a:ext cx="771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condary consumer (carnivo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600" y="3243240"/>
            <a:ext cx="470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rtiary consu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240" y="4187880"/>
            <a:ext cx="2830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mniv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5130720"/>
            <a:ext cx="664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tritivores and scaveng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600" y="6075360"/>
            <a:ext cx="3507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ompos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Food Chains and Energy Flow in Eco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18 p. 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449360"/>
            <a:ext cx="8244000" cy="5086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73560" y="1192320"/>
            <a:ext cx="5761080" cy="5656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Pyrami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8440" y="1444680"/>
            <a:ext cx="29023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yramid of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9160" y="2743200"/>
            <a:ext cx="2634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logical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8440" y="4041720"/>
            <a:ext cx="2826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yramid of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m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8440" y="5342040"/>
            <a:ext cx="2826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yramid of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6080" y="65721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21 p.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imary Productivity of Eco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2280" y="1166760"/>
            <a:ext cx="8120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primary productivity (GP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3000" y="1984320"/>
            <a:ext cx="758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t primary productivity (NP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4 p. 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3800" y="2689200"/>
            <a:ext cx="7315200" cy="414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il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19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i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urity and Horiz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ations with Climate and Bi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ations in Texture and Poro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il Profiles in Different Biom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86640" y="6553080"/>
            <a:ext cx="15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7, p. 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95640" y="871560"/>
            <a:ext cx="5219640" cy="59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nections:  Matter Cycling in Eco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69240" y="1836720"/>
            <a:ext cx="4467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geochemical cy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54120" y="2581200"/>
            <a:ext cx="466560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drologic cycle (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1720" y="3449520"/>
            <a:ext cx="2928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rbon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2120" y="4933800"/>
            <a:ext cx="3650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osphorus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12800" y="4154400"/>
            <a:ext cx="3054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itrogen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14240" y="5780160"/>
            <a:ext cx="2621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lfur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ydrologic (Water)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266840"/>
            <a:ext cx="9144000" cy="5513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786080" y="64771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28 p. 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69880"/>
            <a:ext cx="6306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ic ecological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280" y="2533680"/>
            <a:ext cx="778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components of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4120" y="3597120"/>
            <a:ext cx="7146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tter cycles and energy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4480" y="4660920"/>
            <a:ext cx="4539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 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3760" y="5724360"/>
            <a:ext cx="647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nciples of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Carbon Cycle (Marine)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36400" y="6553080"/>
            <a:ext cx="14122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9, p. 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2106" t="11696" r="0" b="16268"/>
          <a:stretch/>
        </p:blipFill>
        <p:spPr>
          <a:xfrm>
            <a:off x="1117440" y="1459080"/>
            <a:ext cx="6909120" cy="4792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Carbon Cycle (Terrestrial)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1696" r="0" b="26420"/>
          <a:stretch/>
        </p:blipFill>
        <p:spPr>
          <a:xfrm>
            <a:off x="0" y="1459080"/>
            <a:ext cx="9144000" cy="4243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69" name=""/>
          <p:cNvSpPr/>
          <p:nvPr/>
        </p:nvSpPr>
        <p:spPr>
          <a:xfrm>
            <a:off x="7736400" y="6550200"/>
            <a:ext cx="14122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9, p. 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Nitrogen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89120" y="1211400"/>
            <a:ext cx="7761240" cy="5624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17660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31 p. 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Phosphorus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55480" y="1244520"/>
            <a:ext cx="8253720" cy="5613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4242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33 p.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7984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Sulfur Cycl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144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0760" y="1428840"/>
            <a:ext cx="8559720" cy="5384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519320" y="6524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34 p. 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ow Do Ecologists Learn About Ecosystems?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00" y="1682640"/>
            <a:ext cx="3719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eld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00" y="2717640"/>
            <a:ext cx="400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te sen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20" y="3632040"/>
            <a:ext cx="902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graphic information systems (GI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0" y="4584600"/>
            <a:ext cx="513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boratory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80" y="5583240"/>
            <a:ext cx="423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ystems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eographic Information System (GIS)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35 p. 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74920" y="687240"/>
            <a:ext cx="3965400" cy="6170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36 p. 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8748" t="0" r="71646" b="0"/>
          <a:stretch/>
        </p:blipFill>
        <p:spPr>
          <a:xfrm>
            <a:off x="3720960" y="1193760"/>
            <a:ext cx="1481400" cy="5664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Nature of Ecolo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00" y="1328760"/>
            <a:ext cx="5782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 organ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20" y="2270160"/>
            <a:ext cx="3001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60" y="3213000"/>
            <a:ext cx="3199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p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" y="4154400"/>
            <a:ext cx="353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20" y="5097600"/>
            <a:ext cx="311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604044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5417" t="1018" r="34283" b="1444"/>
          <a:stretch/>
        </p:blipFill>
        <p:spPr>
          <a:xfrm>
            <a:off x="6303960" y="0"/>
            <a:ext cx="284004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2" name=""/>
          <p:cNvSpPr/>
          <p:nvPr/>
        </p:nvSpPr>
        <p:spPr>
          <a:xfrm>
            <a:off x="5027400" y="6553080"/>
            <a:ext cx="1262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2 p. 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95880" y="1179360"/>
            <a:ext cx="4848120" cy="5678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Earth’s Life-Support System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1960" y="1500120"/>
            <a:ext cx="342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op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2680" y="2508120"/>
            <a:ext cx="3423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a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2320" y="3517920"/>
            <a:ext cx="3479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ydr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320" y="4525920"/>
            <a:ext cx="3254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th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1600" y="553572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84720" y="655308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7 p.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atural Capital: Sustaining Life of Eart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0160" y="1814400"/>
            <a:ext cx="35622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e-way flow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energy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9440" y="3330720"/>
            <a:ext cx="3263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ycling of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rucial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3080" y="4838760"/>
            <a:ext cx="1815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767040" y="1301760"/>
            <a:ext cx="5376960" cy="5397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982280" y="642780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4-8 p.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ar Capital: Flow of Energy to and from the Eart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89200" y="1233360"/>
            <a:ext cx="5506920" cy="5624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435440" y="6553080"/>
            <a:ext cx="2161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9 p. 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atural Capital: Major Biom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120" y="1827360"/>
            <a:ext cx="205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36800" y="6543720"/>
            <a:ext cx="2260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10 p. 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2946240"/>
            <a:ext cx="2233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le of clim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4616280"/>
            <a:ext cx="26985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quatic life 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528" t="0" r="3031" b="12194"/>
          <a:stretch/>
        </p:blipFill>
        <p:spPr>
          <a:xfrm>
            <a:off x="2598840" y="1655640"/>
            <a:ext cx="6545160" cy="4516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system Factor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9360" y="1220760"/>
            <a:ext cx="383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io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8280" y="1920960"/>
            <a:ext cx="3524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6400" y="1219320"/>
            <a:ext cx="469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nge of tole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6760" y="191916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miting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36800" y="6553080"/>
            <a:ext cx="2260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13 p. 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15249" r="0" b="14724"/>
          <a:stretch/>
        </p:blipFill>
        <p:spPr>
          <a:xfrm>
            <a:off x="1138320" y="2681280"/>
            <a:ext cx="6858000" cy="3602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mponents of Ecosys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5200" y="3041640"/>
            <a:ext cx="2530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ducer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utotrop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3680" y="2282760"/>
            <a:ext cx="2885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4159080"/>
            <a:ext cx="2823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umer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heterotrop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480" y="5229360"/>
            <a:ext cx="2309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erobic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8440" y="6338880"/>
            <a:ext cx="2641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compo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4-17 p. 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8440" y="1627200"/>
            <a:ext cx="3304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biotic chemi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614760" y="1695600"/>
            <a:ext cx="5529240" cy="482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6:57:10Z</dcterms:modified>
  <cp:revision>72</cp:revision>
  <dc:subject/>
  <dc:title>PowerPoint Presentation</dc:title>
</cp:coreProperties>
</file>