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656-3305-4EB2-A0F9-1BF4F3EF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3AD-807B-4DB9-BFB2-7F894005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D5F-4A81-4592-9AB4-4C78D35D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997-23C1-48D2-B0A9-4748568C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C68-4AA7-4462-8945-9882038E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7AB-4238-475D-A6BF-425683E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F02-6643-4372-8916-3E687D4B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E9B-1122-409E-891E-4734BC66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A62-FB4C-4DDC-9AF7-57B8A04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C06-0E3B-4D88-8484-B3A9D12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4E0-FAE4-491A-B6FD-0BCC80CE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4AB-CD54-45EB-BE8D-CAFCF150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2170-2DD1-4522-A961-E353C8ACE7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systems:  What Are They and How Do They Work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520" y="15098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520" y="284472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360" y="4179960"/>
            <a:ext cx="488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520" y="5516640"/>
            <a:ext cx="499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nction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56220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hic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7720" y="5064120"/>
            <a:ext cx="292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2440" y="2178000"/>
            <a:ext cx="324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hic Leve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0680" y="1357200"/>
            <a:ext cx="728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consumer (herb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320" y="2300400"/>
            <a:ext cx="771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consumer (carn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" y="3243240"/>
            <a:ext cx="470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tiary 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240" y="4187880"/>
            <a:ext cx="283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5130720"/>
            <a:ext cx="664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tritivores and scave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600" y="6075360"/>
            <a:ext cx="350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Food Chains and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8 p.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9360"/>
            <a:ext cx="8244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73560" y="1192320"/>
            <a:ext cx="5761080" cy="565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Pyrami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8440" y="1444680"/>
            <a:ext cx="2902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160" y="2743200"/>
            <a:ext cx="2634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440" y="404172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440" y="534204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721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1 p.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imary Productivity of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80" y="1166760"/>
            <a:ext cx="812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primary productivity (G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3000" y="1984320"/>
            <a:ext cx="758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t primary productivity (N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4 p. 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00" y="2689200"/>
            <a:ext cx="7315200" cy="414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ity and Horiz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with Climate and Bi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in Texture and Por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Profiles in Differen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86640" y="65530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7, p.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871560"/>
            <a:ext cx="5219640" cy="59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Cycling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240" y="1836720"/>
            <a:ext cx="446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54120" y="2581200"/>
            <a:ext cx="46656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ologic cycle (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1720" y="3449520"/>
            <a:ext cx="292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2120" y="4933800"/>
            <a:ext cx="365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sphoru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4154400"/>
            <a:ext cx="305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240" y="5780160"/>
            <a:ext cx="262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lfur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drologic (Water)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86080" y="64771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8 p.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69880"/>
            <a:ext cx="630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ecological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280" y="2533680"/>
            <a:ext cx="778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components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3597120"/>
            <a:ext cx="714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cycles and 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480" y="4660920"/>
            <a:ext cx="45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3760" y="5724360"/>
            <a:ext cx="647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s of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Marine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36400" y="655308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2106" t="11696" r="0" b="16268"/>
          <a:stretch/>
        </p:blipFill>
        <p:spPr>
          <a:xfrm>
            <a:off x="1117440" y="1459080"/>
            <a:ext cx="6909120" cy="479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Terrestrial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1696" r="0" b="26420"/>
          <a:stretch/>
        </p:blipFill>
        <p:spPr>
          <a:xfrm>
            <a:off x="0" y="1459080"/>
            <a:ext cx="914400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7736400" y="655020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itrogen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9120" y="1211400"/>
            <a:ext cx="7761240" cy="56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766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1 p.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Phosphorus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5480" y="1244520"/>
            <a:ext cx="8253720" cy="561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242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3 p.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7984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Sulfur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760" y="1428840"/>
            <a:ext cx="8559720" cy="538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19320" y="652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4 p.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Do Ecologists Learn About Ecosystems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16826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0" y="271764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sen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20" y="3632040"/>
            <a:ext cx="902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nformation systems (G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" y="4584600"/>
            <a:ext cx="513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boratory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0" y="5583240"/>
            <a:ext cx="423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stems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graphic Information System (GIS)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5 p. 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4920" y="687240"/>
            <a:ext cx="3965400" cy="617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6 p.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8748" t="0" r="71646" b="0"/>
          <a:stretch/>
        </p:blipFill>
        <p:spPr>
          <a:xfrm>
            <a:off x="3720960" y="1193760"/>
            <a:ext cx="1481400" cy="5664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Nature of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328760"/>
            <a:ext cx="578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2270160"/>
            <a:ext cx="300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213000"/>
            <a:ext cx="31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" y="41544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509760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404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17" t="1018" r="34283" b="1444"/>
          <a:stretch/>
        </p:blipFill>
        <p:spPr>
          <a:xfrm>
            <a:off x="6303960" y="0"/>
            <a:ext cx="28400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502740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 p.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95880" y="1179360"/>
            <a:ext cx="4848120" cy="567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arth’s Life-Support 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960" y="150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680" y="2508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320" y="351792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20" y="4525920"/>
            <a:ext cx="325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h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600" y="55357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Sustaining Life of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1814400"/>
            <a:ext cx="3562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-way flo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energy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440" y="3330720"/>
            <a:ext cx="3263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ing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uci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080" y="4838760"/>
            <a:ext cx="1815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67040" y="1301760"/>
            <a:ext cx="5376960" cy="539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82280" y="64278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8 p.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ar Capital: Flow of Energy to and from the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89200" y="1233360"/>
            <a:ext cx="5506920" cy="562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9 p.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Major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120" y="1827360"/>
            <a:ext cx="20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36800" y="654372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0 p.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2946240"/>
            <a:ext cx="223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cl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616280"/>
            <a:ext cx="269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quatic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528" t="0" r="3031" b="12194"/>
          <a:stretch/>
        </p:blipFill>
        <p:spPr>
          <a:xfrm>
            <a:off x="2598840" y="1655640"/>
            <a:ext cx="654516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system Facto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360" y="1220760"/>
            <a:ext cx="38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280" y="1920960"/>
            <a:ext cx="352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219320"/>
            <a:ext cx="469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6760" y="19191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3 p.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5249" r="0" b="14724"/>
          <a:stretch/>
        </p:blipFill>
        <p:spPr>
          <a:xfrm>
            <a:off x="1138320" y="2681280"/>
            <a:ext cx="685800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mponents of Eco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00" y="3041640"/>
            <a:ext cx="253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680" y="2282760"/>
            <a:ext cx="2885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4159080"/>
            <a:ext cx="2823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480" y="5229360"/>
            <a:ext cx="230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440" y="6338880"/>
            <a:ext cx="264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7 p.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440" y="1627200"/>
            <a:ext cx="330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otic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14760" y="1695600"/>
            <a:ext cx="5529240" cy="48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7:10Z</dcterms:modified>
  <cp:revision>72</cp:revision>
  <dc:subject/>
  <dc:title>PowerPoint Presentation</dc:title>
</cp:coreProperties>
</file>