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9374-AE33-49EA-9848-D78E4B282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1868-F550-4B1D-B313-41C03A34A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BEB5-14B4-4332-9FFF-CE6DB51AD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AEE4-0DE5-40D7-977C-F2DD81246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9CF8-F872-4F0C-9903-AACF617DC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366F-11CF-449E-8C4F-605CAF713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1558-80BA-4D25-968A-63ECC6D20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3E96-3AE6-4D8C-87BC-E2D93D9C2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ADFE-EA7A-422F-A5C9-0FFF3D89F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9190-6CEC-4748-ABDD-4CFC15574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CDB3-65F7-4939-9129-E6FF0D97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3654-E620-4B31-9EDC-F7473523D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818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A11CC-73C1-4B70-960A-EC8DE0298AF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12"/>
          <p:cNvSpPr/>
          <p:nvPr/>
        </p:nvSpPr>
        <p:spPr>
          <a:xfrm>
            <a:off x="1584360" y="2181240"/>
            <a:ext cx="696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3"/>
          <p:cNvSpPr/>
          <p:nvPr/>
        </p:nvSpPr>
        <p:spPr>
          <a:xfrm>
            <a:off x="1422360" y="2387520"/>
            <a:ext cx="637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spcBef>
                <a:spcPts val="25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animations/atomic_particles.html" TargetMode="External"/><Relationship Id="rId2" Type="http://schemas.openxmlformats.org/officeDocument/2006/relationships/hyperlink" Target="file:///animations/atomic_particles.html" TargetMode="External"/><Relationship Id="rId3" Type="http://schemas.openxmlformats.org/officeDocument/2006/relationships/hyperlink" Target="file:///animations/mass_number.html" TargetMode="External"/><Relationship Id="rId4" Type="http://schemas.openxmlformats.org/officeDocument/2006/relationships/hyperlink" Target="file:///animations/mass_number.html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file:///animations/isotopes.mov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Science, Systems, Matter, and Energy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Line 4"/>
          <p:cNvSpPr/>
          <p:nvPr/>
        </p:nvSpPr>
        <p:spPr>
          <a:xfrm>
            <a:off x="0" y="114444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1595880" y="2438280"/>
            <a:ext cx="595044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. Tyler Miller’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ving in the Environmen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4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Edi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hapter 3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pH of some common item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6" descr="_x0008_0306.jpg                                                       001A8C0F_x0007_smeagol                        BB150139:"/>
          <p:cNvPicPr/>
          <p:nvPr/>
        </p:nvPicPr>
        <p:blipFill>
          <a:blip r:embed="rId1"/>
          <a:stretch/>
        </p:blipFill>
        <p:spPr>
          <a:xfrm>
            <a:off x="954000" y="1144440"/>
            <a:ext cx="7602480" cy="5713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Chemical Bond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278280" y="1982880"/>
            <a:ext cx="4763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hemical formula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297720" y="3282840"/>
            <a:ext cx="3156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onic bond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298080" y="4624560"/>
            <a:ext cx="4002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valent bond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8"/>
          <p:cNvSpPr/>
          <p:nvPr/>
        </p:nvSpPr>
        <p:spPr>
          <a:xfrm>
            <a:off x="0" y="114444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2"/>
          <p:cNvSpPr/>
          <p:nvPr/>
        </p:nvSpPr>
        <p:spPr>
          <a:xfrm>
            <a:off x="5848200" y="32544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6" h="21600">
                <a:moveTo>
                  <a:pt x="10271" y="7301"/>
                </a:moveTo>
                <a:lnTo>
                  <a:pt x="11185" y="7301"/>
                </a:lnTo>
                <a:lnTo>
                  <a:pt x="11568" y="7667"/>
                </a:lnTo>
                <a:lnTo>
                  <a:pt x="20777" y="7667"/>
                </a:lnTo>
                <a:lnTo>
                  <a:pt x="21334" y="8224"/>
                </a:lnTo>
                <a:lnTo>
                  <a:pt x="21334" y="8772"/>
                </a:lnTo>
                <a:lnTo>
                  <a:pt x="23179" y="8772"/>
                </a:lnTo>
                <a:lnTo>
                  <a:pt x="23545" y="8224"/>
                </a:lnTo>
                <a:lnTo>
                  <a:pt x="24284" y="8224"/>
                </a:lnTo>
                <a:lnTo>
                  <a:pt x="24284" y="13376"/>
                </a:lnTo>
                <a:lnTo>
                  <a:pt x="23545" y="13376"/>
                </a:lnTo>
                <a:lnTo>
                  <a:pt x="23179" y="12828"/>
                </a:lnTo>
                <a:lnTo>
                  <a:pt x="21334" y="12828"/>
                </a:lnTo>
                <a:lnTo>
                  <a:pt x="21334" y="14107"/>
                </a:lnTo>
                <a:lnTo>
                  <a:pt x="11751" y="14107"/>
                </a:lnTo>
                <a:lnTo>
                  <a:pt x="11751" y="9877"/>
                </a:lnTo>
                <a:lnTo>
                  <a:pt x="11568" y="9877"/>
                </a:lnTo>
                <a:lnTo>
                  <a:pt x="11185" y="10243"/>
                </a:lnTo>
                <a:lnTo>
                  <a:pt x="10271" y="10243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lick to view animation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Organic Compound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4"/>
          <p:cNvSpPr/>
          <p:nvPr/>
        </p:nvSpPr>
        <p:spPr>
          <a:xfrm>
            <a:off x="0" y="114444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513000" y="1346040"/>
            <a:ext cx="7911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rganic vs. inorganic compound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511560" y="2119320"/>
            <a:ext cx="3763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ydrocarbon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512280" y="2892600"/>
            <a:ext cx="6401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hlorinated hydrocarbon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572040" y="5892840"/>
            <a:ext cx="3466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ucleic acid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512640" y="3689280"/>
            <a:ext cx="5384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imple carbohydrat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0"/>
          <p:cNvSpPr/>
          <p:nvPr/>
        </p:nvSpPr>
        <p:spPr>
          <a:xfrm>
            <a:off x="512640" y="4460760"/>
            <a:ext cx="5835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mplex carbohydrat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1"/>
          <p:cNvSpPr/>
          <p:nvPr/>
        </p:nvSpPr>
        <p:spPr>
          <a:xfrm>
            <a:off x="573480" y="5133960"/>
            <a:ext cx="2436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otein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Genetic Material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3"/>
          <p:cNvSpPr/>
          <p:nvPr/>
        </p:nvSpPr>
        <p:spPr>
          <a:xfrm>
            <a:off x="0" y="114444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459360" y="1284120"/>
            <a:ext cx="3466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ucleic acid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519840" y="2054160"/>
            <a:ext cx="1955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en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4829040" y="2112840"/>
            <a:ext cx="2632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enom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4837680" y="1303200"/>
            <a:ext cx="3732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hromosom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12" descr="Slide8"/>
          <p:cNvPicPr/>
          <p:nvPr/>
        </p:nvPicPr>
        <p:blipFill>
          <a:blip r:embed="rId1"/>
          <a:srcRect l="0" t="21942" r="0" b="31512"/>
          <a:stretch/>
        </p:blipFill>
        <p:spPr>
          <a:xfrm>
            <a:off x="0" y="2905200"/>
            <a:ext cx="9144000" cy="3190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174" name="Text Box 11"/>
          <p:cNvSpPr/>
          <p:nvPr/>
        </p:nvSpPr>
        <p:spPr>
          <a:xfrm>
            <a:off x="3090600" y="6400800"/>
            <a:ext cx="3434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ompare Fig. 3-7 p. 4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The Four States of Matter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Line 3"/>
          <p:cNvSpPr/>
          <p:nvPr/>
        </p:nvSpPr>
        <p:spPr>
          <a:xfrm>
            <a:off x="0" y="114444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458640" y="1738440"/>
            <a:ext cx="2303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617400">
              <a:lnSpc>
                <a:spcPct val="100000"/>
              </a:lnSpc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olid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459000" y="2978280"/>
            <a:ext cx="2669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617400">
              <a:lnSpc>
                <a:spcPct val="100000"/>
              </a:lnSpc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quid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459000" y="4218120"/>
            <a:ext cx="2049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617400">
              <a:lnSpc>
                <a:spcPct val="100000"/>
              </a:lnSpc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a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459000" y="5459400"/>
            <a:ext cx="2782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617400">
              <a:lnSpc>
                <a:spcPct val="100000"/>
              </a:lnSpc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lasma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Matter Quality and Material Efficiency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3"/>
          <p:cNvSpPr/>
          <p:nvPr/>
        </p:nvSpPr>
        <p:spPr>
          <a:xfrm>
            <a:off x="0" y="114444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7884720" y="6553080"/>
            <a:ext cx="1262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3-8 p. 43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2160" y="2021040"/>
            <a:ext cx="4552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igh-quality matte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800" y="3005280"/>
            <a:ext cx="44521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ow-quality matte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2520" y="4021200"/>
            <a:ext cx="51364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aterial efficiency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(resource productivity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Group 12"/>
          <p:cNvGrpSpPr/>
          <p:nvPr/>
        </p:nvGrpSpPr>
        <p:grpSpPr>
          <a:xfrm>
            <a:off x="5464080" y="1192320"/>
            <a:ext cx="3182760" cy="5419080"/>
            <a:chOff x="5464080" y="1192320"/>
            <a:chExt cx="3182760" cy="5419080"/>
          </a:xfrm>
        </p:grpSpPr>
        <p:pic>
          <p:nvPicPr>
            <p:cNvPr id="192" name="Picture 10" descr="Slide9"/>
            <p:cNvPicPr/>
            <p:nvPr/>
          </p:nvPicPr>
          <p:blipFill>
            <a:blip r:embed="rId1"/>
            <a:srcRect l="15232" t="0" r="67803" b="0"/>
            <a:stretch/>
          </p:blipFill>
          <p:spPr>
            <a:xfrm>
              <a:off x="5464080" y="1192320"/>
              <a:ext cx="1219320" cy="541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Picture 11" descr="Slide9"/>
            <p:cNvPicPr/>
            <p:nvPr/>
          </p:nvPicPr>
          <p:blipFill>
            <a:blip r:embed="rId2"/>
            <a:srcRect l="47594" t="0" r="24748" b="0"/>
            <a:stretch/>
          </p:blipFill>
          <p:spPr>
            <a:xfrm>
              <a:off x="6658560" y="1192320"/>
              <a:ext cx="1988280" cy="54190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nergy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19200"/>
            <a:ext cx="8229600" cy="4546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efinition: Capacity to do “work” and transfer he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yp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Kinetic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otent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adiation: Energy &amp; Waveleng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5326200" y="288288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6" h="21600">
                <a:moveTo>
                  <a:pt x="10271" y="7301"/>
                </a:moveTo>
                <a:lnTo>
                  <a:pt x="11185" y="7301"/>
                </a:lnTo>
                <a:lnTo>
                  <a:pt x="11568" y="7667"/>
                </a:lnTo>
                <a:lnTo>
                  <a:pt x="20777" y="7667"/>
                </a:lnTo>
                <a:lnTo>
                  <a:pt x="21334" y="8224"/>
                </a:lnTo>
                <a:lnTo>
                  <a:pt x="21334" y="8772"/>
                </a:lnTo>
                <a:lnTo>
                  <a:pt x="23179" y="8772"/>
                </a:lnTo>
                <a:lnTo>
                  <a:pt x="23545" y="8224"/>
                </a:lnTo>
                <a:lnTo>
                  <a:pt x="24284" y="8224"/>
                </a:lnTo>
                <a:lnTo>
                  <a:pt x="24284" y="13376"/>
                </a:lnTo>
                <a:lnTo>
                  <a:pt x="23545" y="13376"/>
                </a:lnTo>
                <a:lnTo>
                  <a:pt x="23179" y="12828"/>
                </a:lnTo>
                <a:lnTo>
                  <a:pt x="21334" y="12828"/>
                </a:lnTo>
                <a:lnTo>
                  <a:pt x="21334" y="14107"/>
                </a:lnTo>
                <a:lnTo>
                  <a:pt x="11751" y="14107"/>
                </a:lnTo>
                <a:lnTo>
                  <a:pt x="11751" y="9877"/>
                </a:lnTo>
                <a:lnTo>
                  <a:pt x="11568" y="9877"/>
                </a:lnTo>
                <a:lnTo>
                  <a:pt x="11185" y="10243"/>
                </a:lnTo>
                <a:lnTo>
                  <a:pt x="10271" y="10243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lick to view animation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lectromagnetic Spectrum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3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Picture 9" descr="_x0008_0309.jpg                                                       0006E5CD&#9;ROCKETEER                      ABA78158:"/>
          <p:cNvPicPr/>
          <p:nvPr/>
        </p:nvPicPr>
        <p:blipFill>
          <a:blip r:embed="rId1"/>
          <a:stretch/>
        </p:blipFill>
        <p:spPr>
          <a:xfrm>
            <a:off x="0" y="2151000"/>
            <a:ext cx="9144000" cy="388476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10"/>
          <p:cNvSpPr/>
          <p:nvPr/>
        </p:nvSpPr>
        <p:spPr>
          <a:xfrm>
            <a:off x="7873920" y="6553080"/>
            <a:ext cx="127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3-9 p. 44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Transfer of Heat Energy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Line 3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7786080" y="6553080"/>
            <a:ext cx="1361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3-11 p. 45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111240" y="2239920"/>
            <a:ext cx="8921520" cy="367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Group 6"/>
          <p:cNvGrpSpPr/>
          <p:nvPr/>
        </p:nvGrpSpPr>
        <p:grpSpPr>
          <a:xfrm>
            <a:off x="198000" y="2338560"/>
            <a:ext cx="8783640" cy="3603960"/>
            <a:chOff x="198000" y="2338560"/>
            <a:chExt cx="8783640" cy="3603960"/>
          </a:xfrm>
        </p:grpSpPr>
        <p:pic>
          <p:nvPicPr>
            <p:cNvPr id="212" name="Picture 7" descr=""/>
            <p:cNvPicPr/>
            <p:nvPr/>
          </p:nvPicPr>
          <p:blipFill>
            <a:blip r:embed="rId1"/>
            <a:stretch/>
          </p:blipFill>
          <p:spPr>
            <a:xfrm>
              <a:off x="216720" y="2636640"/>
              <a:ext cx="2805480" cy="309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Picture 8" descr=""/>
            <p:cNvPicPr/>
            <p:nvPr/>
          </p:nvPicPr>
          <p:blipFill>
            <a:blip r:embed="rId2"/>
            <a:stretch/>
          </p:blipFill>
          <p:spPr>
            <a:xfrm>
              <a:off x="3233880" y="2636640"/>
              <a:ext cx="2805480" cy="309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Picture 9" descr=""/>
            <p:cNvPicPr/>
            <p:nvPr/>
          </p:nvPicPr>
          <p:blipFill>
            <a:blip r:embed="rId3"/>
            <a:stretch/>
          </p:blipFill>
          <p:spPr>
            <a:xfrm>
              <a:off x="6175800" y="2636640"/>
              <a:ext cx="2805840" cy="30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Text Box 10"/>
            <p:cNvSpPr/>
            <p:nvPr/>
          </p:nvSpPr>
          <p:spPr>
            <a:xfrm>
              <a:off x="198000" y="2338560"/>
              <a:ext cx="114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nvection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Text Box 11"/>
            <p:cNvSpPr/>
            <p:nvPr/>
          </p:nvSpPr>
          <p:spPr>
            <a:xfrm>
              <a:off x="3133800" y="2338560"/>
              <a:ext cx="1166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nduction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Text Box 12"/>
            <p:cNvSpPr/>
            <p:nvPr/>
          </p:nvSpPr>
          <p:spPr>
            <a:xfrm>
              <a:off x="6077880" y="2338560"/>
              <a:ext cx="99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adiation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Text Box 13"/>
            <p:cNvSpPr/>
            <p:nvPr/>
          </p:nvSpPr>
          <p:spPr>
            <a:xfrm>
              <a:off x="3319200" y="4023360"/>
              <a:ext cx="2757960" cy="19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eat from a stove burner causes 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toms or molecules in the pan’s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ottom to vibrate faster. The vibrating 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toms or molecules then collide with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earby atoms or molecules, causing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em to vibrate faster. Eventually, 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olecules or atoms in the pan’s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andle are vibrating so fast it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ecomes too hot to touch. 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Text Box 14"/>
            <p:cNvSpPr/>
            <p:nvPr/>
          </p:nvSpPr>
          <p:spPr>
            <a:xfrm>
              <a:off x="6252120" y="4082400"/>
              <a:ext cx="26845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s the water boils, heat from the hot 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ove burner and pan radiate into the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rrounding air, even though air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ducts very little heat. 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Text Box 15"/>
            <p:cNvSpPr/>
            <p:nvPr/>
          </p:nvSpPr>
          <p:spPr>
            <a:xfrm>
              <a:off x="360720" y="4069800"/>
              <a:ext cx="2732040" cy="17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eating water in the bottom of a pan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uses some of the water to vaporize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to bubbles. Because they are 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ighter than the surrounding water, 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ey rise. Water then sinks from the 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to replace the rising bubbles.This 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p and down movement (convection) 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ventually heats all of the water.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nergy:  Quality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95400" y="1511280"/>
            <a:ext cx="345096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igh-quality energy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95400" y="3332160"/>
            <a:ext cx="349236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ow-quality energy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6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8" descr="_x0008_0312.jpg                                                       0006E5CD&#9;ROCKETEER                      ABA78158:"/>
          <p:cNvPicPr/>
          <p:nvPr/>
        </p:nvPicPr>
        <p:blipFill>
          <a:blip r:embed="rId1"/>
          <a:stretch/>
        </p:blipFill>
        <p:spPr>
          <a:xfrm>
            <a:off x="3541680" y="1182600"/>
            <a:ext cx="5599080" cy="567540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11"/>
          <p:cNvSpPr/>
          <p:nvPr/>
        </p:nvSpPr>
        <p:spPr>
          <a:xfrm>
            <a:off x="7835760" y="655308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3-12 p.46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Key Concep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1027"/>
          <p:cNvSpPr/>
          <p:nvPr/>
        </p:nvSpPr>
        <p:spPr>
          <a:xfrm>
            <a:off x="4320" y="1501920"/>
            <a:ext cx="8996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cience as a process for understanding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031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032"/>
          <p:cNvSpPr/>
          <p:nvPr/>
        </p:nvSpPr>
        <p:spPr>
          <a:xfrm>
            <a:off x="6480" y="2287440"/>
            <a:ext cx="9010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mponents and regulation of system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033"/>
          <p:cNvSpPr/>
          <p:nvPr/>
        </p:nvSpPr>
        <p:spPr>
          <a:xfrm>
            <a:off x="7200" y="3073320"/>
            <a:ext cx="828648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atter:  forms, quality, and how it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hanges; laws of matter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035"/>
          <p:cNvSpPr/>
          <p:nvPr/>
        </p:nvSpPr>
        <p:spPr>
          <a:xfrm>
            <a:off x="2160" y="5864400"/>
            <a:ext cx="8039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uclear changes and radioactivity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036"/>
          <p:cNvSpPr/>
          <p:nvPr/>
        </p:nvSpPr>
        <p:spPr>
          <a:xfrm>
            <a:off x="6120" y="4468680"/>
            <a:ext cx="834444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nergy:  forms, quality, and how it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hanges; laws of energy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hanges in Matter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2269800"/>
            <a:ext cx="8229600" cy="247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hysic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hemic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Chemical Changes or Reaction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Line 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3328200" y="5958000"/>
            <a:ext cx="24879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Fig. In text p. 4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10" descr="&#9;03p47.jpg                                                      0006E5CD&#9;ROCKETEER                      ABA78158:"/>
          <p:cNvPicPr/>
          <p:nvPr/>
        </p:nvPicPr>
        <p:blipFill>
          <a:blip r:embed="rId1"/>
          <a:stretch/>
        </p:blipFill>
        <p:spPr>
          <a:xfrm>
            <a:off x="412920" y="1362240"/>
            <a:ext cx="8426160" cy="4590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The Law of Conservation of Matter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Line 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178920" y="1531800"/>
            <a:ext cx="5820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atter is not destroyed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7"/>
          <p:cNvSpPr/>
          <p:nvPr/>
        </p:nvSpPr>
        <p:spPr>
          <a:xfrm>
            <a:off x="178200" y="2684520"/>
            <a:ext cx="6258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atter only changes for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8"/>
          <p:cNvSpPr/>
          <p:nvPr/>
        </p:nvSpPr>
        <p:spPr>
          <a:xfrm>
            <a:off x="177120" y="3838680"/>
            <a:ext cx="6244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re is no “throw away”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AutoShape 3"/>
          <p:cNvSpPr/>
          <p:nvPr/>
        </p:nvSpPr>
        <p:spPr>
          <a:xfrm>
            <a:off x="6791400" y="470844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6" h="21600">
                <a:moveTo>
                  <a:pt x="10271" y="7301"/>
                </a:moveTo>
                <a:lnTo>
                  <a:pt x="11185" y="7301"/>
                </a:lnTo>
                <a:lnTo>
                  <a:pt x="11568" y="7667"/>
                </a:lnTo>
                <a:lnTo>
                  <a:pt x="20777" y="7667"/>
                </a:lnTo>
                <a:lnTo>
                  <a:pt x="21334" y="8224"/>
                </a:lnTo>
                <a:lnTo>
                  <a:pt x="21334" y="8772"/>
                </a:lnTo>
                <a:lnTo>
                  <a:pt x="23179" y="8772"/>
                </a:lnTo>
                <a:lnTo>
                  <a:pt x="23545" y="8224"/>
                </a:lnTo>
                <a:lnTo>
                  <a:pt x="24284" y="8224"/>
                </a:lnTo>
                <a:lnTo>
                  <a:pt x="24284" y="13376"/>
                </a:lnTo>
                <a:lnTo>
                  <a:pt x="23545" y="13376"/>
                </a:lnTo>
                <a:lnTo>
                  <a:pt x="23179" y="12828"/>
                </a:lnTo>
                <a:lnTo>
                  <a:pt x="21334" y="12828"/>
                </a:lnTo>
                <a:lnTo>
                  <a:pt x="21334" y="14107"/>
                </a:lnTo>
                <a:lnTo>
                  <a:pt x="11751" y="14107"/>
                </a:lnTo>
                <a:lnTo>
                  <a:pt x="11751" y="9877"/>
                </a:lnTo>
                <a:lnTo>
                  <a:pt x="11568" y="9877"/>
                </a:lnTo>
                <a:lnTo>
                  <a:pt x="11185" y="10243"/>
                </a:lnTo>
                <a:lnTo>
                  <a:pt x="10271" y="10243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Energy flow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Matter and Pollu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Line 3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263520" y="1434960"/>
            <a:ext cx="6459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hemical nature of pollutant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263520" y="2189160"/>
            <a:ext cx="34495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ncentrat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264600" y="2943360"/>
            <a:ext cx="28123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ersistenc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8"/>
          <p:cNvSpPr/>
          <p:nvPr/>
        </p:nvSpPr>
        <p:spPr>
          <a:xfrm>
            <a:off x="262800" y="3699000"/>
            <a:ext cx="80229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egradable (nonpersistent) pollutant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9"/>
          <p:cNvSpPr/>
          <p:nvPr/>
        </p:nvSpPr>
        <p:spPr>
          <a:xfrm>
            <a:off x="263520" y="4452840"/>
            <a:ext cx="5545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iodegradable pollutant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10"/>
          <p:cNvSpPr/>
          <p:nvPr/>
        </p:nvSpPr>
        <p:spPr>
          <a:xfrm>
            <a:off x="263520" y="5207040"/>
            <a:ext cx="86187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lowly degradable (persistent) pollutant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1"/>
          <p:cNvSpPr/>
          <p:nvPr/>
        </p:nvSpPr>
        <p:spPr>
          <a:xfrm>
            <a:off x="262800" y="5962680"/>
            <a:ext cx="5698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ndegradable pollutant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Nuclear Change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Line 3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261360" y="1386000"/>
            <a:ext cx="6247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atural radioactive decay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262440" y="2128680"/>
            <a:ext cx="8396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adioactive isotopes (radioisotopes)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263160" y="2873520"/>
            <a:ext cx="3437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amma ray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11"/>
          <p:cNvSpPr/>
          <p:nvPr/>
        </p:nvSpPr>
        <p:spPr>
          <a:xfrm>
            <a:off x="262800" y="3618000"/>
            <a:ext cx="3946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lpha particl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2"/>
          <p:cNvSpPr/>
          <p:nvPr/>
        </p:nvSpPr>
        <p:spPr>
          <a:xfrm>
            <a:off x="262080" y="4362480"/>
            <a:ext cx="3607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eta particl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13"/>
          <p:cNvSpPr/>
          <p:nvPr/>
        </p:nvSpPr>
        <p:spPr>
          <a:xfrm>
            <a:off x="260640" y="5106960"/>
            <a:ext cx="5453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alf lif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ee Table 3-2 p. 49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14"/>
          <p:cNvSpPr/>
          <p:nvPr/>
        </p:nvSpPr>
        <p:spPr>
          <a:xfrm>
            <a:off x="261720" y="5851440"/>
            <a:ext cx="4542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onizing radi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Half-life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6" descr="_x0008_0313.jpg                                                       0006E5CD&#9;ROCKETEER                      ABA78158:"/>
          <p:cNvPicPr/>
          <p:nvPr/>
        </p:nvPicPr>
        <p:blipFill>
          <a:blip r:embed="rId1"/>
          <a:stretch/>
        </p:blipFill>
        <p:spPr>
          <a:xfrm>
            <a:off x="2544840" y="85680"/>
            <a:ext cx="6599160" cy="667872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7"/>
          <p:cNvSpPr/>
          <p:nvPr/>
        </p:nvSpPr>
        <p:spPr>
          <a:xfrm>
            <a:off x="7736400" y="6429240"/>
            <a:ext cx="141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3-13, p. 49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Idea of Half Life (not the vdo game)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50240" y="1893240"/>
            <a:ext cx="7643520" cy="39398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lick to view anim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Nuclear Reaction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1454040" y="1471680"/>
            <a:ext cx="1706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iss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6"/>
          <p:cNvSpPr/>
          <p:nvPr/>
        </p:nvSpPr>
        <p:spPr>
          <a:xfrm>
            <a:off x="1518480" y="6005520"/>
            <a:ext cx="1361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3-15 p. 5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Picture 8" descr="Slide17"/>
          <p:cNvPicPr/>
          <p:nvPr/>
        </p:nvPicPr>
        <p:blipFill>
          <a:blip r:embed="rId1"/>
          <a:srcRect l="0" t="0" r="17524" b="0"/>
          <a:stretch/>
        </p:blipFill>
        <p:spPr>
          <a:xfrm>
            <a:off x="304920" y="2274840"/>
            <a:ext cx="3925800" cy="3570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284" name="Text Box 4"/>
          <p:cNvSpPr/>
          <p:nvPr/>
        </p:nvSpPr>
        <p:spPr>
          <a:xfrm>
            <a:off x="6026400" y="1471680"/>
            <a:ext cx="1648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us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6351120" y="6019920"/>
            <a:ext cx="1361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3-16 p. 5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Picture 9" descr="Slide18"/>
          <p:cNvPicPr/>
          <p:nvPr/>
        </p:nvPicPr>
        <p:blipFill>
          <a:blip r:embed="rId2"/>
          <a:srcRect l="0" t="0" r="20185" b="0"/>
          <a:stretch/>
        </p:blipFill>
        <p:spPr>
          <a:xfrm>
            <a:off x="4938840" y="2220840"/>
            <a:ext cx="3849480" cy="36165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287" name="Line 10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Laws Governing Energy Change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Line 3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5"/>
          <p:cNvSpPr/>
          <p:nvPr/>
        </p:nvSpPr>
        <p:spPr>
          <a:xfrm>
            <a:off x="339840" y="2335320"/>
            <a:ext cx="8475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nergy is neither created nor destroyed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6"/>
          <p:cNvSpPr/>
          <p:nvPr/>
        </p:nvSpPr>
        <p:spPr>
          <a:xfrm>
            <a:off x="338400" y="3421080"/>
            <a:ext cx="57477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nergy only changes for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7"/>
          <p:cNvSpPr/>
          <p:nvPr/>
        </p:nvSpPr>
        <p:spPr>
          <a:xfrm>
            <a:off x="337680" y="4506840"/>
            <a:ext cx="76798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You can’t get something for nothing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8"/>
          <p:cNvSpPr/>
          <p:nvPr/>
        </p:nvSpPr>
        <p:spPr>
          <a:xfrm>
            <a:off x="-290160" y="1382760"/>
            <a:ext cx="9738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First Law of Thermodynamics (Energy)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12"/>
          <p:cNvSpPr/>
          <p:nvPr/>
        </p:nvSpPr>
        <p:spPr>
          <a:xfrm>
            <a:off x="1120320" y="5592600"/>
            <a:ext cx="6903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ERGY IN = ENERGY OU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AutoShape 3"/>
          <p:cNvSpPr/>
          <p:nvPr/>
        </p:nvSpPr>
        <p:spPr>
          <a:xfrm>
            <a:off x="6642000" y="328284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6" h="21600">
                <a:moveTo>
                  <a:pt x="10271" y="7301"/>
                </a:moveTo>
                <a:lnTo>
                  <a:pt x="11185" y="7301"/>
                </a:lnTo>
                <a:lnTo>
                  <a:pt x="11568" y="7667"/>
                </a:lnTo>
                <a:lnTo>
                  <a:pt x="20777" y="7667"/>
                </a:lnTo>
                <a:lnTo>
                  <a:pt x="21334" y="8224"/>
                </a:lnTo>
                <a:lnTo>
                  <a:pt x="21334" y="8772"/>
                </a:lnTo>
                <a:lnTo>
                  <a:pt x="23179" y="8772"/>
                </a:lnTo>
                <a:lnTo>
                  <a:pt x="23545" y="8224"/>
                </a:lnTo>
                <a:lnTo>
                  <a:pt x="24284" y="8224"/>
                </a:lnTo>
                <a:lnTo>
                  <a:pt x="24284" y="13376"/>
                </a:lnTo>
                <a:lnTo>
                  <a:pt x="23545" y="13376"/>
                </a:lnTo>
                <a:lnTo>
                  <a:pt x="23179" y="12828"/>
                </a:lnTo>
                <a:lnTo>
                  <a:pt x="21334" y="12828"/>
                </a:lnTo>
                <a:lnTo>
                  <a:pt x="21334" y="14107"/>
                </a:lnTo>
                <a:lnTo>
                  <a:pt x="11751" y="14107"/>
                </a:lnTo>
                <a:lnTo>
                  <a:pt x="11751" y="9877"/>
                </a:lnTo>
                <a:lnTo>
                  <a:pt x="11568" y="9877"/>
                </a:lnTo>
                <a:lnTo>
                  <a:pt x="11185" y="10243"/>
                </a:lnTo>
                <a:lnTo>
                  <a:pt x="10271" y="10243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Energy stays the same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3" descr=""/>
          <p:cNvPicPr/>
          <p:nvPr/>
        </p:nvPicPr>
        <p:blipFill>
          <a:blip r:embed="rId1"/>
          <a:stretch/>
        </p:blipFill>
        <p:spPr>
          <a:xfrm>
            <a:off x="25560" y="1046160"/>
            <a:ext cx="9104040" cy="4765680"/>
          </a:xfrm>
          <a:prstGeom prst="rect">
            <a:avLst/>
          </a:prstGeom>
          <a:ln w="0">
            <a:noFill/>
          </a:ln>
        </p:spPr>
      </p:pic>
      <p:sp>
        <p:nvSpPr>
          <p:cNvPr id="299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3"/>
          <p:cNvSpPr/>
          <p:nvPr/>
        </p:nvSpPr>
        <p:spPr>
          <a:xfrm>
            <a:off x="0" y="114444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4"/>
          <p:cNvSpPr/>
          <p:nvPr/>
        </p:nvSpPr>
        <p:spPr>
          <a:xfrm>
            <a:off x="592560" y="209520"/>
            <a:ext cx="8200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Second Law of Thermodynamic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5"/>
          <p:cNvSpPr/>
          <p:nvPr/>
        </p:nvSpPr>
        <p:spPr>
          <a:xfrm>
            <a:off x="316080" y="3392640"/>
            <a:ext cx="84722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every transformation, some energy is converted to he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43080" y="4470480"/>
            <a:ext cx="79041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ou cannot break even in terms of energy qualit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9"/>
          <p:cNvSpPr/>
          <p:nvPr/>
        </p:nvSpPr>
        <p:spPr>
          <a:xfrm>
            <a:off x="739800" y="1914480"/>
            <a:ext cx="1452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la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Box 10"/>
          <p:cNvSpPr/>
          <p:nvPr/>
        </p:nvSpPr>
        <p:spPr>
          <a:xfrm>
            <a:off x="2138400" y="2824200"/>
            <a:ext cx="4842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5"/>
          <p:cNvSpPr/>
          <p:nvPr/>
        </p:nvSpPr>
        <p:spPr>
          <a:xfrm>
            <a:off x="4183200" y="2752560"/>
            <a:ext cx="7902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ast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ea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5"/>
          <p:cNvSpPr/>
          <p:nvPr/>
        </p:nvSpPr>
        <p:spPr>
          <a:xfrm>
            <a:off x="8355240" y="2743200"/>
            <a:ext cx="7902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ast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ea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5"/>
          <p:cNvSpPr/>
          <p:nvPr/>
        </p:nvSpPr>
        <p:spPr>
          <a:xfrm>
            <a:off x="6356520" y="2747880"/>
            <a:ext cx="7902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ast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ea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1951200" y="2778840"/>
            <a:ext cx="7902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ast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ea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3006360" y="1779120"/>
            <a:ext cx="176580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hemica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photosynthesis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20"/>
          <p:cNvSpPr/>
          <p:nvPr/>
        </p:nvSpPr>
        <p:spPr>
          <a:xfrm>
            <a:off x="5297400" y="1812960"/>
            <a:ext cx="94140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hemical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food)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11"/>
          <p:cNvSpPr/>
          <p:nvPr/>
        </p:nvSpPr>
        <p:spPr>
          <a:xfrm>
            <a:off x="7428600" y="1744560"/>
            <a:ext cx="9334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chanica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moving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inking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ving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Science, and Critical Thinking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Line 3"/>
          <p:cNvSpPr/>
          <p:nvPr/>
        </p:nvSpPr>
        <p:spPr>
          <a:xfrm>
            <a:off x="0" y="114444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69840" y="1636560"/>
            <a:ext cx="31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cientific dat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68040" y="3240000"/>
            <a:ext cx="47692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cientific (natural) law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71280" y="4843440"/>
            <a:ext cx="37861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nsensus scienc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69840" y="4041720"/>
            <a:ext cx="37177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cientific theori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69840" y="2438280"/>
            <a:ext cx="4237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cientific hypothes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70200" y="5646600"/>
            <a:ext cx="34250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rontier scienc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8"/>
          <p:cNvSpPr/>
          <p:nvPr/>
        </p:nvSpPr>
        <p:spPr>
          <a:xfrm>
            <a:off x="4992840" y="1235160"/>
            <a:ext cx="4039920" cy="5513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Group 19"/>
          <p:cNvGrpSpPr/>
          <p:nvPr/>
        </p:nvGrpSpPr>
        <p:grpSpPr>
          <a:xfrm>
            <a:off x="5433840" y="1308240"/>
            <a:ext cx="3508560" cy="5355360"/>
            <a:chOff x="5433840" y="1308240"/>
            <a:chExt cx="3508560" cy="5355360"/>
          </a:xfrm>
        </p:grpSpPr>
        <p:grpSp>
          <p:nvGrpSpPr>
            <p:cNvPr id="68" name="Group 20"/>
            <p:cNvGrpSpPr/>
            <p:nvPr/>
          </p:nvGrpSpPr>
          <p:grpSpPr>
            <a:xfrm>
              <a:off x="5459760" y="1308240"/>
              <a:ext cx="1487880" cy="456840"/>
              <a:chOff x="5459760" y="1308240"/>
              <a:chExt cx="1487880" cy="456840"/>
            </a:xfrm>
          </p:grpSpPr>
          <p:pic>
            <p:nvPicPr>
              <p:cNvPr id="69" name="Picture 21" descr=""/>
              <p:cNvPicPr/>
              <p:nvPr/>
            </p:nvPicPr>
            <p:blipFill>
              <a:blip r:embed="rId1"/>
              <a:stretch/>
            </p:blipFill>
            <p:spPr>
              <a:xfrm>
                <a:off x="5459760" y="1308240"/>
                <a:ext cx="1487880" cy="45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" name="Text Box 22"/>
              <p:cNvSpPr/>
              <p:nvPr/>
            </p:nvSpPr>
            <p:spPr>
              <a:xfrm>
                <a:off x="5557680" y="1427400"/>
                <a:ext cx="1267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sk a question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" name="Group 23"/>
            <p:cNvGrpSpPr/>
            <p:nvPr/>
          </p:nvGrpSpPr>
          <p:grpSpPr>
            <a:xfrm>
              <a:off x="5482440" y="1753920"/>
              <a:ext cx="1483200" cy="891360"/>
              <a:chOff x="5482440" y="1753920"/>
              <a:chExt cx="1483200" cy="891360"/>
            </a:xfrm>
          </p:grpSpPr>
          <p:pic>
            <p:nvPicPr>
              <p:cNvPr id="72" name="Picture 24" descr=""/>
              <p:cNvPicPr/>
              <p:nvPr/>
            </p:nvPicPr>
            <p:blipFill>
              <a:blip r:embed="rId2"/>
              <a:stretch/>
            </p:blipFill>
            <p:spPr>
              <a:xfrm>
                <a:off x="5482440" y="1753920"/>
                <a:ext cx="1483200" cy="89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" name="Text Box 25"/>
              <p:cNvSpPr/>
              <p:nvPr/>
            </p:nvSpPr>
            <p:spPr>
              <a:xfrm>
                <a:off x="5525280" y="2157480"/>
                <a:ext cx="13359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Do experiments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nd collect data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" name="Group 26"/>
            <p:cNvGrpSpPr/>
            <p:nvPr/>
          </p:nvGrpSpPr>
          <p:grpSpPr>
            <a:xfrm>
              <a:off x="5486040" y="2635920"/>
              <a:ext cx="1483200" cy="954360"/>
              <a:chOff x="5486040" y="2635920"/>
              <a:chExt cx="1483200" cy="954360"/>
            </a:xfrm>
          </p:grpSpPr>
          <p:pic>
            <p:nvPicPr>
              <p:cNvPr id="75" name="Picture 27" descr=""/>
              <p:cNvPicPr/>
              <p:nvPr/>
            </p:nvPicPr>
            <p:blipFill>
              <a:blip r:embed="rId3"/>
              <a:stretch/>
            </p:blipFill>
            <p:spPr>
              <a:xfrm>
                <a:off x="5486040" y="2635920"/>
                <a:ext cx="1483200" cy="902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" name="Text Box 28"/>
              <p:cNvSpPr/>
              <p:nvPr/>
            </p:nvSpPr>
            <p:spPr>
              <a:xfrm>
                <a:off x="5569200" y="2948760"/>
                <a:ext cx="12506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Formulate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hypothesis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to explain data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" name="Group 29"/>
            <p:cNvGrpSpPr/>
            <p:nvPr/>
          </p:nvGrpSpPr>
          <p:grpSpPr>
            <a:xfrm>
              <a:off x="5482440" y="3522240"/>
              <a:ext cx="1483200" cy="960120"/>
              <a:chOff x="5482440" y="3522240"/>
              <a:chExt cx="1483200" cy="960120"/>
            </a:xfrm>
          </p:grpSpPr>
          <p:pic>
            <p:nvPicPr>
              <p:cNvPr id="78" name="Picture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2440" y="3522240"/>
                <a:ext cx="1483200" cy="90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Text Box 31"/>
              <p:cNvSpPr/>
              <p:nvPr/>
            </p:nvSpPr>
            <p:spPr>
              <a:xfrm>
                <a:off x="5541840" y="3840840"/>
                <a:ext cx="1301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Do more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Experiments to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test hypothesis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" name="Group 32"/>
            <p:cNvGrpSpPr/>
            <p:nvPr/>
          </p:nvGrpSpPr>
          <p:grpSpPr>
            <a:xfrm>
              <a:off x="5433840" y="4405320"/>
              <a:ext cx="1531800" cy="909000"/>
              <a:chOff x="5433840" y="4405320"/>
              <a:chExt cx="1531800" cy="909000"/>
            </a:xfrm>
          </p:grpSpPr>
          <p:pic>
            <p:nvPicPr>
              <p:cNvPr id="81" name="Picture 33" descr=""/>
              <p:cNvPicPr/>
              <p:nvPr/>
            </p:nvPicPr>
            <p:blipFill>
              <a:blip r:embed="rId5"/>
              <a:stretch/>
            </p:blipFill>
            <p:spPr>
              <a:xfrm>
                <a:off x="5482440" y="4405320"/>
                <a:ext cx="1483200" cy="90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" name="Text Box 34"/>
              <p:cNvSpPr/>
              <p:nvPr/>
            </p:nvSpPr>
            <p:spPr>
              <a:xfrm>
                <a:off x="5433840" y="4782600"/>
                <a:ext cx="15235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Revise hypothesis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f necessary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" name="Group 35"/>
            <p:cNvGrpSpPr/>
            <p:nvPr/>
          </p:nvGrpSpPr>
          <p:grpSpPr>
            <a:xfrm>
              <a:off x="5453640" y="5294160"/>
              <a:ext cx="1512000" cy="1369440"/>
              <a:chOff x="5453640" y="5294160"/>
              <a:chExt cx="1512000" cy="1369440"/>
            </a:xfrm>
          </p:grpSpPr>
          <p:pic>
            <p:nvPicPr>
              <p:cNvPr id="84" name="Picture 36" descr=""/>
              <p:cNvPicPr/>
              <p:nvPr/>
            </p:nvPicPr>
            <p:blipFill>
              <a:blip r:embed="rId6"/>
              <a:stretch/>
            </p:blipFill>
            <p:spPr>
              <a:xfrm>
                <a:off x="5482440" y="5294160"/>
                <a:ext cx="1483200" cy="134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" name="Text Box 37"/>
              <p:cNvSpPr/>
              <p:nvPr/>
            </p:nvSpPr>
            <p:spPr>
              <a:xfrm>
                <a:off x="5453640" y="5657040"/>
                <a:ext cx="148068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Well-tested and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accepted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hypotheses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become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cientific theories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" name="Group 38"/>
            <p:cNvGrpSpPr/>
            <p:nvPr/>
          </p:nvGrpSpPr>
          <p:grpSpPr>
            <a:xfrm>
              <a:off x="6912360" y="2090880"/>
              <a:ext cx="2030040" cy="1659240"/>
              <a:chOff x="6912360" y="2090880"/>
              <a:chExt cx="2030040" cy="1659240"/>
            </a:xfrm>
          </p:grpSpPr>
          <p:pic>
            <p:nvPicPr>
              <p:cNvPr id="87" name="Picture 39" descr=""/>
              <p:cNvPicPr/>
              <p:nvPr/>
            </p:nvPicPr>
            <p:blipFill>
              <a:blip r:embed="rId7"/>
              <a:stretch/>
            </p:blipFill>
            <p:spPr>
              <a:xfrm>
                <a:off x="6912360" y="2090880"/>
                <a:ext cx="2030040" cy="165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" name="Text Box 40"/>
              <p:cNvSpPr/>
              <p:nvPr/>
            </p:nvSpPr>
            <p:spPr>
              <a:xfrm>
                <a:off x="7572960" y="2228040"/>
                <a:ext cx="1155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nterpret data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Text Box 41"/>
              <p:cNvSpPr/>
              <p:nvPr/>
            </p:nvSpPr>
            <p:spPr>
              <a:xfrm>
                <a:off x="7450560" y="2924280"/>
                <a:ext cx="139824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Well-tested and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accepted patterns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n data become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cientific laws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0" name="Text Box 15"/>
          <p:cNvSpPr/>
          <p:nvPr/>
        </p:nvSpPr>
        <p:spPr>
          <a:xfrm>
            <a:off x="7743600" y="6429240"/>
            <a:ext cx="126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3-2 p. 33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onnections:  Matter and Energy Laws and Environmental Problems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-70560" y="1611360"/>
            <a:ext cx="73371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igh-throughput (waste) econom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7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8"/>
          <p:cNvSpPr/>
          <p:nvPr/>
        </p:nvSpPr>
        <p:spPr>
          <a:xfrm>
            <a:off x="-67320" y="2525760"/>
            <a:ext cx="5769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atter-recycling econom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9"/>
          <p:cNvSpPr/>
          <p:nvPr/>
        </p:nvSpPr>
        <p:spPr>
          <a:xfrm>
            <a:off x="-71280" y="3441600"/>
            <a:ext cx="5733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ow-throughput econom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AutoShape 3"/>
          <p:cNvSpPr/>
          <p:nvPr/>
        </p:nvSpPr>
        <p:spPr>
          <a:xfrm>
            <a:off x="5835600" y="430524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6" h="21600">
                <a:moveTo>
                  <a:pt x="10271" y="7301"/>
                </a:moveTo>
                <a:lnTo>
                  <a:pt x="11185" y="7301"/>
                </a:lnTo>
                <a:lnTo>
                  <a:pt x="11568" y="7667"/>
                </a:lnTo>
                <a:lnTo>
                  <a:pt x="20777" y="7667"/>
                </a:lnTo>
                <a:lnTo>
                  <a:pt x="21334" y="8224"/>
                </a:lnTo>
                <a:lnTo>
                  <a:pt x="21334" y="8772"/>
                </a:lnTo>
                <a:lnTo>
                  <a:pt x="23179" y="8772"/>
                </a:lnTo>
                <a:lnTo>
                  <a:pt x="23545" y="8224"/>
                </a:lnTo>
                <a:lnTo>
                  <a:pt x="24284" y="8224"/>
                </a:lnTo>
                <a:lnTo>
                  <a:pt x="24284" y="13376"/>
                </a:lnTo>
                <a:lnTo>
                  <a:pt x="23545" y="13376"/>
                </a:lnTo>
                <a:lnTo>
                  <a:pt x="23179" y="12828"/>
                </a:lnTo>
                <a:lnTo>
                  <a:pt x="21334" y="12828"/>
                </a:lnTo>
                <a:lnTo>
                  <a:pt x="21334" y="14107"/>
                </a:lnTo>
                <a:lnTo>
                  <a:pt x="11751" y="14107"/>
                </a:lnTo>
                <a:lnTo>
                  <a:pt x="11751" y="9877"/>
                </a:lnTo>
                <a:lnTo>
                  <a:pt x="11568" y="9877"/>
                </a:lnTo>
                <a:lnTo>
                  <a:pt x="11185" y="10243"/>
                </a:lnTo>
                <a:lnTo>
                  <a:pt x="10271" y="10243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lick to view animation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nvironmental Solutions: Low-Throughput Economy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98520" y="1574280"/>
            <a:ext cx="40384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73000"/>
          </a:bodyPr>
          <a:p>
            <a:pPr marL="250200" indent="-25020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earning from Na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Picture 7" descr="_x0008_0319.jpg                                                       0006E5CD&#9;ROCKETEER                      ABA78158:"/>
          <p:cNvPicPr/>
          <p:nvPr/>
        </p:nvPicPr>
        <p:blipFill>
          <a:blip r:embed="rId1"/>
          <a:stretch/>
        </p:blipFill>
        <p:spPr>
          <a:xfrm>
            <a:off x="2025720" y="2736720"/>
            <a:ext cx="7118280" cy="412128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8"/>
          <p:cNvSpPr/>
          <p:nvPr/>
        </p:nvSpPr>
        <p:spPr>
          <a:xfrm>
            <a:off x="7634160" y="6553080"/>
            <a:ext cx="15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3-19 p. 53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Models and Behavior of System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Line 3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525600" y="1581120"/>
            <a:ext cx="2041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put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527040" y="2838600"/>
            <a:ext cx="5045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lows (throughputs)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524520" y="4095720"/>
            <a:ext cx="5316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tores (storage areas)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525960" y="5354640"/>
            <a:ext cx="2406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utput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08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System Regulation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Line 3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407520" y="1952640"/>
            <a:ext cx="41457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ositive Feedback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427680" y="3029040"/>
            <a:ext cx="43243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gative Feedback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419760" y="4176720"/>
            <a:ext cx="2876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ime Dela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460440" y="5278320"/>
            <a:ext cx="2230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ynerg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Matter:  Forms, Structure, and Quality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Line 3"/>
          <p:cNvSpPr/>
          <p:nvPr/>
        </p:nvSpPr>
        <p:spPr>
          <a:xfrm>
            <a:off x="0" y="116064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698040" y="1735200"/>
            <a:ext cx="2632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lement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719640" y="2670120"/>
            <a:ext cx="3252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mpound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696960" y="5484960"/>
            <a:ext cx="2803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olecul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736920" y="4513320"/>
            <a:ext cx="1562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on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730440" y="3613320"/>
            <a:ext cx="2039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tom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Atom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Line 3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1866960" y="1144440"/>
            <a:ext cx="5410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Subatomic Particl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506880" y="1903320"/>
            <a:ext cx="2323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oton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507600" y="2576520"/>
            <a:ext cx="2632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eutron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506520" y="3249720"/>
            <a:ext cx="2690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lectron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1527480" y="4176720"/>
            <a:ext cx="6087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Atomic Characteristic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787320" y="4986360"/>
            <a:ext cx="4054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tomic number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5948640" y="4987800"/>
            <a:ext cx="1562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on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786600" y="5889600"/>
            <a:ext cx="3408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tomic mas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5949000" y="5889600"/>
            <a:ext cx="2410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sotop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2">
            <a:hlinkClick r:id="rId1"/>
          </p:cNvPr>
          <p:cNvSpPr/>
          <p:nvPr/>
        </p:nvSpPr>
        <p:spPr>
          <a:xfrm>
            <a:off x="3792600" y="27306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6" h="21600">
                <a:moveTo>
                  <a:pt x="10271" y="7301"/>
                </a:moveTo>
                <a:lnTo>
                  <a:pt x="11185" y="7301"/>
                </a:lnTo>
                <a:lnTo>
                  <a:pt x="11568" y="7667"/>
                </a:lnTo>
                <a:lnTo>
                  <a:pt x="20777" y="7667"/>
                </a:lnTo>
                <a:lnTo>
                  <a:pt x="21334" y="8224"/>
                </a:lnTo>
                <a:lnTo>
                  <a:pt x="21334" y="8772"/>
                </a:lnTo>
                <a:lnTo>
                  <a:pt x="23179" y="8772"/>
                </a:lnTo>
                <a:lnTo>
                  <a:pt x="23545" y="8224"/>
                </a:lnTo>
                <a:lnTo>
                  <a:pt x="24284" y="8224"/>
                </a:lnTo>
                <a:lnTo>
                  <a:pt x="24284" y="13376"/>
                </a:lnTo>
                <a:lnTo>
                  <a:pt x="23545" y="13376"/>
                </a:lnTo>
                <a:lnTo>
                  <a:pt x="23179" y="12828"/>
                </a:lnTo>
                <a:lnTo>
                  <a:pt x="21334" y="12828"/>
                </a:lnTo>
                <a:lnTo>
                  <a:pt x="21334" y="14107"/>
                </a:lnTo>
                <a:lnTo>
                  <a:pt x="11751" y="14107"/>
                </a:lnTo>
                <a:lnTo>
                  <a:pt x="11751" y="9877"/>
                </a:lnTo>
                <a:lnTo>
                  <a:pt x="11568" y="9877"/>
                </a:lnTo>
                <a:lnTo>
                  <a:pt x="11185" y="10243"/>
                </a:lnTo>
                <a:lnTo>
                  <a:pt x="10271" y="10243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Atomic Particles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3">
            <a:hlinkClick r:id="rId3"/>
          </p:cNvPr>
          <p:cNvSpPr/>
          <p:nvPr/>
        </p:nvSpPr>
        <p:spPr>
          <a:xfrm>
            <a:off x="6211800" y="267804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6" h="21600">
                <a:moveTo>
                  <a:pt x="10271" y="7301"/>
                </a:moveTo>
                <a:lnTo>
                  <a:pt x="11185" y="7301"/>
                </a:lnTo>
                <a:lnTo>
                  <a:pt x="11568" y="7667"/>
                </a:lnTo>
                <a:lnTo>
                  <a:pt x="20777" y="7667"/>
                </a:lnTo>
                <a:lnTo>
                  <a:pt x="21334" y="8224"/>
                </a:lnTo>
                <a:lnTo>
                  <a:pt x="21334" y="8772"/>
                </a:lnTo>
                <a:lnTo>
                  <a:pt x="23179" y="8772"/>
                </a:lnTo>
                <a:lnTo>
                  <a:pt x="23545" y="8224"/>
                </a:lnTo>
                <a:lnTo>
                  <a:pt x="24284" y="8224"/>
                </a:lnTo>
                <a:lnTo>
                  <a:pt x="24284" y="13376"/>
                </a:lnTo>
                <a:lnTo>
                  <a:pt x="23545" y="13376"/>
                </a:lnTo>
                <a:lnTo>
                  <a:pt x="23179" y="12828"/>
                </a:lnTo>
                <a:lnTo>
                  <a:pt x="21334" y="12828"/>
                </a:lnTo>
                <a:lnTo>
                  <a:pt x="21334" y="14107"/>
                </a:lnTo>
                <a:lnTo>
                  <a:pt x="11751" y="14107"/>
                </a:lnTo>
                <a:lnTo>
                  <a:pt x="11751" y="9877"/>
                </a:lnTo>
                <a:lnTo>
                  <a:pt x="11568" y="9877"/>
                </a:lnTo>
                <a:lnTo>
                  <a:pt x="11185" y="10243"/>
                </a:lnTo>
                <a:lnTo>
                  <a:pt x="10271" y="10243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Atomic Mass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xamples of Isotope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_x0008_0305.jpg                                                       0006E5CD&#9;ROCKETEER                      ABA78158:"/>
          <p:cNvPicPr/>
          <p:nvPr/>
        </p:nvPicPr>
        <p:blipFill>
          <a:blip r:embed="rId1"/>
          <a:stretch/>
        </p:blipFill>
        <p:spPr>
          <a:xfrm>
            <a:off x="743040" y="1190520"/>
            <a:ext cx="7718400" cy="567684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7"/>
          <p:cNvSpPr/>
          <p:nvPr/>
        </p:nvSpPr>
        <p:spPr>
          <a:xfrm>
            <a:off x="7197480" y="6553080"/>
            <a:ext cx="126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3-5 p. 4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2"/>
          <p:cNvSpPr/>
          <p:nvPr/>
        </p:nvSpPr>
        <p:spPr>
          <a:xfrm>
            <a:off x="6467400" y="3807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6" h="21600">
                <a:moveTo>
                  <a:pt x="10271" y="7301"/>
                </a:moveTo>
                <a:lnTo>
                  <a:pt x="11185" y="7301"/>
                </a:lnTo>
                <a:lnTo>
                  <a:pt x="11568" y="7667"/>
                </a:lnTo>
                <a:lnTo>
                  <a:pt x="20777" y="7667"/>
                </a:lnTo>
                <a:lnTo>
                  <a:pt x="21334" y="8224"/>
                </a:lnTo>
                <a:lnTo>
                  <a:pt x="21334" y="8772"/>
                </a:lnTo>
                <a:lnTo>
                  <a:pt x="23179" y="8772"/>
                </a:lnTo>
                <a:lnTo>
                  <a:pt x="23545" y="8224"/>
                </a:lnTo>
                <a:lnTo>
                  <a:pt x="24284" y="8224"/>
                </a:lnTo>
                <a:lnTo>
                  <a:pt x="24284" y="13376"/>
                </a:lnTo>
                <a:lnTo>
                  <a:pt x="23545" y="13376"/>
                </a:lnTo>
                <a:lnTo>
                  <a:pt x="23179" y="12828"/>
                </a:lnTo>
                <a:lnTo>
                  <a:pt x="21334" y="12828"/>
                </a:lnTo>
                <a:lnTo>
                  <a:pt x="21334" y="14107"/>
                </a:lnTo>
                <a:lnTo>
                  <a:pt x="11751" y="14107"/>
                </a:lnTo>
                <a:lnTo>
                  <a:pt x="11751" y="9877"/>
                </a:lnTo>
                <a:lnTo>
                  <a:pt x="11568" y="9877"/>
                </a:lnTo>
                <a:lnTo>
                  <a:pt x="11185" y="10243"/>
                </a:lnTo>
                <a:lnTo>
                  <a:pt x="10271" y="10243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Isotopes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pH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55680" y="149868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easures acidity or alkalinity of water s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cale 0 – 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cids: 0 – 6.9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eutral 7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lkaline (Basic) 7.1 – 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1:21:45Z</dcterms:created>
  <dc:creator>Richard Clements</dc:creator>
  <dc:description/>
  <dc:language>en-US</dc:language>
  <cp:lastModifiedBy>iLLuSioN</cp:lastModifiedBy>
  <dcterms:modified xsi:type="dcterms:W3CDTF">2009-08-27T03:10:39Z</dcterms:modified>
  <cp:revision>76</cp:revision>
  <dc:subject/>
  <dc:title>PowerPoint Presentation</dc:title>
</cp:coreProperties>
</file>