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8B3-04A8-4CE9-AEF7-C93156AE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21B-9254-4987-BB6A-ED20C734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88F-90F5-4B5D-B95F-2EB6FDEA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93A7-A01C-42CC-AF7F-89B09DC9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68E-A629-438B-A0CE-D916834A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34C-8912-44D3-A3BA-1755E878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CB2-AA75-4D18-A062-13578E8E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7DF-DDB1-417C-9F6C-3D0F4FEB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A458-F046-43C1-9420-7068AC28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B17-3F28-4875-825A-AAC0D2A6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75C-E0D4-4D0D-9606-2DFB2039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11D-306B-4B9B-8AD8-4156C4EC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31BC-1870-443A-A6C9-089329E5B39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animations/atomic_particles.html" TargetMode="External"/><Relationship Id="rId2" Type="http://schemas.openxmlformats.org/officeDocument/2006/relationships/hyperlink" Target="file:///animations/atomic_particles.html" TargetMode="External"/><Relationship Id="rId3" Type="http://schemas.openxmlformats.org/officeDocument/2006/relationships/hyperlink" Target="file:///animations/mass_number.html" TargetMode="External"/><Relationship Id="rId4" Type="http://schemas.openxmlformats.org/officeDocument/2006/relationships/hyperlink" Target="file:///animations/mass_number.html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animations/isotopes.mov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cience, Systems, Matter, and Energ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H of some common it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_x0008_0306.jpg                                                       001A8C0F_x0007_smeagol                        BB150139:"/>
          <p:cNvPicPr/>
          <p:nvPr/>
        </p:nvPicPr>
        <p:blipFill>
          <a:blip r:embed="rId1"/>
          <a:stretch/>
        </p:blipFill>
        <p:spPr>
          <a:xfrm>
            <a:off x="954000" y="1144440"/>
            <a:ext cx="7602480" cy="5713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hemical Bo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78280" y="1982880"/>
            <a:ext cx="476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formul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97720" y="3282840"/>
            <a:ext cx="3156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ic bo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8080" y="4624560"/>
            <a:ext cx="4002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valent bo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5848200" y="3254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rganic Compou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13000" y="1346040"/>
            <a:ext cx="791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c vs. inorganic compou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511560" y="2119320"/>
            <a:ext cx="3763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ydrocarb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12280" y="2892600"/>
            <a:ext cx="6401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lorinated hydrocarb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572040" y="5892840"/>
            <a:ext cx="346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cleic aci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512640" y="3689280"/>
            <a:ext cx="538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imple carbohydrat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512640" y="446076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lex carbohydrat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573480" y="5133960"/>
            <a:ext cx="2436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ei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enetic Material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459360" y="1284120"/>
            <a:ext cx="346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cleic aci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19840" y="2054160"/>
            <a:ext cx="1955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4829040" y="2112840"/>
            <a:ext cx="2632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o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837680" y="1303200"/>
            <a:ext cx="373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omoso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2" descr="Slide8"/>
          <p:cNvPicPr/>
          <p:nvPr/>
        </p:nvPicPr>
        <p:blipFill>
          <a:blip r:embed="rId1"/>
          <a:srcRect l="0" t="21942" r="0" b="31512"/>
          <a:stretch/>
        </p:blipFill>
        <p:spPr>
          <a:xfrm>
            <a:off x="0" y="2905200"/>
            <a:ext cx="9144000" cy="31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74" name="Text Box 11"/>
          <p:cNvSpPr/>
          <p:nvPr/>
        </p:nvSpPr>
        <p:spPr>
          <a:xfrm>
            <a:off x="3090600" y="6400800"/>
            <a:ext cx="3434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mpare Fig. 3-7 p. 4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Four States of Matter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8640" y="1738440"/>
            <a:ext cx="230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174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li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59000" y="2978280"/>
            <a:ext cx="266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174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qui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59000" y="4218120"/>
            <a:ext cx="204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174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59000" y="5459400"/>
            <a:ext cx="2782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174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sm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tter Quality and Material Efficienc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884720" y="6553080"/>
            <a:ext cx="1262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3-8 p. 4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160" y="2021040"/>
            <a:ext cx="4552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-quality matt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800" y="3005280"/>
            <a:ext cx="4452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-quality matt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520" y="4021200"/>
            <a:ext cx="5136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terial efficienc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resource productivity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12"/>
          <p:cNvGrpSpPr/>
          <p:nvPr/>
        </p:nvGrpSpPr>
        <p:grpSpPr>
          <a:xfrm>
            <a:off x="5464080" y="1192320"/>
            <a:ext cx="3182760" cy="5419080"/>
            <a:chOff x="5464080" y="1192320"/>
            <a:chExt cx="3182760" cy="5419080"/>
          </a:xfrm>
        </p:grpSpPr>
        <p:pic>
          <p:nvPicPr>
            <p:cNvPr id="192" name="Picture 10" descr="Slide9"/>
            <p:cNvPicPr/>
            <p:nvPr/>
          </p:nvPicPr>
          <p:blipFill>
            <a:blip r:embed="rId1"/>
            <a:srcRect l="15232" t="0" r="67803" b="0"/>
            <a:stretch/>
          </p:blipFill>
          <p:spPr>
            <a:xfrm>
              <a:off x="5464080" y="1192320"/>
              <a:ext cx="1219320" cy="54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1" descr="Slide9"/>
            <p:cNvPicPr/>
            <p:nvPr/>
          </p:nvPicPr>
          <p:blipFill>
            <a:blip r:embed="rId2"/>
            <a:srcRect l="47594" t="0" r="24748" b="0"/>
            <a:stretch/>
          </p:blipFill>
          <p:spPr>
            <a:xfrm>
              <a:off x="6658560" y="1192320"/>
              <a:ext cx="1988280" cy="5419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19200"/>
            <a:ext cx="8229600" cy="4546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finition: Capacity to do “work” and transfer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yp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ineti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tent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diation: Energy &amp; Waveleng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326200" y="288288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lectromagnetic Spectru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9" descr="_x0008_0309.jpg 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0" y="2151000"/>
            <a:ext cx="9144000" cy="38847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0"/>
          <p:cNvSpPr/>
          <p:nvPr/>
        </p:nvSpPr>
        <p:spPr>
          <a:xfrm>
            <a:off x="7873920" y="6553080"/>
            <a:ext cx="12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3-9 p. 4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ransfer of Heat Energ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3-11 p. 4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111240" y="2239920"/>
            <a:ext cx="8921520" cy="367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98000" y="2338560"/>
            <a:ext cx="8783640" cy="3603960"/>
            <a:chOff x="198000" y="2338560"/>
            <a:chExt cx="8783640" cy="3603960"/>
          </a:xfrm>
        </p:grpSpPr>
        <p:pic>
          <p:nvPicPr>
            <p:cNvPr id="212" name="Picture 7" descr=""/>
            <p:cNvPicPr/>
            <p:nvPr/>
          </p:nvPicPr>
          <p:blipFill>
            <a:blip r:embed="rId1"/>
            <a:stretch/>
          </p:blipFill>
          <p:spPr>
            <a:xfrm>
              <a:off x="216720" y="2636640"/>
              <a:ext cx="2805480" cy="30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8" descr=""/>
            <p:cNvPicPr/>
            <p:nvPr/>
          </p:nvPicPr>
          <p:blipFill>
            <a:blip r:embed="rId2"/>
            <a:stretch/>
          </p:blipFill>
          <p:spPr>
            <a:xfrm>
              <a:off x="3233880" y="2636640"/>
              <a:ext cx="2805480" cy="30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9" descr=""/>
            <p:cNvPicPr/>
            <p:nvPr/>
          </p:nvPicPr>
          <p:blipFill>
            <a:blip r:embed="rId3"/>
            <a:stretch/>
          </p:blipFill>
          <p:spPr>
            <a:xfrm>
              <a:off x="6175800" y="2636640"/>
              <a:ext cx="280584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10"/>
            <p:cNvSpPr/>
            <p:nvPr/>
          </p:nvSpPr>
          <p:spPr>
            <a:xfrm>
              <a:off x="198000" y="2338560"/>
              <a:ext cx="114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vectio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3133800" y="2338560"/>
              <a:ext cx="116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ductio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6077880" y="233856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diatio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3319200" y="4023360"/>
              <a:ext cx="275796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t from a stove burner causes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s or molecules in the pan’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ttom to vibrate faster. The vibrating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oms or molecules then collide with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arby atoms or molecules, causing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m to vibrate faster. Eventually,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lecules or atoms in the pan’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ndle are vibrating so fast it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comes too hot to touch.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4"/>
            <p:cNvSpPr/>
            <p:nvPr/>
          </p:nvSpPr>
          <p:spPr>
            <a:xfrm>
              <a:off x="6252120" y="4082400"/>
              <a:ext cx="2684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 the water boils, heat from the hot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ve burner and pan radiate into the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rrounding air, even though ai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ducts very little heat.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360720" y="4069800"/>
              <a:ext cx="2732040" cy="17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ting water in the bottom of a pan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uses some of the water to vaporize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o bubbles. Because they are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ghter than the surrounding water,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y rise. Water then sinks from the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to replace the rising bubbles.This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p and down movement (convection)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entually heats all of the water.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ergy:  Qua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95400" y="1511280"/>
            <a:ext cx="3450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gh-quality energy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95400" y="3332160"/>
            <a:ext cx="3492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w-quality energy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8" descr="_x0008_0312.jpg 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3541680" y="1182600"/>
            <a:ext cx="5599080" cy="56754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1"/>
          <p:cNvSpPr/>
          <p:nvPr/>
        </p:nvSpPr>
        <p:spPr>
          <a:xfrm>
            <a:off x="7835760" y="655308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3-12 p.4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027"/>
          <p:cNvSpPr/>
          <p:nvPr/>
        </p:nvSpPr>
        <p:spPr>
          <a:xfrm>
            <a:off x="4320" y="1501920"/>
            <a:ext cx="899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ience as a process for understand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031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32"/>
          <p:cNvSpPr/>
          <p:nvPr/>
        </p:nvSpPr>
        <p:spPr>
          <a:xfrm>
            <a:off x="6480" y="2287440"/>
            <a:ext cx="9010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onents and regulation of sys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33"/>
          <p:cNvSpPr/>
          <p:nvPr/>
        </p:nvSpPr>
        <p:spPr>
          <a:xfrm>
            <a:off x="7200" y="3073320"/>
            <a:ext cx="8286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:  forms, quality, and how i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nges; laws of matt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35"/>
          <p:cNvSpPr/>
          <p:nvPr/>
        </p:nvSpPr>
        <p:spPr>
          <a:xfrm>
            <a:off x="2160" y="5864400"/>
            <a:ext cx="8039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clear changes and radioactiv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36"/>
          <p:cNvSpPr/>
          <p:nvPr/>
        </p:nvSpPr>
        <p:spPr>
          <a:xfrm>
            <a:off x="6120" y="4468680"/>
            <a:ext cx="8344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:  forms, quality, and how i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nges; laws of energ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hanges in Matter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269800"/>
            <a:ext cx="8229600" cy="24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hemical Changes or Reaction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3328200" y="5958000"/>
            <a:ext cx="2487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g. In text p. 4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0" descr="&#9;03p47.jpg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412920" y="1362240"/>
            <a:ext cx="8426160" cy="459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Law of Conservation of Matter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78920" y="1531800"/>
            <a:ext cx="582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 is not destroyed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78200" y="2684520"/>
            <a:ext cx="6258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 only changes for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77120" y="3838680"/>
            <a:ext cx="6244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is no “throw away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6791400" y="47084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ergy flow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tter and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63520" y="1434960"/>
            <a:ext cx="6459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emical nature of pollut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63520" y="2189160"/>
            <a:ext cx="3449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ntr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64600" y="2943360"/>
            <a:ext cx="281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sisten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62800" y="3699000"/>
            <a:ext cx="8022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gradable (nonpersistent) pollut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263520" y="4452840"/>
            <a:ext cx="5545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degradable pollut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263520" y="5207040"/>
            <a:ext cx="8618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lowly degradable (persistent) pollut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262800" y="5962680"/>
            <a:ext cx="5698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ndegradable pollut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uclear Chang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1360" y="1386000"/>
            <a:ext cx="624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radioactive deca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262440" y="2128680"/>
            <a:ext cx="8396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dioactive isotopes (radioisotope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63160" y="2873520"/>
            <a:ext cx="343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amma ray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62800" y="3618000"/>
            <a:ext cx="3946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pha partic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262080" y="4362480"/>
            <a:ext cx="3607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ta partic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60640" y="5106960"/>
            <a:ext cx="545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alf lif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Table 3-2 p. 49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261720" y="5851440"/>
            <a:ext cx="454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izing rad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alf-lif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6" descr="_x0008_0313.jpg 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2544840" y="85680"/>
            <a:ext cx="6599160" cy="66787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7"/>
          <p:cNvSpPr/>
          <p:nvPr/>
        </p:nvSpPr>
        <p:spPr>
          <a:xfrm>
            <a:off x="7736400" y="6429240"/>
            <a:ext cx="14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3-13, p. 4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dea of Half Life (not the vdo game)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50240" y="1893240"/>
            <a:ext cx="7643520" cy="393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uclear Reac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454040" y="1471680"/>
            <a:ext cx="1706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s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518480" y="600552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3-15 p. 5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8" descr="Slide17"/>
          <p:cNvPicPr/>
          <p:nvPr/>
        </p:nvPicPr>
        <p:blipFill>
          <a:blip r:embed="rId1"/>
          <a:srcRect l="0" t="0" r="17524" b="0"/>
          <a:stretch/>
        </p:blipFill>
        <p:spPr>
          <a:xfrm>
            <a:off x="304920" y="2274840"/>
            <a:ext cx="3925800" cy="3570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84" name="Text Box 4"/>
          <p:cNvSpPr/>
          <p:nvPr/>
        </p:nvSpPr>
        <p:spPr>
          <a:xfrm>
            <a:off x="6026400" y="1471680"/>
            <a:ext cx="164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us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351120" y="601992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3-16 p. 5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9" descr="Slide18"/>
          <p:cNvPicPr/>
          <p:nvPr/>
        </p:nvPicPr>
        <p:blipFill>
          <a:blip r:embed="rId2"/>
          <a:srcRect l="0" t="0" r="20185" b="0"/>
          <a:stretch/>
        </p:blipFill>
        <p:spPr>
          <a:xfrm>
            <a:off x="4938840" y="2220840"/>
            <a:ext cx="3849480" cy="3616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87" name="Line 10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aws Governing Energy Chang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39840" y="2335320"/>
            <a:ext cx="847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y is neither created nor destroyed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338400" y="3421080"/>
            <a:ext cx="5747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y only changes for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337680" y="4506840"/>
            <a:ext cx="767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can’t get something for noth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-290160" y="1382760"/>
            <a:ext cx="973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First Law of Thermodynamics (Energy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1120320" y="5592600"/>
            <a:ext cx="690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ERGY IN = ENERGY OU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6642000" y="32828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ergy stays the sam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25560" y="1046160"/>
            <a:ext cx="9104040" cy="4765680"/>
          </a:xfrm>
          <a:prstGeom prst="rect">
            <a:avLst/>
          </a:prstGeom>
          <a:ln w="0">
            <a:noFill/>
          </a:ln>
        </p:spPr>
      </p:pic>
      <p:sp>
        <p:nvSpPr>
          <p:cNvPr id="29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92560" y="209520"/>
            <a:ext cx="8200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econd Law of Thermodynamic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316080" y="3392640"/>
            <a:ext cx="847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every transformation, some energy is converted to he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43080" y="4470480"/>
            <a:ext cx="7904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cannot break even in terms of energy qual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739800" y="1914480"/>
            <a:ext cx="1452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10"/>
          <p:cNvSpPr/>
          <p:nvPr/>
        </p:nvSpPr>
        <p:spPr>
          <a:xfrm>
            <a:off x="2138400" y="2824200"/>
            <a:ext cx="4842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4183200" y="2752560"/>
            <a:ext cx="79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s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8355240" y="2743200"/>
            <a:ext cx="79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s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6356520" y="2747880"/>
            <a:ext cx="79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s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951200" y="2778840"/>
            <a:ext cx="79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s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3006360" y="1779120"/>
            <a:ext cx="17658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photosynthesi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5297400" y="1812960"/>
            <a:ext cx="941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food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7428600" y="1744560"/>
            <a:ext cx="933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moving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nking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ving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cience, and Critical Thinking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9840" y="1636560"/>
            <a:ext cx="31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dat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8040" y="3240000"/>
            <a:ext cx="4769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(natural) law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71280" y="4843440"/>
            <a:ext cx="3786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ensus sci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9840" y="4041720"/>
            <a:ext cx="3717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theor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9840" y="2438280"/>
            <a:ext cx="4237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tific hypothes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0200" y="5646600"/>
            <a:ext cx="3425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ontier sci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4992840" y="1235160"/>
            <a:ext cx="4039920" cy="551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19"/>
          <p:cNvGrpSpPr/>
          <p:nvPr/>
        </p:nvGrpSpPr>
        <p:grpSpPr>
          <a:xfrm>
            <a:off x="5433840" y="1308240"/>
            <a:ext cx="3508560" cy="5355360"/>
            <a:chOff x="5433840" y="1308240"/>
            <a:chExt cx="3508560" cy="5355360"/>
          </a:xfrm>
        </p:grpSpPr>
        <p:grpSp>
          <p:nvGrpSpPr>
            <p:cNvPr id="68" name="Group 20"/>
            <p:cNvGrpSpPr/>
            <p:nvPr/>
          </p:nvGrpSpPr>
          <p:grpSpPr>
            <a:xfrm>
              <a:off x="5459760" y="1308240"/>
              <a:ext cx="1487880" cy="456840"/>
              <a:chOff x="5459760" y="1308240"/>
              <a:chExt cx="1487880" cy="456840"/>
            </a:xfrm>
          </p:grpSpPr>
          <p:pic>
            <p:nvPicPr>
              <p:cNvPr id="6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5459760" y="1308240"/>
                <a:ext cx="1487880" cy="45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Text Box 22"/>
              <p:cNvSpPr/>
              <p:nvPr/>
            </p:nvSpPr>
            <p:spPr>
              <a:xfrm>
                <a:off x="5557680" y="1427400"/>
                <a:ext cx="126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sk a question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5482440" y="1753920"/>
              <a:ext cx="1483200" cy="891360"/>
              <a:chOff x="5482440" y="1753920"/>
              <a:chExt cx="1483200" cy="891360"/>
            </a:xfrm>
          </p:grpSpPr>
          <p:pic>
            <p:nvPicPr>
              <p:cNvPr id="72" name="Picture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5482440" y="1753920"/>
                <a:ext cx="1483200" cy="89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Text Box 25"/>
              <p:cNvSpPr/>
              <p:nvPr/>
            </p:nvSpPr>
            <p:spPr>
              <a:xfrm>
                <a:off x="5525280" y="2157480"/>
                <a:ext cx="1335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o experiment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nd collect data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Group 26"/>
            <p:cNvGrpSpPr/>
            <p:nvPr/>
          </p:nvGrpSpPr>
          <p:grpSpPr>
            <a:xfrm>
              <a:off x="5486040" y="2635920"/>
              <a:ext cx="1483200" cy="954360"/>
              <a:chOff x="5486040" y="2635920"/>
              <a:chExt cx="1483200" cy="954360"/>
            </a:xfrm>
          </p:grpSpPr>
          <p:pic>
            <p:nvPicPr>
              <p:cNvPr id="75" name="Picture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5486040" y="2635920"/>
                <a:ext cx="1483200" cy="9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Text Box 28"/>
              <p:cNvSpPr/>
              <p:nvPr/>
            </p:nvSpPr>
            <p:spPr>
              <a:xfrm>
                <a:off x="5569200" y="2948760"/>
                <a:ext cx="12506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mulate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ypothesi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 explain data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29"/>
            <p:cNvGrpSpPr/>
            <p:nvPr/>
          </p:nvGrpSpPr>
          <p:grpSpPr>
            <a:xfrm>
              <a:off x="5482440" y="3522240"/>
              <a:ext cx="1483200" cy="960120"/>
              <a:chOff x="5482440" y="3522240"/>
              <a:chExt cx="1483200" cy="960120"/>
            </a:xfrm>
          </p:grpSpPr>
          <p:pic>
            <p:nvPicPr>
              <p:cNvPr id="78" name="Picture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440" y="3522240"/>
                <a:ext cx="1483200" cy="90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Text Box 31"/>
              <p:cNvSpPr/>
              <p:nvPr/>
            </p:nvSpPr>
            <p:spPr>
              <a:xfrm>
                <a:off x="5541840" y="3840840"/>
                <a:ext cx="1301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o more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xperiments to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est hypothesi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Group 32"/>
            <p:cNvGrpSpPr/>
            <p:nvPr/>
          </p:nvGrpSpPr>
          <p:grpSpPr>
            <a:xfrm>
              <a:off x="5433840" y="4405320"/>
              <a:ext cx="1531800" cy="909000"/>
              <a:chOff x="5433840" y="4405320"/>
              <a:chExt cx="1531800" cy="909000"/>
            </a:xfrm>
          </p:grpSpPr>
          <p:pic>
            <p:nvPicPr>
              <p:cNvPr id="81" name="Picture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5482440" y="4405320"/>
                <a:ext cx="1483200" cy="90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Text Box 34"/>
              <p:cNvSpPr/>
              <p:nvPr/>
            </p:nvSpPr>
            <p:spPr>
              <a:xfrm>
                <a:off x="5433840" y="4782600"/>
                <a:ext cx="1523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vise hypothesi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f necessary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35"/>
            <p:cNvGrpSpPr/>
            <p:nvPr/>
          </p:nvGrpSpPr>
          <p:grpSpPr>
            <a:xfrm>
              <a:off x="5453640" y="5294160"/>
              <a:ext cx="1512000" cy="1369440"/>
              <a:chOff x="5453640" y="5294160"/>
              <a:chExt cx="1512000" cy="1369440"/>
            </a:xfrm>
          </p:grpSpPr>
          <p:pic>
            <p:nvPicPr>
              <p:cNvPr id="84" name="Picture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5482440" y="5294160"/>
                <a:ext cx="1483200" cy="134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Text Box 37"/>
              <p:cNvSpPr/>
              <p:nvPr/>
            </p:nvSpPr>
            <p:spPr>
              <a:xfrm>
                <a:off x="5453640" y="5657040"/>
                <a:ext cx="14806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Well-tested and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cepted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hypothese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ecome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cientific theorie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38"/>
            <p:cNvGrpSpPr/>
            <p:nvPr/>
          </p:nvGrpSpPr>
          <p:grpSpPr>
            <a:xfrm>
              <a:off x="6912360" y="2090880"/>
              <a:ext cx="2030040" cy="1659240"/>
              <a:chOff x="6912360" y="2090880"/>
              <a:chExt cx="2030040" cy="1659240"/>
            </a:xfrm>
          </p:grpSpPr>
          <p:pic>
            <p:nvPicPr>
              <p:cNvPr id="87" name="Picture 39" descr=""/>
              <p:cNvPicPr/>
              <p:nvPr/>
            </p:nvPicPr>
            <p:blipFill>
              <a:blip r:embed="rId7"/>
              <a:stretch/>
            </p:blipFill>
            <p:spPr>
              <a:xfrm>
                <a:off x="6912360" y="2090880"/>
                <a:ext cx="2030040" cy="165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Text Box 40"/>
              <p:cNvSpPr/>
              <p:nvPr/>
            </p:nvSpPr>
            <p:spPr>
              <a:xfrm>
                <a:off x="7572960" y="2228040"/>
                <a:ext cx="1155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pret data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 Box 41"/>
              <p:cNvSpPr/>
              <p:nvPr/>
            </p:nvSpPr>
            <p:spPr>
              <a:xfrm>
                <a:off x="7450560" y="2924280"/>
                <a:ext cx="1398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Well-tested and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cepted pattern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n data become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cientific law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" name="Text Box 15"/>
          <p:cNvSpPr/>
          <p:nvPr/>
        </p:nvSpPr>
        <p:spPr>
          <a:xfrm>
            <a:off x="7743600" y="642924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3-2 p. 3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nections:  Matter and Energy Laws and Environmental Probl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-70560" y="1611360"/>
            <a:ext cx="733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-throughput (waste) econom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-67320" y="2525760"/>
            <a:ext cx="5769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tter-recycling econom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-71280" y="3441600"/>
            <a:ext cx="57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-throughput econom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3"/>
          <p:cNvSpPr/>
          <p:nvPr/>
        </p:nvSpPr>
        <p:spPr>
          <a:xfrm>
            <a:off x="5835600" y="43052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Solutions: Low-Throughput Econom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98520" y="1574280"/>
            <a:ext cx="4038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rning from N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7" descr="_x0008_0319.jpg 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2025720" y="2736720"/>
            <a:ext cx="7118280" cy="41212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7634160" y="6553080"/>
            <a:ext cx="15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3-19 p. 5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odels and Behavior of Syste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25600" y="1581120"/>
            <a:ext cx="2041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pu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27040" y="2838600"/>
            <a:ext cx="504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ws (throughput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24520" y="4095720"/>
            <a:ext cx="531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res (storage area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25960" y="5354640"/>
            <a:ext cx="2406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utpu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0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stem Regul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07520" y="1952640"/>
            <a:ext cx="4145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sitive Feedbac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27680" y="3029040"/>
            <a:ext cx="4324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gative Feedbac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19760" y="4176720"/>
            <a:ext cx="2876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ime Del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60440" y="5278320"/>
            <a:ext cx="2230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y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tter:  Forms, Structure, and Qualit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0" y="11606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98040" y="1735200"/>
            <a:ext cx="2632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em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719640" y="2670120"/>
            <a:ext cx="3252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696960" y="548496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lecu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736920" y="4513320"/>
            <a:ext cx="15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730440" y="3613320"/>
            <a:ext cx="2039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o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to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866960" y="1144440"/>
            <a:ext cx="5410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ubatomic Partic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06880" y="1903320"/>
            <a:ext cx="232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07600" y="2576520"/>
            <a:ext cx="2632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utr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06520" y="3249720"/>
            <a:ext cx="2690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527480" y="4176720"/>
            <a:ext cx="6087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tomic Characteristic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787320" y="4986360"/>
            <a:ext cx="405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948640" y="4987800"/>
            <a:ext cx="15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86600" y="5889600"/>
            <a:ext cx="340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949000" y="5889600"/>
            <a:ext cx="241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otop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">
            <a:hlinkClick r:id="rId1"/>
          </p:cNvPr>
          <p:cNvSpPr/>
          <p:nvPr/>
        </p:nvSpPr>
        <p:spPr>
          <a:xfrm>
            <a:off x="3792600" y="27306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tomic Particle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">
            <a:hlinkClick r:id="rId3"/>
          </p:cNvPr>
          <p:cNvSpPr/>
          <p:nvPr/>
        </p:nvSpPr>
        <p:spPr>
          <a:xfrm>
            <a:off x="6211800" y="2678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Atomic Mas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amples of Isotop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_x0008_0305.jpg                                                       0006E5CD&#9;ROCKETEER                      ABA78158:"/>
          <p:cNvPicPr/>
          <p:nvPr/>
        </p:nvPicPr>
        <p:blipFill>
          <a:blip r:embed="rId1"/>
          <a:stretch/>
        </p:blipFill>
        <p:spPr>
          <a:xfrm>
            <a:off x="743040" y="1190520"/>
            <a:ext cx="7718400" cy="56768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7197480" y="655308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3-5 p. 4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"/>
          <p:cNvSpPr/>
          <p:nvPr/>
        </p:nvSpPr>
        <p:spPr>
          <a:xfrm>
            <a:off x="6467400" y="3807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sotope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5680" y="14986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asures acidity or alkalinity of water s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ale 0 –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ids: 0 – 6.9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utral 7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kaline (Basic) 7.1 –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iLLuSioN</cp:lastModifiedBy>
  <dcterms:modified xsi:type="dcterms:W3CDTF">2009-08-27T03:10:39Z</dcterms:modified>
  <cp:revision>76</cp:revision>
  <dc:subject/>
  <dc:title>PowerPoint Presentation</dc:title>
</cp:coreProperties>
</file>