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813-E13F-4689-B728-831616A1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DD8-EF9F-4C1F-990B-05B94B4A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5C9-6C85-456B-BB54-3DBC5D06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B98-D129-46D9-BA7E-BA8610C4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6E6-1D1A-492F-8D1A-97F3E4CF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C77-678F-4CCB-BE80-20C8987E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1DA-3406-44E0-A2F9-D1556D03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D83-0058-4544-9EFB-B816BD0D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ACF-E93C-4E4F-880A-F52D99BF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11E-DC4C-4EF0-8E53-35F64D4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AC9-40D1-47BF-89EB-2BDFE218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8FD-E3A8-4AB5-B487-8169E641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8D06-BDE3-482D-B705-D21F460040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animations/atomic_particles.html" TargetMode="External"/><Relationship Id="rId2" Type="http://schemas.openxmlformats.org/officeDocument/2006/relationships/hyperlink" Target="file:///animations/atomic_particles.html" TargetMode="External"/><Relationship Id="rId3" Type="http://schemas.openxmlformats.org/officeDocument/2006/relationships/hyperlink" Target="file:///animations/mass_number.html" TargetMode="External"/><Relationship Id="rId4" Type="http://schemas.openxmlformats.org/officeDocument/2006/relationships/hyperlink" Target="file:///animations/mass_number.html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animations/isotopes.mo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Systems, Matter, and Energ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H of some common i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_x0008_0306.jpg                                                       001A8C0F_x0007_smeagol                        BB150139:"/>
          <p:cNvPicPr/>
          <p:nvPr/>
        </p:nvPicPr>
        <p:blipFill>
          <a:blip r:embed="rId1"/>
          <a:stretch/>
        </p:blipFill>
        <p:spPr>
          <a:xfrm>
            <a:off x="954000" y="1144440"/>
            <a:ext cx="7602480" cy="571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emical Bo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78280" y="1982880"/>
            <a:ext cx="476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formul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97720" y="3282840"/>
            <a:ext cx="315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c bo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8080" y="4624560"/>
            <a:ext cx="400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valent bo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5848200" y="3254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rganic Compou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13000" y="1346040"/>
            <a:ext cx="791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vs. inorganic compou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11560" y="2119320"/>
            <a:ext cx="376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carb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12280" y="2892600"/>
            <a:ext cx="640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lorinated hydrocarb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72040" y="5892840"/>
            <a:ext cx="346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12640" y="368928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carbohydr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12640" y="446076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lex carbohydr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73480" y="5133960"/>
            <a:ext cx="243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tic Materia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59360" y="1284120"/>
            <a:ext cx="346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19840" y="2054160"/>
            <a:ext cx="195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829040" y="211284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o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837680" y="1303200"/>
            <a:ext cx="373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Slide8"/>
          <p:cNvPicPr/>
          <p:nvPr/>
        </p:nvPicPr>
        <p:blipFill>
          <a:blip r:embed="rId1"/>
          <a:srcRect l="0" t="21942" r="0" b="31512"/>
          <a:stretch/>
        </p:blipFill>
        <p:spPr>
          <a:xfrm>
            <a:off x="0" y="2905200"/>
            <a:ext cx="9144000" cy="31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74" name="Text Box 11"/>
          <p:cNvSpPr/>
          <p:nvPr/>
        </p:nvSpPr>
        <p:spPr>
          <a:xfrm>
            <a:off x="3090600" y="6400800"/>
            <a:ext cx="343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pare Fig. 3-7 p. 4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Four States of Mat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8640" y="1738440"/>
            <a:ext cx="230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59000" y="2978280"/>
            <a:ext cx="266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qui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9000" y="4218120"/>
            <a:ext cx="204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9000" y="5459400"/>
            <a:ext cx="2782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s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tter Quality and Material Efficienc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8 p. 4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160" y="2021040"/>
            <a:ext cx="455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quality mat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800" y="3005280"/>
            <a:ext cx="445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quality mat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520" y="4021200"/>
            <a:ext cx="5136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erial efficienc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resource productivity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5464080" y="1192320"/>
            <a:ext cx="3182760" cy="5419080"/>
            <a:chOff x="5464080" y="1192320"/>
            <a:chExt cx="3182760" cy="5419080"/>
          </a:xfrm>
        </p:grpSpPr>
        <p:pic>
          <p:nvPicPr>
            <p:cNvPr id="192" name="Picture 10" descr="Slide9"/>
            <p:cNvPicPr/>
            <p:nvPr/>
          </p:nvPicPr>
          <p:blipFill>
            <a:blip r:embed="rId1"/>
            <a:srcRect l="15232" t="0" r="67803" b="0"/>
            <a:stretch/>
          </p:blipFill>
          <p:spPr>
            <a:xfrm>
              <a:off x="5464080" y="1192320"/>
              <a:ext cx="1219320" cy="54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1" descr="Slide9"/>
            <p:cNvPicPr/>
            <p:nvPr/>
          </p:nvPicPr>
          <p:blipFill>
            <a:blip r:embed="rId2"/>
            <a:srcRect l="47594" t="0" r="24748" b="0"/>
            <a:stretch/>
          </p:blipFill>
          <p:spPr>
            <a:xfrm>
              <a:off x="6658560" y="1192320"/>
              <a:ext cx="1988280" cy="541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19200"/>
            <a:ext cx="8229600" cy="454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finition: Capacity to do “work” and transfer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inet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ation: Energy &amp; 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326200" y="288288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lectromagnetic Spectru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_x0008_0309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0" y="2151000"/>
            <a:ext cx="9144000" cy="38847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7873920" y="65530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9 p. 4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ansfer of Heat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1 p. 4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11240" y="2239920"/>
            <a:ext cx="8921520" cy="367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98000" y="2338560"/>
            <a:ext cx="8783640" cy="3603960"/>
            <a:chOff x="198000" y="2338560"/>
            <a:chExt cx="8783640" cy="3603960"/>
          </a:xfrm>
        </p:grpSpPr>
        <p:pic>
          <p:nvPicPr>
            <p:cNvPr id="212" name="Picture 7" descr=""/>
            <p:cNvPicPr/>
            <p:nvPr/>
          </p:nvPicPr>
          <p:blipFill>
            <a:blip r:embed="rId1"/>
            <a:stretch/>
          </p:blipFill>
          <p:spPr>
            <a:xfrm>
              <a:off x="216720" y="2636640"/>
              <a:ext cx="280548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8" descr=""/>
            <p:cNvPicPr/>
            <p:nvPr/>
          </p:nvPicPr>
          <p:blipFill>
            <a:blip r:embed="rId2"/>
            <a:stretch/>
          </p:blipFill>
          <p:spPr>
            <a:xfrm>
              <a:off x="3233880" y="2636640"/>
              <a:ext cx="280548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9" descr=""/>
            <p:cNvPicPr/>
            <p:nvPr/>
          </p:nvPicPr>
          <p:blipFill>
            <a:blip r:embed="rId3"/>
            <a:stretch/>
          </p:blipFill>
          <p:spPr>
            <a:xfrm>
              <a:off x="6175800" y="2636640"/>
              <a:ext cx="280584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0"/>
            <p:cNvSpPr/>
            <p:nvPr/>
          </p:nvSpPr>
          <p:spPr>
            <a:xfrm>
              <a:off x="198000" y="2338560"/>
              <a:ext cx="114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vec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3133800" y="2338560"/>
              <a:ext cx="11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uc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6077880" y="233856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a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3319200" y="4023360"/>
              <a:ext cx="275796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t from a stove burner causes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s or molecules in the pan’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ttom to vibrate faster. The vibrating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s or molecules then collide with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arby atoms or molecules, causing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m to vibrate faster. Eventually,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lecules or atoms in the pan’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dle are vibrating so fast i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comes too hot to touch.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6252120" y="4082400"/>
              <a:ext cx="2684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 the water boils, heat from the hot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ve burner and pan radiate into th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rounding air, even though ai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ducts very little heat.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360720" y="4069800"/>
              <a:ext cx="273204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ting water in the bottom of a pa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uses some of the water to vaporiz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o bubbles. Because they are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hter than the surrounding water,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y rise. Water then sinks from the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to replace the rising bubbles.This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 and down movement (convection)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entually heats all of the water.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:  Qua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95400" y="1511280"/>
            <a:ext cx="3450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quality energy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95400" y="3332160"/>
            <a:ext cx="3492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-quality energy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8" descr="_x0008_0312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3541680" y="1182600"/>
            <a:ext cx="5599080" cy="5675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1"/>
          <p:cNvSpPr/>
          <p:nvPr/>
        </p:nvSpPr>
        <p:spPr>
          <a:xfrm>
            <a:off x="7835760" y="655308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2 p.4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27"/>
          <p:cNvSpPr/>
          <p:nvPr/>
        </p:nvSpPr>
        <p:spPr>
          <a:xfrm>
            <a:off x="4320" y="1501920"/>
            <a:ext cx="899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ience as a process for understand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3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2"/>
          <p:cNvSpPr/>
          <p:nvPr/>
        </p:nvSpPr>
        <p:spPr>
          <a:xfrm>
            <a:off x="6480" y="2287440"/>
            <a:ext cx="90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nents and regulation of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3"/>
          <p:cNvSpPr/>
          <p:nvPr/>
        </p:nvSpPr>
        <p:spPr>
          <a:xfrm>
            <a:off x="7200" y="3073320"/>
            <a:ext cx="828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mat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5"/>
          <p:cNvSpPr/>
          <p:nvPr/>
        </p:nvSpPr>
        <p:spPr>
          <a:xfrm>
            <a:off x="2160" y="5864400"/>
            <a:ext cx="803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ar changes and radioactiv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6"/>
          <p:cNvSpPr/>
          <p:nvPr/>
        </p:nvSpPr>
        <p:spPr>
          <a:xfrm>
            <a:off x="6120" y="4468680"/>
            <a:ext cx="8344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ener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69800"/>
            <a:ext cx="8229600" cy="24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hemical Changes or Reaction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328200" y="5958000"/>
            <a:ext cx="2487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In text p. 4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0" descr="&#9;03p47.jpg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412920" y="1362240"/>
            <a:ext cx="8426160" cy="45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Law of Conservation of Matter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78920" y="153180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is not destroyed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78200" y="2684520"/>
            <a:ext cx="625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only changes for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77120" y="3838680"/>
            <a:ext cx="624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is no “throw away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6791400" y="47084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ergy flo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tter and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63520" y="1434960"/>
            <a:ext cx="645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mical nature of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63520" y="2189160"/>
            <a:ext cx="344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64600" y="2943360"/>
            <a:ext cx="281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iste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62800" y="3699000"/>
            <a:ext cx="802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gradable (nonpersistent)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263520" y="4452840"/>
            <a:ext cx="554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degradable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263520" y="5207040"/>
            <a:ext cx="8618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owly degradable (persistent)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62800" y="5962680"/>
            <a:ext cx="569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degradable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uclear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1360" y="1386000"/>
            <a:ext cx="624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radioactive dec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62440" y="2128680"/>
            <a:ext cx="839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dioactive isotopes (radioisotope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63160" y="2873520"/>
            <a:ext cx="343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mma ray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62800" y="3618000"/>
            <a:ext cx="3946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pha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62080" y="4362480"/>
            <a:ext cx="360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ta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60640" y="5106960"/>
            <a:ext cx="545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lf lif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Table 3-2 p. 49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61720" y="5851440"/>
            <a:ext cx="454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zing ra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lf-lif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_x0008_0313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2544840" y="85680"/>
            <a:ext cx="6599160" cy="6678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7736400" y="642924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3, p. 4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dea of Half Life (not the vdo game)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0240" y="1893240"/>
            <a:ext cx="7643520" cy="393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Re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454040" y="1471680"/>
            <a:ext cx="170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518480" y="600552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5 p. 5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8" descr="Slide17"/>
          <p:cNvPicPr/>
          <p:nvPr/>
        </p:nvPicPr>
        <p:blipFill>
          <a:blip r:embed="rId1"/>
          <a:srcRect l="0" t="0" r="17524" b="0"/>
          <a:stretch/>
        </p:blipFill>
        <p:spPr>
          <a:xfrm>
            <a:off x="304920" y="2274840"/>
            <a:ext cx="3925800" cy="357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84" name="Text Box 4"/>
          <p:cNvSpPr/>
          <p:nvPr/>
        </p:nvSpPr>
        <p:spPr>
          <a:xfrm>
            <a:off x="6026400" y="1471680"/>
            <a:ext cx="164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351120" y="601992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6 p. 5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9" descr="Slide18"/>
          <p:cNvPicPr/>
          <p:nvPr/>
        </p:nvPicPr>
        <p:blipFill>
          <a:blip r:embed="rId2"/>
          <a:srcRect l="0" t="0" r="20185" b="0"/>
          <a:stretch/>
        </p:blipFill>
        <p:spPr>
          <a:xfrm>
            <a:off x="4938840" y="2220840"/>
            <a:ext cx="3849480" cy="361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87" name="Line 10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ws Governing Energy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39840" y="2335320"/>
            <a:ext cx="847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is neither created nor destroyed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338400" y="3421080"/>
            <a:ext cx="57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only changes for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37680" y="4506840"/>
            <a:ext cx="767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can’t get something for noth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-290160" y="1382760"/>
            <a:ext cx="97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First Law of Thermodynamics (Energy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1120320" y="5592600"/>
            <a:ext cx="690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ERGY IN = ENERGY OU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642000" y="32828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ergy stays the sam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5560" y="1046160"/>
            <a:ext cx="9104040" cy="4765680"/>
          </a:xfrm>
          <a:prstGeom prst="rect">
            <a:avLst/>
          </a:prstGeom>
          <a:ln w="0">
            <a:noFill/>
          </a:ln>
        </p:spPr>
      </p:pic>
      <p:sp>
        <p:nvSpPr>
          <p:cNvPr id="2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92560" y="209520"/>
            <a:ext cx="820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econd Law of Thermodynam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16080" y="3392640"/>
            <a:ext cx="847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every transformation, some energy is converted to he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3080" y="4470480"/>
            <a:ext cx="790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cannot break even in terms of energy qua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39800" y="1914480"/>
            <a:ext cx="1452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2138400" y="2824200"/>
            <a:ext cx="484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4183200" y="275256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8355240" y="274320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6356520" y="274788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951200" y="277884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3006360" y="1779120"/>
            <a:ext cx="17658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hotosynthesi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5297400" y="1812960"/>
            <a:ext cx="941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food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7428600" y="1744560"/>
            <a:ext cx="933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moving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nking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ving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and Critical Thinking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840" y="1636560"/>
            <a:ext cx="31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da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040" y="3240000"/>
            <a:ext cx="4769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(natural) law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1280" y="4843440"/>
            <a:ext cx="378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ensus sc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9840" y="4041720"/>
            <a:ext cx="3717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theor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9840" y="2438280"/>
            <a:ext cx="423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hypothe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200" y="5646600"/>
            <a:ext cx="3425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ontier sc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992840" y="1235160"/>
            <a:ext cx="4039920" cy="551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19"/>
          <p:cNvGrpSpPr/>
          <p:nvPr/>
        </p:nvGrpSpPr>
        <p:grpSpPr>
          <a:xfrm>
            <a:off x="5433840" y="1308240"/>
            <a:ext cx="3508560" cy="5355360"/>
            <a:chOff x="5433840" y="1308240"/>
            <a:chExt cx="3508560" cy="5355360"/>
          </a:xfrm>
        </p:grpSpPr>
        <p:grpSp>
          <p:nvGrpSpPr>
            <p:cNvPr id="68" name="Group 20"/>
            <p:cNvGrpSpPr/>
            <p:nvPr/>
          </p:nvGrpSpPr>
          <p:grpSpPr>
            <a:xfrm>
              <a:off x="5459760" y="1308240"/>
              <a:ext cx="1487880" cy="456840"/>
              <a:chOff x="5459760" y="1308240"/>
              <a:chExt cx="1487880" cy="456840"/>
            </a:xfrm>
          </p:grpSpPr>
          <p:pic>
            <p:nvPicPr>
              <p:cNvPr id="6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5459760" y="1308240"/>
                <a:ext cx="1487880" cy="4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22"/>
              <p:cNvSpPr/>
              <p:nvPr/>
            </p:nvSpPr>
            <p:spPr>
              <a:xfrm>
                <a:off x="5557680" y="1427400"/>
                <a:ext cx="126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k a ques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482440" y="1753920"/>
              <a:ext cx="1483200" cy="891360"/>
              <a:chOff x="5482440" y="1753920"/>
              <a:chExt cx="1483200" cy="891360"/>
            </a:xfrm>
          </p:grpSpPr>
          <p:pic>
            <p:nvPicPr>
              <p:cNvPr id="72" name="Pictur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2440" y="1753920"/>
                <a:ext cx="1483200" cy="89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25"/>
              <p:cNvSpPr/>
              <p:nvPr/>
            </p:nvSpPr>
            <p:spPr>
              <a:xfrm>
                <a:off x="5525280" y="2157480"/>
                <a:ext cx="1335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 experiment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d collect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26"/>
            <p:cNvGrpSpPr/>
            <p:nvPr/>
          </p:nvGrpSpPr>
          <p:grpSpPr>
            <a:xfrm>
              <a:off x="5486040" y="2635920"/>
              <a:ext cx="1483200" cy="954360"/>
              <a:chOff x="5486040" y="2635920"/>
              <a:chExt cx="1483200" cy="954360"/>
            </a:xfrm>
          </p:grpSpPr>
          <p:pic>
            <p:nvPicPr>
              <p:cNvPr id="75" name="Picture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5486040" y="2635920"/>
                <a:ext cx="1483200" cy="9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 Box 28"/>
              <p:cNvSpPr/>
              <p:nvPr/>
            </p:nvSpPr>
            <p:spPr>
              <a:xfrm>
                <a:off x="5569200" y="2948760"/>
                <a:ext cx="1250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mulat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 explain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29"/>
            <p:cNvGrpSpPr/>
            <p:nvPr/>
          </p:nvGrpSpPr>
          <p:grpSpPr>
            <a:xfrm>
              <a:off x="5482440" y="3522240"/>
              <a:ext cx="1483200" cy="960120"/>
              <a:chOff x="5482440" y="3522240"/>
              <a:chExt cx="1483200" cy="960120"/>
            </a:xfrm>
          </p:grpSpPr>
          <p:pic>
            <p:nvPicPr>
              <p:cNvPr id="78" name="Picture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440" y="3522240"/>
                <a:ext cx="1483200" cy="90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31"/>
              <p:cNvSpPr/>
              <p:nvPr/>
            </p:nvSpPr>
            <p:spPr>
              <a:xfrm>
                <a:off x="5541840" y="3840840"/>
                <a:ext cx="1301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 mor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eriments t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st 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32"/>
            <p:cNvGrpSpPr/>
            <p:nvPr/>
          </p:nvGrpSpPr>
          <p:grpSpPr>
            <a:xfrm>
              <a:off x="5433840" y="4405320"/>
              <a:ext cx="1531800" cy="909000"/>
              <a:chOff x="5433840" y="4405320"/>
              <a:chExt cx="1531800" cy="909000"/>
            </a:xfrm>
          </p:grpSpPr>
          <p:pic>
            <p:nvPicPr>
              <p:cNvPr id="81" name="Picture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5482440" y="4405320"/>
                <a:ext cx="1483200" cy="90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Text Box 34"/>
              <p:cNvSpPr/>
              <p:nvPr/>
            </p:nvSpPr>
            <p:spPr>
              <a:xfrm>
                <a:off x="5433840" y="4782600"/>
                <a:ext cx="1523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vise 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f necessary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35"/>
            <p:cNvGrpSpPr/>
            <p:nvPr/>
          </p:nvGrpSpPr>
          <p:grpSpPr>
            <a:xfrm>
              <a:off x="5453640" y="5294160"/>
              <a:ext cx="1512000" cy="1369440"/>
              <a:chOff x="5453640" y="5294160"/>
              <a:chExt cx="1512000" cy="1369440"/>
            </a:xfrm>
          </p:grpSpPr>
          <p:pic>
            <p:nvPicPr>
              <p:cNvPr id="84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2440" y="5294160"/>
                <a:ext cx="1483200" cy="134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Text Box 37"/>
              <p:cNvSpPr/>
              <p:nvPr/>
            </p:nvSpPr>
            <p:spPr>
              <a:xfrm>
                <a:off x="5453640" y="5657040"/>
                <a:ext cx="1480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ell-tested an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cepte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ypothes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ecom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cientific theori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38"/>
            <p:cNvGrpSpPr/>
            <p:nvPr/>
          </p:nvGrpSpPr>
          <p:grpSpPr>
            <a:xfrm>
              <a:off x="6912360" y="2090880"/>
              <a:ext cx="2030040" cy="1659240"/>
              <a:chOff x="6912360" y="2090880"/>
              <a:chExt cx="2030040" cy="1659240"/>
            </a:xfrm>
          </p:grpSpPr>
          <p:pic>
            <p:nvPicPr>
              <p:cNvPr id="87" name="Picture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6912360" y="2090880"/>
                <a:ext cx="2030040" cy="165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 Box 40"/>
              <p:cNvSpPr/>
              <p:nvPr/>
            </p:nvSpPr>
            <p:spPr>
              <a:xfrm>
                <a:off x="7572960" y="2228040"/>
                <a:ext cx="1155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pret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41"/>
              <p:cNvSpPr/>
              <p:nvPr/>
            </p:nvSpPr>
            <p:spPr>
              <a:xfrm>
                <a:off x="7450560" y="2924280"/>
                <a:ext cx="1398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ell-tested an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cepted pattern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 data becom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cientific law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Text Box 15"/>
          <p:cNvSpPr/>
          <p:nvPr/>
        </p:nvSpPr>
        <p:spPr>
          <a:xfrm>
            <a:off x="7743600" y="642924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2 p. 3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Matter and Energy Laws and Environmental Probl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-70560" y="1611360"/>
            <a:ext cx="733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throughput (waste)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-67320" y="2525760"/>
            <a:ext cx="576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ter-recycling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-71280" y="3441600"/>
            <a:ext cx="57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throughput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5835600" y="43052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Solutions: Low-Throughput Econom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8520" y="1574280"/>
            <a:ext cx="4038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rning from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7" descr="_x0008_0319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2025720" y="2736720"/>
            <a:ext cx="7118280" cy="41212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7634160" y="6553080"/>
            <a:ext cx="15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9 p. 5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dels and Behavior of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2560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27040" y="2838600"/>
            <a:ext cx="504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s (throughput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24520" y="4095720"/>
            <a:ext cx="531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es (storage are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25960" y="5354640"/>
            <a:ext cx="2406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pu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stem Regul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07520" y="1952640"/>
            <a:ext cx="414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27680" y="3029040"/>
            <a:ext cx="432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gative Feedbac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19760" y="4176720"/>
            <a:ext cx="2876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me Del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60440" y="5278320"/>
            <a:ext cx="2230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tter:  Forms, Structure, and Qual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98040" y="173520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719640" y="2670120"/>
            <a:ext cx="325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96960" y="548496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36920" y="4513320"/>
            <a:ext cx="15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730440" y="3613320"/>
            <a:ext cx="203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866960" y="1144440"/>
            <a:ext cx="54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batomic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06880" y="1903320"/>
            <a:ext cx="232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07600" y="257652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06520" y="3249720"/>
            <a:ext cx="2690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27480" y="4176720"/>
            <a:ext cx="608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tomic Characteris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87320" y="4986360"/>
            <a:ext cx="405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948640" y="4987800"/>
            <a:ext cx="15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86600" y="5889600"/>
            <a:ext cx="340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949000" y="5889600"/>
            <a:ext cx="241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">
            <a:hlinkClick r:id="rId1"/>
          </p:cNvPr>
          <p:cNvSpPr/>
          <p:nvPr/>
        </p:nvSpPr>
        <p:spPr>
          <a:xfrm>
            <a:off x="3792600" y="27306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tomic Particl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>
            <a:hlinkClick r:id="rId3"/>
          </p:cNvPr>
          <p:cNvSpPr/>
          <p:nvPr/>
        </p:nvSpPr>
        <p:spPr>
          <a:xfrm>
            <a:off x="6211800" y="2678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Atomic Mas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amples of Isotop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_x0008_0305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743040" y="1190520"/>
            <a:ext cx="7718400" cy="56768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97480" y="65530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5 p. 4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6467400" y="3807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sotop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680" y="14986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asures acidity or alkalinity of water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ale 0 –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ids: 0 – 6.9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utral 7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kaline (Basic) 7.1 –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08-27T03:10:39Z</dcterms:modified>
  <cp:revision>76</cp:revision>
  <dc:subject/>
  <dc:title>PowerPoint Presentation</dc:title>
</cp:coreProperties>
</file>