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56C-1307-49B2-A765-ADC1D4EA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1B4-8D8F-439E-BB5C-A6893ACA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420-8983-4C08-9072-9A5044BA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D5EF-8B90-45DC-979A-EF363BE5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DC3-5642-4E0C-9398-E1B7F714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12A-D33F-4C2E-97CA-4E034A4A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0DE-EB68-4D6C-B2BF-F9AEC6B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6D8-003D-4FE8-AFA9-DABCC1CC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B95-446A-457F-9E1A-EF9123F2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90D-1DC5-4FD9-982D-F0B726C4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0FF-0E65-4EC3-B98E-2DEF66C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37C-EFF5-41FA-9ED7-37802D3C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4060-0A36-44B4-9F4C-9116AD8C62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orldviews, Ethic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arth-Centered Environmental Worldview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984320"/>
            <a:ext cx="532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4600" y="3176640"/>
            <a:ext cx="8699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phasis on preserving functioning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280" y="4815000"/>
            <a:ext cx="7251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are part of ecological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isdom Worldview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0" y="1539720"/>
            <a:ext cx="588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s are part of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0" y="2268360"/>
            <a:ext cx="795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not in charge of the bio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59280"/>
            <a:ext cx="861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ve sustainably by mimicking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73600"/>
            <a:ext cx="8720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success depends on learning how Earth systems work and applying what we lea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0" y="5803920"/>
            <a:ext cx="329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ep ecolo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Living More Sustainabl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8200" y="1519200"/>
            <a:ext cx="6348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respect for al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520" y="3517920"/>
            <a:ext cx="8269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derstand our impacts on the bi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720" y="4297320"/>
            <a:ext cx="6180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critical think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" y="5057640"/>
            <a:ext cx="8045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valuate our worldviews and life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480" y="2320920"/>
            <a:ext cx="6348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derstand nature and apply the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960" y="5891040"/>
            <a:ext cx="7862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ive to make the world a better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Educ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1623960"/>
            <a:ext cx="840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re do things I consume come fr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60600"/>
            <a:ext cx="826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o I know about the place where I l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46600"/>
            <a:ext cx="8064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am I connected to the Earth and other living th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234040"/>
            <a:ext cx="8678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are my purpose and responsibility as a human be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jor Components of the Environmental Revolu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360" y="1695600"/>
            <a:ext cx="723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diversity protectio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360" y="2389320"/>
            <a:ext cx="470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7040" y="3124080"/>
            <a:ext cx="579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lar-hydroge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280" y="3879720"/>
            <a:ext cx="664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 protection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040" y="4613400"/>
            <a:ext cx="4907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fficiency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960" y="5262480"/>
            <a:ext cx="539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mographic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5520" y="5964120"/>
            <a:ext cx="72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 and politic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6960" y="1401840"/>
            <a:ext cx="667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-centered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5520" y="2303640"/>
            <a:ext cx="611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e-centered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4110120"/>
            <a:ext cx="78328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thical guidelines to work with the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800" y="5622840"/>
            <a:ext cx="58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more sustaina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880" y="3206880"/>
            <a:ext cx="6510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-centered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Worldviews in Industrial Societ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720" y="1668600"/>
            <a:ext cx="648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orld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720" y="2525760"/>
            <a:ext cx="49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vidual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0720" y="338292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160" y="4240080"/>
            <a:ext cx="4295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360" y="5097600"/>
            <a:ext cx="353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e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080" y="5954760"/>
            <a:ext cx="494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-cen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45320" y="6553080"/>
            <a:ext cx="15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28-2 p. 6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415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thical Principl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61840"/>
            <a:ext cx="81882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ivers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tilitaria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quenti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iv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ion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hi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2920" y="1477800"/>
            <a:ext cx="743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(utilitarian)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560" y="2776680"/>
            <a:ext cx="607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(inherent)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1840" y="4075200"/>
            <a:ext cx="662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throp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400" y="5375160"/>
            <a:ext cx="524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centric world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lanetary Management Worldview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00" y="1403280"/>
            <a:ext cx="8015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are the most important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3600" y="3022560"/>
            <a:ext cx="7061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age Earth for our bene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60" y="4032360"/>
            <a:ext cx="699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-consumer socie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00" y="5043600"/>
            <a:ext cx="835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e has 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ations on Planetary Manage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440" y="14032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-problem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440" y="23464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ee-market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4440" y="3290760"/>
            <a:ext cx="8580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ponsible planetary management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4440" y="484488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aceship-Earth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4440" y="5789520"/>
            <a:ext cx="80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ewardship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ife-Centered Environmental Worldview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6600" y="1738440"/>
            <a:ext cx="8289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should not cause the premature extinction of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600" y="3405240"/>
            <a:ext cx="8412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 species endangered by human activi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600" y="5073480"/>
            <a:ext cx="8493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 species because of their 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52:54Z</dcterms:modified>
  <cp:revision>58</cp:revision>
  <dc:subject/>
  <dc:title>PowerPoint Presentation</dc:title>
</cp:coreProperties>
</file>