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A8C-E449-4B43-A833-135C7BE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A51-6743-46F9-A332-0A851776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47C-6BDA-4F6C-A0E5-8E2A61A1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C75-ED8E-4832-B363-B81D2453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D28-A9CF-4F20-B71A-ADADDE9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878-7740-47A5-850E-B4934362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5A7-7032-43E3-868A-8F09BD7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9B8-3852-468D-A245-6F995076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5FC-A461-44FF-A64B-D27FBA1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7BC-DF8D-4E15-A50D-5B8AB0F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991-46A9-4C87-B738-A1CB579E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A5C-14EC-40E7-91B7-9ECFF6B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F58A-2532-4E19-B20F-52799533AE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, Ethic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arth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984320"/>
            <a:ext cx="532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4600" y="317664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hasis on preserving functioning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280" y="4815000"/>
            <a:ext cx="7251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part of ecolog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isdom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0" y="1539720"/>
            <a:ext cx="58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are part of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2268360"/>
            <a:ext cx="79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not in charge of the bi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9280"/>
            <a:ext cx="861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ve sustainably by mimicking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73600"/>
            <a:ext cx="8720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success depends on learning how Earth systems work and applying what we lea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0" y="5803920"/>
            <a:ext cx="329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ecolo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Living More Sustainabl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200" y="1519200"/>
            <a:ext cx="634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respect for al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520" y="3517920"/>
            <a:ext cx="8269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our impacts on the bi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720" y="4297320"/>
            <a:ext cx="6180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critical think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" y="5057640"/>
            <a:ext cx="8045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aluate our worldviews and life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480" y="2320920"/>
            <a:ext cx="6348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nature and apply the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960" y="5891040"/>
            <a:ext cx="7862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ve to make the world a better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duc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1623960"/>
            <a:ext cx="840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re do things I consume come fr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60600"/>
            <a:ext cx="826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I know about the place where I l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46600"/>
            <a:ext cx="8064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am I connected to the Earth and other living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234040"/>
            <a:ext cx="8678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re my purpose and responsibility as a human be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jor Components of the Environment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1695600"/>
            <a:ext cx="723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iversity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360" y="2389320"/>
            <a:ext cx="470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7040" y="312408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lar-hydroge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280" y="3879720"/>
            <a:ext cx="664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040" y="4613400"/>
            <a:ext cx="490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960" y="526248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graphic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5520" y="596412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politic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6960" y="1401840"/>
            <a:ext cx="667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2303640"/>
            <a:ext cx="611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110120"/>
            <a:ext cx="7832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al guidelines to work with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00" y="5622840"/>
            <a:ext cx="58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more sustaina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880" y="3206880"/>
            <a:ext cx="651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 in Industrial Societ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720" y="166860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720" y="2525760"/>
            <a:ext cx="49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720" y="338292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160" y="42400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60" y="50976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080" y="5954760"/>
            <a:ext cx="494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45320" y="6553080"/>
            <a:ext cx="15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8-2 p. 6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415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thical Principl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61840"/>
            <a:ext cx="81882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ver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tilitari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quenti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hi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920" y="1477800"/>
            <a:ext cx="74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(utilitarian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560" y="2776680"/>
            <a:ext cx="607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(inherent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1840" y="4075200"/>
            <a:ext cx="662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throp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400" y="5375160"/>
            <a:ext cx="524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netary Management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00" y="1403280"/>
            <a:ext cx="8015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the most important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3600" y="3022560"/>
            <a:ext cx="706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age Earth for our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60" y="4032360"/>
            <a:ext cx="699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-consumer socie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00" y="5043600"/>
            <a:ext cx="835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e has 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ations on Planetary Manage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440" y="14032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-problem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440" y="23464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-marke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440" y="3290760"/>
            <a:ext cx="8580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ponsible planetary managemen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440" y="48448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-Earth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440" y="578952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ewardship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ife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738440"/>
            <a:ext cx="8289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should not cause the premature extinction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600" y="3405240"/>
            <a:ext cx="8412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endangered by human activ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600" y="5073480"/>
            <a:ext cx="849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because of their 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54Z</dcterms:modified>
  <cp:revision>58</cp:revision>
  <dc:subject/>
  <dc:title>PowerPoint Presentation</dc:title>
</cp:coreProperties>
</file>