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03F-76F8-48D9-84A7-A3B2BB28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646-5528-4631-B639-F0E2DB6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44C-E2D6-4B05-BE28-C15EFD1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8CB-BD2E-43C2-86D5-72226F2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BB5-3220-40D7-A2DE-C1D11BF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F1F-6A23-4F7A-BE11-45A488A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AD1-B891-4B5F-B6FD-CA3ACE4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3E4-BD30-4787-95B6-F0D143D6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F88-B89F-445D-8987-1C92E23F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C35-6F7B-40F3-90ED-507B1CB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CCD-C163-4935-AAC9-848C0AB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62A-91DC-45F4-8552-EB47315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454-69FC-4A28-9201-6539099E2D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, Ethic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arth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984320"/>
            <a:ext cx="532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317664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hasis on preserving functioning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280" y="4815000"/>
            <a:ext cx="7251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part of ecolog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isdom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0" y="1539720"/>
            <a:ext cx="58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are part of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2268360"/>
            <a:ext cx="79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not in charge of the bi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9280"/>
            <a:ext cx="861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ve sustainably by mimicking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73600"/>
            <a:ext cx="8720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success depends on learning how Earth systems work and applying what we lea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0" y="5803920"/>
            <a:ext cx="329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ec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Living More Sustainabl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200" y="1519200"/>
            <a:ext cx="634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respect for al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520" y="3517920"/>
            <a:ext cx="8269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our impacts on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720" y="4297320"/>
            <a:ext cx="6180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critical think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" y="5057640"/>
            <a:ext cx="8045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our worldviews and life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2320920"/>
            <a:ext cx="6348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nature and apply the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" y="5891040"/>
            <a:ext cx="78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ve to make the world a better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duc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1623960"/>
            <a:ext cx="840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re do things I consume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60600"/>
            <a:ext cx="826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I know about the place where I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4660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m I connected to the Earth and other living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23404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my purpose and responsibility as a human be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jor Components of the Environment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1695600"/>
            <a:ext cx="723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iversity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360" y="238932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7040" y="312408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lar-hydroge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3879720"/>
            <a:ext cx="664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040" y="4613400"/>
            <a:ext cx="490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960" y="526248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graphic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596412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politic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6960" y="1401840"/>
            <a:ext cx="667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2303640"/>
            <a:ext cx="611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110120"/>
            <a:ext cx="7832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al guidelines to work with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00" y="5622840"/>
            <a:ext cx="58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more sustain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880" y="3206880"/>
            <a:ext cx="651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 in Industrial Societ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720" y="166860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720" y="2525760"/>
            <a:ext cx="49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720" y="338292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160" y="42400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60" y="50976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080" y="5954760"/>
            <a:ext cx="494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45320" y="6553080"/>
            <a:ext cx="15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8-2 p. 6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415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thical Principl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61840"/>
            <a:ext cx="81882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ver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tilitari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quenti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hi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920" y="1477800"/>
            <a:ext cx="74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(utilitarian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560" y="2776680"/>
            <a:ext cx="607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(inherent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4075200"/>
            <a:ext cx="662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throp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5375160"/>
            <a:ext cx="524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netary Management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00" y="1403280"/>
            <a:ext cx="8015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the most important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600" y="3022560"/>
            <a:ext cx="706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age Earth for our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60" y="4032360"/>
            <a:ext cx="699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-consumer socie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00" y="5043600"/>
            <a:ext cx="835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e has 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ations on Planetary Manage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032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-problem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440" y="23464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-marke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440" y="3290760"/>
            <a:ext cx="8580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ponsible planetary managemen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48448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-Earth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440" y="578952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ewardship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fe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738440"/>
            <a:ext cx="8289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should not cause the premature extinction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600" y="3405240"/>
            <a:ext cx="8412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endangered by human activ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600" y="5073480"/>
            <a:ext cx="849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because of their 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54Z</dcterms:modified>
  <cp:revision>58</cp:revision>
  <dc:subject/>
  <dc:title>PowerPoint Presentation</dc:title>
</cp:coreProperties>
</file>