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85D-3C2F-4D71-8755-B4B76FCE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8ED-C0BD-4B9B-B33A-625F405A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196-EEEF-4049-8369-A47DDE03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98E-3125-4361-ACEA-84869326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FA5-154D-48BD-B70E-15024721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22A-ADEF-485E-A0BE-BD169582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2E9-B3F3-47AF-824E-BAD62C3F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380-A7EB-4ED3-B96F-F5A13294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312-309F-4D1E-9926-D5004F6D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D5B-8A1A-4C2D-B930-C75ACB0A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A58-39D1-4ED8-AEB1-36AF773D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58A-1F85-40B0-B7BD-A84DDEF0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57F5-0434-4006-8855-21EB12B26F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litics, Environment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pponents of Environmental Groups and their Clai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76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atened by environmental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" y="2143080"/>
            <a:ext cx="903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ats to private property rights and jo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9113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cal and state governments resent unfunded federal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2292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sinesses and individuals resent complex and expensive federal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468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ew environmental regulations as unnecessary, ineffective and too c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lobal Environmental Polic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840" y="1500120"/>
            <a:ext cx="763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litary security, economic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6320" y="2571840"/>
            <a:ext cx="523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" y="3645000"/>
            <a:ext cx="8669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ational organizations and meet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6320" y="4718160"/>
            <a:ext cx="5569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ational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" y="5791320"/>
            <a:ext cx="6688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s of GATT and the W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0" y="1614600"/>
            <a:ext cx="887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mocracies and environmental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80" y="2552760"/>
            <a:ext cx="639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environment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606840"/>
            <a:ext cx="8799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groups and their op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" y="5068800"/>
            <a:ext cx="6468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lobal environmental poli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and Political Challe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24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0" y="1473120"/>
            <a:ext cx="704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s in environmental conce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06800"/>
            <a:ext cx="8798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0" y="3014640"/>
            <a:ext cx="437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 to global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0" y="3784680"/>
            <a:ext cx="678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climatic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20" y="4567320"/>
            <a:ext cx="8984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lution problems in developing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6019920"/>
            <a:ext cx="893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synthetic organic chem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60" y="5307120"/>
            <a:ext cx="5073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litics and Environmental Poli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4840" y="1424160"/>
            <a:ext cx="567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stitutional democ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2222640"/>
            <a:ext cx="8798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ranches of government with checks and bal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200" y="3571920"/>
            <a:ext cx="2406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200" y="4371840"/>
            <a:ext cx="51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al-interest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560" y="5172120"/>
            <a:ext cx="6153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fit-making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4480" y="5972040"/>
            <a:ext cx="8618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profit, nongovernment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Factors Hindering Democracies in Dealing with Environmental Probl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073240"/>
            <a:ext cx="8497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ort time between elections shift focus to short-term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971960"/>
            <a:ext cx="8666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iticians often lack ecological lite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511440"/>
            <a:ext cx="8780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ed officials spend much time raising money to be reelec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veloping, Influencing, and Implementing Environmental Poli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00" y="1515960"/>
            <a:ext cx="3463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ilit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" y="2085840"/>
            <a:ext cx="4034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versibilit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60" y="2685960"/>
            <a:ext cx="427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20" y="3286080"/>
            <a:ext cx="375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vention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60" y="3919680"/>
            <a:ext cx="412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luter Pays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0" y="4570560"/>
            <a:ext cx="3778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ativ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60" y="5202360"/>
            <a:ext cx="5151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blic Participation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5786280"/>
            <a:ext cx="432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an Rights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00" y="6326280"/>
            <a:ext cx="552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vironmental Justic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Environmental Policy in the United Sta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25760" y="1415880"/>
            <a:ext cx="5895720" cy="5424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89160" y="65502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7-4 p. 6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Law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0" y="1465200"/>
            <a:ext cx="3284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tory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0" y="2611440"/>
            <a:ext cx="3234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mon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40040" y="1463760"/>
            <a:ext cx="455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ministrative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9680" y="2611440"/>
            <a:ext cx="267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ivil sui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0" y="3732120"/>
            <a:ext cx="252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isa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9320" y="3732120"/>
            <a:ext cx="3984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ass action s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0" y="4844880"/>
            <a:ext cx="285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glig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0400" y="4797360"/>
            <a:ext cx="487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es of Limit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6480" y="5927760"/>
            <a:ext cx="238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LAPP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0" y="5916600"/>
            <a:ext cx="276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di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Groups and Clai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0760" y="1417680"/>
            <a:ext cx="462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ssroots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400" y="2243160"/>
            <a:ext cx="372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lobal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070080"/>
            <a:ext cx="6799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fic issue focus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95560"/>
            <a:ext cx="811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ise understanding or awareness of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1600" y="5256360"/>
            <a:ext cx="811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complish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32Z</dcterms:modified>
  <cp:revision>76</cp:revision>
  <dc:subject/>
  <dc:title>PowerPoint Presentation</dc:title>
</cp:coreProperties>
</file>