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2D3-D3D0-4CEA-B008-63C45A29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3FA-1644-4E30-86A8-AAEEA96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50A-D4D4-4EDA-8914-D9C39A17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14E-77B8-42F6-BBDC-FDC887F6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9E6-9975-45C1-94B3-8C6449DB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344-7EA6-4657-BD35-75B4A24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86A-46F5-4AF8-B376-FFC7ACF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B6E-348D-49EC-8EC4-AF6FABB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B63-044D-4118-BC0A-F4449B2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20B-0A1B-45D3-8F45-B4B54BF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495-3269-4146-A792-A5B86FF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3FF-63D2-462E-8716-EF7459E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DB8-467C-48EE-9635-C55E27EA5F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, Environment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pponents of Environmental Groups and their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6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ened by environment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143080"/>
            <a:ext cx="903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ats to private property rights and jo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11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l and state governments resent unfunded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29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es and individuals resent complex and expensive federal reg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46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ew environmental regulations as unnecessary, ineffective and too c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Environment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840" y="1500120"/>
            <a:ext cx="76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litary security, economic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320" y="2571840"/>
            <a:ext cx="523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" y="3645000"/>
            <a:ext cx="866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organizations an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6320" y="4718160"/>
            <a:ext cx="556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5791320"/>
            <a:ext cx="66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GATT and the W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0" y="1614600"/>
            <a:ext cx="887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cracies and environmental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2552760"/>
            <a:ext cx="639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environment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6840"/>
            <a:ext cx="87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vironmental groups and their op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5068800"/>
            <a:ext cx="6468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lobal environmental poli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and Political Challe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24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473120"/>
            <a:ext cx="704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s in environmental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6800"/>
            <a:ext cx="879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" y="3014640"/>
            <a:ext cx="43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to glob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0" y="3784680"/>
            <a:ext cx="678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cli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0" y="4567320"/>
            <a:ext cx="898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blems in developing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6019920"/>
            <a:ext cx="893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synthetic organic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307120"/>
            <a:ext cx="507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over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litics and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40" y="1424160"/>
            <a:ext cx="567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itutional democ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2222640"/>
            <a:ext cx="8798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anches of government with checks and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00" y="3571920"/>
            <a:ext cx="2406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200" y="4371840"/>
            <a:ext cx="51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al-interest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560" y="5172120"/>
            <a:ext cx="6153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it-making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480" y="5972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profit, nongovernment organiz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actors Hindering Democracies in Dealing with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7324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rt time between elections shift focus to short-term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971960"/>
            <a:ext cx="866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iticians often lack ecological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511440"/>
            <a:ext cx="8780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ed officials spend much time raising money to be reel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ing, Influencing, and Implementing Environmental Polic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1515960"/>
            <a:ext cx="346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2085840"/>
            <a:ext cx="403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il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" y="2685960"/>
            <a:ext cx="427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20" y="3286080"/>
            <a:ext cx="375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ven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" y="3919680"/>
            <a:ext cx="412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luter Pay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4570560"/>
            <a:ext cx="377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iv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0" y="5202360"/>
            <a:ext cx="515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Participat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5786280"/>
            <a:ext cx="43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Right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0" y="6326280"/>
            <a:ext cx="552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al Justic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Environmental Policy in the United Stat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5760" y="1415880"/>
            <a:ext cx="5895720" cy="542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89160" y="6550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7-4 p. 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Law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1465200"/>
            <a:ext cx="3284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tory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" y="2611440"/>
            <a:ext cx="323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on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0040" y="146376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ministrative la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9680" y="2611440"/>
            <a:ext cx="267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vil su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3732120"/>
            <a:ext cx="252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is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9320" y="3732120"/>
            <a:ext cx="398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ss action s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4844880"/>
            <a:ext cx="285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lig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0400" y="4797360"/>
            <a:ext cx="487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es of Limi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6480" y="5927760"/>
            <a:ext cx="238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APP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5916600"/>
            <a:ext cx="276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Groups and Clai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760" y="1417680"/>
            <a:ext cx="462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ssroot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2243160"/>
            <a:ext cx="372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70080"/>
            <a:ext cx="67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fic issue focus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95560"/>
            <a:ext cx="811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ise understanding or awareness of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5256360"/>
            <a:ext cx="811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32Z</dcterms:modified>
  <cp:revision>76</cp:revision>
  <dc:subject/>
  <dc:title>PowerPoint Presentation</dc:title>
</cp:coreProperties>
</file>