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182-1342-4079-B5AE-73E0CC9C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241-3290-4264-8511-F11F0E4A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DCC-E434-45D2-9F70-7F48D7A6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D3C-FAA7-4123-80F6-11299AD5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238-17E5-478C-82B2-7225DB13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D82-51F1-45FA-9D7A-4DCFAFC8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CBB-BD9A-4840-847B-A3EB4A65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A6C-E5C5-423C-91AD-90099392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A95-FAF5-4B4C-B2AA-8F12C5B3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B2B-99E2-4C90-986B-76C81242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14A-1E27-4092-ACC3-C78A21A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D08-A928-4646-A154-B5F82FC3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1139-05C3-4F62-B6C7-74B5338704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litics, Environment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pponents of Environmental Groups and their Clai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6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atened by environment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" y="2143080"/>
            <a:ext cx="903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ats to private property rights and jo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113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cal and state governments resent unfunded feder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292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sinesses and individuals resent complex and expensive feder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468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ew environmental regulations as unnecessary, ineffective and too c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lobal Environmental Polic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840" y="1500120"/>
            <a:ext cx="763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litary security, economic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6320" y="2571840"/>
            <a:ext cx="523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" y="3645000"/>
            <a:ext cx="8669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organizations and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6320" y="4718160"/>
            <a:ext cx="556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" y="5791320"/>
            <a:ext cx="668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s of GATT and the W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614600"/>
            <a:ext cx="887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mocracies and environmental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2552760"/>
            <a:ext cx="639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environment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06840"/>
            <a:ext cx="8799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groups and their op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5068800"/>
            <a:ext cx="6468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lobal environmental poli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and Political Challe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24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1473120"/>
            <a:ext cx="704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s in environmental conce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06800"/>
            <a:ext cx="879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0" y="3014640"/>
            <a:ext cx="437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 to global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0" y="3784680"/>
            <a:ext cx="678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climati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20" y="4567320"/>
            <a:ext cx="8984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 problems in developing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6019920"/>
            <a:ext cx="893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synthetic organic chem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60" y="5307120"/>
            <a:ext cx="5073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litics and Environmental Poli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840" y="1424160"/>
            <a:ext cx="567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stitutional democ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2222640"/>
            <a:ext cx="8798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ranches of government with checks and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200" y="3571920"/>
            <a:ext cx="2406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4371840"/>
            <a:ext cx="51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al-interest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560" y="5172120"/>
            <a:ext cx="6153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it-making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4480" y="5972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profit, nongovernment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Factors Hindering Democracies in Dealing with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73240"/>
            <a:ext cx="8497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ort time between elections shift focus to short-term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971960"/>
            <a:ext cx="8666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iticians often lack ecological lite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511440"/>
            <a:ext cx="8780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ed officials spend much time raising money to be reele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veloping, Influencing, and Implementing Environmental Poli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1515960"/>
            <a:ext cx="346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il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" y="2085840"/>
            <a:ext cx="4034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ersibil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0" y="2685960"/>
            <a:ext cx="427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20" y="3286080"/>
            <a:ext cx="375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ventio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60" y="3919680"/>
            <a:ext cx="412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luter Pay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0" y="4570560"/>
            <a:ext cx="377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iv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60" y="5202360"/>
            <a:ext cx="5151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blic Participatio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5786280"/>
            <a:ext cx="432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an Right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00" y="6326280"/>
            <a:ext cx="552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vironmental Justic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Environmental Policy in the United Sta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25760" y="1415880"/>
            <a:ext cx="5895720" cy="542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89160" y="65502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7-4 p. 6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Law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1465200"/>
            <a:ext cx="3284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tory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" y="2611440"/>
            <a:ext cx="323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mon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40040" y="1463760"/>
            <a:ext cx="455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ministrative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9680" y="2611440"/>
            <a:ext cx="267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ivil sui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" y="3732120"/>
            <a:ext cx="252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isa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9320" y="3732120"/>
            <a:ext cx="398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ass action s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0" y="4844880"/>
            <a:ext cx="285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lig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0400" y="4797360"/>
            <a:ext cx="487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es of Limit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6480" y="5927760"/>
            <a:ext cx="238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APP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" y="5916600"/>
            <a:ext cx="276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di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Groups and Clai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0760" y="1417680"/>
            <a:ext cx="462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ssroots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2243160"/>
            <a:ext cx="372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loba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70080"/>
            <a:ext cx="6799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fic issue focus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95560"/>
            <a:ext cx="811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ise understanding or awareness of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1600" y="5256360"/>
            <a:ext cx="811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32Z</dcterms:modified>
  <cp:revision>76</cp:revision>
  <dc:subject/>
  <dc:title>PowerPoint Presentation</dc:title>
</cp:coreProperties>
</file>