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01C-86C3-4040-A9A4-57F77FD0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590-B162-477D-A032-BAFEEBEF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7C3-6053-4F78-9208-256A50C1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1FD-ABE4-44B0-9945-03208DB8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3AF-D2F8-487F-88CA-774783F2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AC4-F247-498F-9806-7DA87C4A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636-779E-45A6-95EB-2B3BD5BF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973-F1C9-4A79-B8B5-6319E19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3E7-444C-4AC7-ADE0-5A2143CF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678-23A7-4836-9F79-D7863951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9A2-5984-4F68-8B88-5343C9BD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DB7-DDD7-4400-8B2F-99FDCD4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6E4E-B023-4283-9BAB-5EE2E3F55F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nomics, Environment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rmful External Costs and Full-Cost Pric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440" y="1838160"/>
            <a:ext cx="358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al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720" y="2840040"/>
            <a:ext cx="3693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ernal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7440" y="3841920"/>
            <a:ext cx="434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ernal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60" y="4843440"/>
            <a:ext cx="798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nd negative externa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080" y="5845320"/>
            <a:ext cx="420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ll-cost pr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mproving Environmental Quality and Shifting to Full-Cost Pric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59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800" y="1639800"/>
            <a:ext cx="797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vernment subsidies and tax br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421000"/>
            <a:ext cx="901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en taxes (trade-offs: Fig. 26-9 p. 59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600" y="3201840"/>
            <a:ext cx="578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tax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520" y="3983040"/>
            <a:ext cx="6764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ovation-friendly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880" y="4764240"/>
            <a:ext cx="898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dable pollution and resource-use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600" y="5546880"/>
            <a:ext cx="338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ket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adable Environmental Permits: Trade-of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59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9816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12 p. 5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11280" y="1512720"/>
            <a:ext cx="6154920" cy="534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ducing Poverty to Improve Environmental Quality and Human Well-Being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0" y="1477800"/>
            <a:ext cx="215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19400"/>
            <a:ext cx="4572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mature death and health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060800"/>
            <a:ext cx="4408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impact of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6095880"/>
            <a:ext cx="474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or help themsel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35320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the World Ba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1415880"/>
            <a:ext cx="4716360" cy="4105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88800" y="552780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14 p. 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king the Transition to Environmentally Sustainable Economi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040" y="1873080"/>
            <a:ext cx="714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mic natur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" y="2855880"/>
            <a:ext cx="405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nset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5720" y="3902040"/>
            <a:ext cx="518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friendly busi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160" y="4888080"/>
            <a:ext cx="576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 public a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95152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p. 601-6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0" y="1373040"/>
            <a:ext cx="584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ypes of econom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2043000"/>
            <a:ext cx="800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s and resour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640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nitoring economic and environmental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14640"/>
            <a:ext cx="488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ll-cost pri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59400"/>
            <a:ext cx="8282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ing to environmentally sustainable econom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60" y="4730760"/>
            <a:ext cx="675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 and reduction of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nomic Resourc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760" y="1627200"/>
            <a:ext cx="223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5240" y="3745080"/>
            <a:ext cx="445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9640" y="2664000"/>
            <a:ext cx="4510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4799160"/>
            <a:ext cx="462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840" y="1319040"/>
            <a:ext cx="83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re free-market economic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2120" y="221940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mand, supply and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760" y="3119400"/>
            <a:ext cx="744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ket price equilibrium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680" y="4019400"/>
            <a:ext cx="659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ginal costs and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" y="4919760"/>
            <a:ext cx="42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ce inelast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840" y="5819760"/>
            <a:ext cx="859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vernment involvement in mark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eoclassical vs. Ecological Economi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6800" y="20462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ing views of natur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ing views on economic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ive property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-econom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82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Economic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425" t="0" r="21713" b="0"/>
          <a:stretch/>
        </p:blipFill>
        <p:spPr>
          <a:xfrm>
            <a:off x="1784520" y="1295280"/>
            <a:ext cx="55530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4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4 p. 5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908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021120"/>
            <a:ext cx="40496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ly sustainable economic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7080" y="1417680"/>
            <a:ext cx="2451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nom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8356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6-5 p. 5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67120" y="1173240"/>
            <a:ext cx="5257800" cy="568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s of Pollution Contro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880" y="1876320"/>
            <a:ext cx="648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timum level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7040" y="3218040"/>
            <a:ext cx="666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st-benefit analysis (CB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320" y="45846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 taxes and f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nitoring Environmental Progres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20" y="1676520"/>
            <a:ext cx="732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GD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0" y="2548080"/>
            <a:ext cx="404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20" y="3441600"/>
            <a:ext cx="826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mits of GDP and Per capita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0" y="4371840"/>
            <a:ext cx="792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uine progress indicator (GP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0" y="5264280"/>
            <a:ext cx="920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x of Sustainable Economic Welf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20" y="6156360"/>
            <a:ext cx="776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erials balance measu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20Z</dcterms:modified>
  <cp:revision>84</cp:revision>
  <dc:subject/>
  <dc:title>PowerPoint Presentation</dc:title>
</cp:coreProperties>
</file>