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535-378C-485A-A4D3-62800334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8F1-CDDC-4817-838D-B9C61E31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351-8CB9-4D23-B22F-B80A316A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33C-23B8-4D5E-B7B3-2BBBFD64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E02-9F61-4117-A4B1-E6CDCDD6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BBA-4D7E-44F0-9B5C-5956A221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D5B-9850-45B2-804B-48EBD042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889-CED0-40A4-BB5B-283A48C2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B8A-F736-42F3-97BD-C637BEBE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1FA-3FC5-4DB2-AE08-20322ADB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9B1-C436-466D-B52B-BFA13BAD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D97-D052-4F49-B3A8-5E634358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0E0D-3ED6-4834-9A31-C550EFFB28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nomics, Environment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rmful External Costs and Full-Cost Pric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440" y="1838160"/>
            <a:ext cx="358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al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720" y="2840040"/>
            <a:ext cx="3693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ernal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7440" y="3841920"/>
            <a:ext cx="434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ernal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60" y="4843440"/>
            <a:ext cx="798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itive and negative externa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080" y="5845320"/>
            <a:ext cx="420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ll-cost pr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mproving Environmental Quality and Shifting to Full-Cost Pric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59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800" y="1639800"/>
            <a:ext cx="797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vernment subsidies and tax br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2421000"/>
            <a:ext cx="901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en taxes (trade-offs: Fig. 26-9 p. 59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600" y="3201840"/>
            <a:ext cx="578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tax r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520" y="3983040"/>
            <a:ext cx="6764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ovation-friendly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880" y="4764240"/>
            <a:ext cx="898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dable pollution and resource-use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600" y="5546880"/>
            <a:ext cx="338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ket fo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adable Environmental Permits: Trade-of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459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9816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12 p. 5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11280" y="1512720"/>
            <a:ext cx="6154920" cy="534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ducing Poverty to Improve Environmental Quality and Human Well-Being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20" y="1477800"/>
            <a:ext cx="215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19400"/>
            <a:ext cx="4572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mature death and health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060800"/>
            <a:ext cx="4408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impact of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6095880"/>
            <a:ext cx="4743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or help themsel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35320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 of the World Ba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1415880"/>
            <a:ext cx="4716360" cy="4105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588800" y="55278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14 p. 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king the Transition to Environmentally Sustainable Economi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040" y="1873080"/>
            <a:ext cx="714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mic natura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" y="2855880"/>
            <a:ext cx="405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nset busi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5720" y="3902040"/>
            <a:ext cx="518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-friendly busi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7160" y="4888080"/>
            <a:ext cx="576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 public awar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95152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e Stud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p. 601-6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0" y="1373040"/>
            <a:ext cx="584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ypes of economic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2043000"/>
            <a:ext cx="800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nomics and resourc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6640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nitoring economic and environmental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914640"/>
            <a:ext cx="488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ll-cost pric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59400"/>
            <a:ext cx="8282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ing to environmentally sustainable econom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60" y="4730760"/>
            <a:ext cx="675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 and reduction of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nomic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2760" y="1627200"/>
            <a:ext cx="223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5240" y="3745080"/>
            <a:ext cx="445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9640" y="2664000"/>
            <a:ext cx="4510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4799160"/>
            <a:ext cx="462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840" y="1319040"/>
            <a:ext cx="834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re free-market economic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2120" y="221940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mand, supply and p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760" y="3119400"/>
            <a:ext cx="744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ket price equilibrium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680" y="4019400"/>
            <a:ext cx="659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ginal costs and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8160" y="4919760"/>
            <a:ext cx="422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ce inelast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2840" y="5819760"/>
            <a:ext cx="859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vernment involvement in mark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eoclassical vs. Ecological Economi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6800" y="20462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ing views of natur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ing views on economic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ive property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-econom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82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Economic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3425" t="0" r="21713" b="0"/>
          <a:stretch/>
        </p:blipFill>
        <p:spPr>
          <a:xfrm>
            <a:off x="1784520" y="1295280"/>
            <a:ext cx="555300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4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4 p. 5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908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021120"/>
            <a:ext cx="40496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vironmentally sustainable economic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7080" y="1417680"/>
            <a:ext cx="2451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nomic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8356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5 p. 5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67120" y="1173240"/>
            <a:ext cx="5257800" cy="568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s of Pollution Contro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880" y="1876320"/>
            <a:ext cx="648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timum level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7040" y="3218040"/>
            <a:ext cx="666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st-benefit analysis (CB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320" y="4584600"/>
            <a:ext cx="5101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 taxes and f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nitoring Environmental Progres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20" y="1676520"/>
            <a:ext cx="732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GD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0" y="2548080"/>
            <a:ext cx="4040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20" y="3441600"/>
            <a:ext cx="8269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mits of GDP and Per capita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0" y="4371840"/>
            <a:ext cx="792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uine progress indicator (GP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20" y="5264280"/>
            <a:ext cx="920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x of Sustainable Economic Welf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20" y="6156360"/>
            <a:ext cx="776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erials balance measu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20Z</dcterms:modified>
  <cp:revision>84</cp:revision>
  <dc:subject/>
  <dc:title>PowerPoint Presentation</dc:title>
</cp:coreProperties>
</file>