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C18-4A95-4DAD-8912-110E9D74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46B-4AC8-4DFF-B44C-B7DEFD50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BB4-F884-480F-A151-0960CCD5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22B-0F16-488D-92D7-0FA727D9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1DF-7C0C-4BC6-ADBC-684FCCAF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827-CDEB-4D2A-A5B2-A04EA0CB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DBC-ECA1-46D7-B7E1-3D0886A3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0F2-6D2C-4B52-ACD7-A78C0AF3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5B2-8FF8-4A06-9F23-5326C2BD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46E-58E0-4885-A5DD-98AF5BE4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2423-BBE0-487A-A98B-DF407A36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1AD-3B0E-4757-865A-D29EC8C1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10FF-3A10-4668-A584-5EE2277B6F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conomics, Environment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armful External Costs and Full-Cost Pricing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7440" y="1838160"/>
            <a:ext cx="358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nal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6720" y="2840040"/>
            <a:ext cx="3693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ernal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7440" y="3841920"/>
            <a:ext cx="434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ernal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360" y="4843440"/>
            <a:ext cx="798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sitive and negative externa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080" y="5845320"/>
            <a:ext cx="420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ull-cost pr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mproving Environmental Quality and Shifting to Full-Cost Pricing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59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800" y="1639800"/>
            <a:ext cx="7972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overnment subsidies and tax br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7080" y="2421000"/>
            <a:ext cx="901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en taxes (trade-offs: Fig. 26-9 p. 59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600" y="3201840"/>
            <a:ext cx="5784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tax re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8520" y="3983040"/>
            <a:ext cx="6764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novation-friendly reg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8880" y="4764240"/>
            <a:ext cx="8985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dable pollution and resource-use r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600" y="5546880"/>
            <a:ext cx="338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rket fo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radable Environmental Permits: Trade-off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459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9816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6-12 p. 5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11280" y="1512720"/>
            <a:ext cx="6154920" cy="534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ducing Poverty to Improve Environmental Quality and Human Well-Being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20" y="1477800"/>
            <a:ext cx="215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219400"/>
            <a:ext cx="4572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mature death and health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060800"/>
            <a:ext cx="44085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impact of pov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60" y="6095880"/>
            <a:ext cx="4743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or help themsel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353200"/>
            <a:ext cx="822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le of the World Ba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27640" y="1415880"/>
            <a:ext cx="4716360" cy="4105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588800" y="55278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6-14 p. 5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king the Transition to Environmentally Sustainable Economi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040" y="1873080"/>
            <a:ext cx="714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mic natural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" y="2855880"/>
            <a:ext cx="405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nset busin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5720" y="3902040"/>
            <a:ext cx="5189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-friendly busin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7160" y="4888080"/>
            <a:ext cx="5761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e public awar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95152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e Study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p. 601-6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0" y="1373040"/>
            <a:ext cx="584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ypes of economic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60" y="2043000"/>
            <a:ext cx="800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nomics and resource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66400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nitoring economic and environmental 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914640"/>
            <a:ext cx="488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ll-cost pric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459400"/>
            <a:ext cx="8282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ifting to environmentally sustainable econom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60" y="4730760"/>
            <a:ext cx="6750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 and reduction of pov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conomic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2760" y="1627200"/>
            <a:ext cx="2239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p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5240" y="3745080"/>
            <a:ext cx="445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9640" y="2664000"/>
            <a:ext cx="4510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0720" y="4799160"/>
            <a:ext cx="4624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sical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Syst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2840" y="1319040"/>
            <a:ext cx="834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re free-market economic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2120" y="2219400"/>
            <a:ext cx="632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mand, supply and pr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1760" y="3119400"/>
            <a:ext cx="7442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rket price equilibrium 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680" y="4019400"/>
            <a:ext cx="6599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rginal costs and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8160" y="4919760"/>
            <a:ext cx="422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ce inelasti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2840" y="5819760"/>
            <a:ext cx="8598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vernment involvement in mark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eoclassical vs. Ecological Economi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6800" y="20462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ering views of natura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ering views on economic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ive property r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-econom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82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Economic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3425" t="0" r="21713" b="0"/>
          <a:stretch/>
        </p:blipFill>
        <p:spPr>
          <a:xfrm>
            <a:off x="1784520" y="1295280"/>
            <a:ext cx="555300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74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6-4 p. 5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908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021120"/>
            <a:ext cx="404964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vironmentally sustainable economic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7080" y="1417680"/>
            <a:ext cx="24512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nomic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8356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6-5 p. 5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67120" y="1173240"/>
            <a:ext cx="5257800" cy="568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s of Pollution Contro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880" y="1876320"/>
            <a:ext cx="648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ptimum level of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7040" y="3218040"/>
            <a:ext cx="666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st-benefit analysis (CB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4320" y="4584600"/>
            <a:ext cx="5101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en taxes and f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onitoring Environmental Progres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20" y="1676520"/>
            <a:ext cx="7328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domestic product (GD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0" y="2548080"/>
            <a:ext cx="4040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capita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20" y="3441600"/>
            <a:ext cx="8269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mits of GDP and Per capita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20" y="4371840"/>
            <a:ext cx="792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uine progress indicator (GP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20" y="5264280"/>
            <a:ext cx="920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ex of Sustainable Economic Welf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20" y="6156360"/>
            <a:ext cx="776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erials balance measur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52:20Z</dcterms:modified>
  <cp:revision>84</cp:revision>
  <dc:subject/>
  <dc:title>PowerPoint Presentation</dc:title>
</cp:coreProperties>
</file>