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A47-ADD4-4F74-9E94-8745266A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0018-BDA6-4374-9D2E-A1F9EB85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DEF-FF8A-4A7F-901D-F4656A5F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280B-87FD-4DDA-96B4-6E30F8A9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6038-2F73-4901-8030-BB632D7B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D6E-0C44-41B9-B68B-495CE609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479-4C9E-4031-AB34-44E93563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E8E-4E75-4A3D-95BE-C24BC338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F1F-FA09-4F2D-8CA3-4E1F5C74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E45-B959-4737-96A4-85B2F054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9C9-73BE-4136-B42B-18870D6C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F62-DD01-4B10-AEE9-536937C7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98D8-225B-4078-AE5C-B0F26F8CEB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stainable Cit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rban Poor in Developing Countr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42840"/>
            <a:ext cx="8229600" cy="442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lu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quatter sett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antytow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llegal sett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verty and unem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44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ransportation and Urban Developmen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2240" y="1380960"/>
            <a:ext cx="445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vidual trans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9360" y="2368440"/>
            <a:ext cx="3903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ss trans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520" y="3398760"/>
            <a:ext cx="199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s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1320" y="4486320"/>
            <a:ext cx="2070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2600" y="5437080"/>
            <a:ext cx="4203720" cy="106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utomobile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Se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/Con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572-57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rban Land-Use Planning and Control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" y="1803240"/>
            <a:ext cx="4708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nd-use 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0" y="2506680"/>
            <a:ext cx="380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perty 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00" y="3263760"/>
            <a:ext cx="230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00" y="4003560"/>
            <a:ext cx="3661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mart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0" y="4737240"/>
            <a:ext cx="596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rban growth bound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0" y="6156360"/>
            <a:ext cx="844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uster developmen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See Fig. 25-18 p. 5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80" y="5419800"/>
            <a:ext cx="3126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enbel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Greenbelt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5-17 p. 5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54080" y="1414440"/>
            <a:ext cx="5235840" cy="5443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uster Housing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53000" y="0"/>
            <a:ext cx="4491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88800" y="65502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5-18 p. 5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Making Urban Areas More Livable and Sustainabl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40" y="1736640"/>
            <a:ext cx="5282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w cities and tow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2593800"/>
            <a:ext cx="496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city (green city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0" y="3451320"/>
            <a:ext cx="9124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ees and climate-specific landscap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0" y="4308480"/>
            <a:ext cx="417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ople-orien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00" y="5165640"/>
            <a:ext cx="5483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 energy effici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20" y="1454040"/>
            <a:ext cx="9042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tribution of urban and rural pop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60" y="2198520"/>
            <a:ext cx="7652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ctors determining urba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1520" y="2943360"/>
            <a:ext cx="8745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source and environmental problems in urban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1520" y="417672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ffects of transportation systems on urban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4680" y="5408640"/>
            <a:ext cx="746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lanning and controlling urban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1520" y="61545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king cities more sustainable and desi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rbanization and Urba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200" y="1353960"/>
            <a:ext cx="332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rban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840" y="2158920"/>
            <a:ext cx="3184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ral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4120" y="2963880"/>
            <a:ext cx="235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ill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560" y="3768840"/>
            <a:ext cx="199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it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040" y="4573440"/>
            <a:ext cx="86900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rban growth: natural increase and immig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6240" y="5921280"/>
            <a:ext cx="604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sh and pull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tterns of Urba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4480" y="1376280"/>
            <a:ext cx="7653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ing proportion of 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7000" y="2341440"/>
            <a:ext cx="8166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at increase in large citie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&gt;1,000,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200" y="3308400"/>
            <a:ext cx="865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ing rapidly in developing coun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3040" y="4275000"/>
            <a:ext cx="77155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rban growth slower in developed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920" y="5789520"/>
            <a:ext cx="7346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verty in urban areas increas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rbanization in the U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800" y="1406520"/>
            <a:ext cx="7489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 to large central c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8040" y="2259000"/>
            <a:ext cx="7684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 from cities to subur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000" y="3112920"/>
            <a:ext cx="8191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 from north and east to south and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6600" y="4576680"/>
            <a:ext cx="857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 from urban to rural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000" y="5430960"/>
            <a:ext cx="7735680" cy="106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atial patterns of developmen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see Fig. 25-4 p. 5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jor Urban Regions in the U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3055" t="1018" r="1921" b="16761"/>
          <a:stretch/>
        </p:blipFill>
        <p:spPr>
          <a:xfrm>
            <a:off x="355680" y="1290600"/>
            <a:ext cx="8445600" cy="548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7333560" y="64324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25-4 p. 5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5232" t="0" r="32756" b="0"/>
          <a:stretch/>
        </p:blipFill>
        <p:spPr>
          <a:xfrm>
            <a:off x="5157720" y="3638520"/>
            <a:ext cx="2298600" cy="331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mpacts of Urban Spraw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16366" t="0" r="31622" b="0"/>
          <a:stretch/>
        </p:blipFill>
        <p:spPr>
          <a:xfrm>
            <a:off x="1803240" y="3638520"/>
            <a:ext cx="2298960" cy="3314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15996" t="0" r="31992" b="0"/>
          <a:stretch/>
        </p:blipFill>
        <p:spPr>
          <a:xfrm>
            <a:off x="3422520" y="1243080"/>
            <a:ext cx="2298960" cy="33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4"/>
          <a:srcRect l="14492" t="0" r="33913" b="0"/>
          <a:stretch/>
        </p:blipFill>
        <p:spPr>
          <a:xfrm>
            <a:off x="6864480" y="1243080"/>
            <a:ext cx="2279520" cy="33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5"/>
          <a:srcRect l="16366" t="0" r="32016" b="0"/>
          <a:stretch/>
        </p:blipFill>
        <p:spPr>
          <a:xfrm>
            <a:off x="0" y="1243080"/>
            <a:ext cx="2281320" cy="33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5-6 p. 5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rban Resource and Environmental Probl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440" y="1603440"/>
            <a:ext cx="6828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ir and water pollution; waste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240" y="2914560"/>
            <a:ext cx="525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tion in vege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240" y="3676680"/>
            <a:ext cx="8948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ortation of food, energy, and mate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80" y="4440240"/>
            <a:ext cx="3678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ise pollu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520" y="5202360"/>
            <a:ext cx="7692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mate impacts: urban heat is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160" y="5965920"/>
            <a:ext cx="7642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acts on surrounding rural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rban Areas:  Inputs and Outpu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5-8 p. 5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840" y="1214280"/>
            <a:ext cx="9109080" cy="5265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52:02Z</dcterms:modified>
  <cp:revision>58</cp:revision>
  <dc:subject/>
  <dc:title>PowerPoint Presentation</dc:title>
</cp:coreProperties>
</file>