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FB01-A7AA-49ED-96F2-C7E337DA2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81BD-44C7-4415-BDB2-1662404F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3859-2FB9-4497-8ADA-6527F0C2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B72B-F508-4C00-8951-1B57FC87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3F61-6EFB-4847-86CB-DF4D0043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B20E-DC87-449F-8D32-E09AF265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F828-8525-47DE-AAED-127EE50B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4431-319C-4AD5-9E35-7836FF3D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F3CF-7F7D-46E2-96FC-A9100FC4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D419-5008-4B75-B0B9-955087E4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03C5-EFCB-4C6B-9EFB-7E9B76EA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4CD3-B4B0-4A39-919E-845F800C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4CDB-BFA6-4CB5-B634-3106607F044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ustainable Citi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Urban Poor in Developing Countri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42840"/>
            <a:ext cx="8229600" cy="442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lu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quatter settl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hantytow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llegal settl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verty and unemploy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344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ransportation and Urban Development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2240" y="1380960"/>
            <a:ext cx="4456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ividual trans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9360" y="2368440"/>
            <a:ext cx="3903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ss trans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520" y="3398760"/>
            <a:ext cx="199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us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1320" y="4486320"/>
            <a:ext cx="2070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2600" y="5437080"/>
            <a:ext cx="4203720" cy="106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utomobiles</a:t>
            </a:r>
            <a:br>
              <a:rPr sz="40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Se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/Con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p. 572-57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Urban Land-Use Planning and Control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40" y="1803240"/>
            <a:ext cx="4708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and-use plan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00" y="2506680"/>
            <a:ext cx="380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perty tax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00" y="3263760"/>
            <a:ext cx="2309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Zo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00" y="4003560"/>
            <a:ext cx="3661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mart grow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0" y="4737240"/>
            <a:ext cx="5960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rban growth bound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20" y="6156360"/>
            <a:ext cx="8442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uster development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See Fig. 25-18 p. 5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80" y="5419800"/>
            <a:ext cx="3126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eenbel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Greenbelt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5-17 p. 57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54080" y="1414440"/>
            <a:ext cx="5235840" cy="5443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uster Housing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53000" y="0"/>
            <a:ext cx="4491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588800" y="655020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5-18 p. 57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:  Making Urban Areas More Livable and Sustainable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40" y="1736640"/>
            <a:ext cx="5282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ew cities and tow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60" y="2593800"/>
            <a:ext cx="4961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city (green city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60" y="3451320"/>
            <a:ext cx="9124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ees and climate-specific landscap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20" y="4308480"/>
            <a:ext cx="4170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ople-orient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00" y="5165640"/>
            <a:ext cx="5483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gh energy efficie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1520" y="1454040"/>
            <a:ext cx="9042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stribution of urban and rural pop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5760" y="2198520"/>
            <a:ext cx="7652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actors determining urba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1520" y="2943360"/>
            <a:ext cx="87454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source and environmental problems in urban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1520" y="4176720"/>
            <a:ext cx="9144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ffects of transportation systems on urban 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4680" y="5408640"/>
            <a:ext cx="7460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lanning and controlling urban 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1520" y="615456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king cities more sustainable and desir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Urbanization and Urban Grow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200" y="1353960"/>
            <a:ext cx="3324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rban ar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4840" y="2158920"/>
            <a:ext cx="3184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ural ar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4120" y="2963880"/>
            <a:ext cx="2353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Vill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560" y="3768840"/>
            <a:ext cx="199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iti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3040" y="4573440"/>
            <a:ext cx="86900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rban growth: natural increase and immig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6240" y="5921280"/>
            <a:ext cx="6041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ush and pull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atterns of Urban Grow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4480" y="1376280"/>
            <a:ext cx="7653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creasing proportion of pop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7000" y="2341440"/>
            <a:ext cx="8166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eat increase in large citie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&gt;1,000,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200" y="3308400"/>
            <a:ext cx="8655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creasing rapidly in developing coun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3040" y="4275000"/>
            <a:ext cx="77155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rban growth slower in developed count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920" y="5789520"/>
            <a:ext cx="7346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verty in urban areas increas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Urbanization in the U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4800" y="1406520"/>
            <a:ext cx="7489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gration to large central c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8040" y="2259000"/>
            <a:ext cx="7684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gration from cities to subur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000" y="3112920"/>
            <a:ext cx="81914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gration from north and east to south and w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6600" y="4576680"/>
            <a:ext cx="8573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gration from urban to rural ar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3000" y="5430960"/>
            <a:ext cx="7735680" cy="106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atial patterns of development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see Fig. 25-4 p. 56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ajor Urban Regions in the U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3055" t="1018" r="1921" b="16761"/>
          <a:stretch/>
        </p:blipFill>
        <p:spPr>
          <a:xfrm>
            <a:off x="355680" y="1290600"/>
            <a:ext cx="8445600" cy="548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7333560" y="64324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5-4 p. 56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15232" t="0" r="32756" b="0"/>
          <a:stretch/>
        </p:blipFill>
        <p:spPr>
          <a:xfrm>
            <a:off x="5157720" y="3638520"/>
            <a:ext cx="2298600" cy="3314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Impacts of Urban Sprawl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rcRect l="16366" t="0" r="31622" b="0"/>
          <a:stretch/>
        </p:blipFill>
        <p:spPr>
          <a:xfrm>
            <a:off x="1803240" y="3638520"/>
            <a:ext cx="2298960" cy="3314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15996" t="0" r="31992" b="0"/>
          <a:stretch/>
        </p:blipFill>
        <p:spPr>
          <a:xfrm>
            <a:off x="3422520" y="1243080"/>
            <a:ext cx="2298960" cy="331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4"/>
          <a:srcRect l="14492" t="0" r="33913" b="0"/>
          <a:stretch/>
        </p:blipFill>
        <p:spPr>
          <a:xfrm>
            <a:off x="6864480" y="1243080"/>
            <a:ext cx="2279520" cy="331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5"/>
          <a:srcRect l="16366" t="0" r="32016" b="0"/>
          <a:stretch/>
        </p:blipFill>
        <p:spPr>
          <a:xfrm>
            <a:off x="0" y="1243080"/>
            <a:ext cx="2281320" cy="331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5-6 p. 5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Urban Resource and Environmental Problem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2440" y="1603440"/>
            <a:ext cx="6828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ir and water pollution; waste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4240" y="2914560"/>
            <a:ext cx="525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duction in vege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4240" y="3676680"/>
            <a:ext cx="8948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mportation of food, energy, and mater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80" y="4440240"/>
            <a:ext cx="3678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ise pollu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520" y="5202360"/>
            <a:ext cx="7692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mate impacts: urban heat isla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160" y="5965920"/>
            <a:ext cx="7642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mpacts on surrounding rural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Urban Areas:  Inputs and Outpu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5-8 p. 56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840" y="1214280"/>
            <a:ext cx="9109080" cy="5265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52:02Z</dcterms:modified>
  <cp:revision>58</cp:revision>
  <dc:subject/>
  <dc:title>PowerPoint Presentation</dc:title>
</cp:coreProperties>
</file>