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EEA-6E77-42C4-BC4A-9C8172C8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797-0413-4ED7-BB16-25457354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D7D-F0AD-4C36-97DE-C4723E2F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BFE-3974-4D42-9023-FA244D4E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80E-69EA-4307-8D93-52ACBB28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A25-6370-48E6-A44F-9123FA2D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C76-EE27-4E90-81C4-B26A3C59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D5E-E3E4-4640-9B4F-C55100E0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E19-95E9-430D-B9B6-394B34AF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2E0-BD7E-4E85-8AAE-EA890A78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1FA-8525-43F5-8AED-ED30D70A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285-5F36-4F66-9F6F-FAD95868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631B-4C73-4920-994F-E663DBDE51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able Cit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 Poor in Developing Countr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442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quatter set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antytow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llegal set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verty and unem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44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ransportation and Urban Developmen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2240" y="1380960"/>
            <a:ext cx="445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vidual trans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360" y="2368440"/>
            <a:ext cx="390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trans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520" y="3398760"/>
            <a:ext cx="199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s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320" y="4486320"/>
            <a:ext cx="2070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2600" y="5437080"/>
            <a:ext cx="4203720" cy="10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utomobile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/Co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572-5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rban Land-Use Planning and Contro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" y="1803240"/>
            <a:ext cx="4708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nd-use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" y="2506680"/>
            <a:ext cx="380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perty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00" y="3263760"/>
            <a:ext cx="230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00" y="4003560"/>
            <a:ext cx="366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mart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0" y="4737240"/>
            <a:ext cx="596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rban growth bound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0" y="6156360"/>
            <a:ext cx="844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uster developmen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See Fig. 25-18 p. 5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80" y="5419800"/>
            <a:ext cx="3126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bel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Greenbelt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5-17 p. 5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54080" y="1414440"/>
            <a:ext cx="5235840" cy="544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uster Hous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530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88800" y="6550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5-18 p. 5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Making Urban Areas More Livable and Sustainabl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40" y="1736640"/>
            <a:ext cx="5282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w cities and tow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593800"/>
            <a:ext cx="496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city (green city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0" y="3451320"/>
            <a:ext cx="9124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ees and climate-specific landscap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0" y="4308480"/>
            <a:ext cx="417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ople-orien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00" y="5165640"/>
            <a:ext cx="5483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 energy 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20" y="1454040"/>
            <a:ext cx="9042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ribution of urban and rural po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60" y="2198520"/>
            <a:ext cx="7652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tors determining urba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1520" y="2943360"/>
            <a:ext cx="8745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ource and environmental problems in urba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520" y="417672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ects of transportation systems on urban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4680" y="5408640"/>
            <a:ext cx="746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anning and controlling urban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1520" y="61545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king cities more sustainable and desi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ization and Urba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200" y="1353960"/>
            <a:ext cx="332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rban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40" y="2158920"/>
            <a:ext cx="3184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ral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4120" y="2963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ill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560" y="3768840"/>
            <a:ext cx="199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i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040" y="4573440"/>
            <a:ext cx="8690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rban growth: natural increase and immi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6240" y="5921280"/>
            <a:ext cx="604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sh and pull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terns of Urba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4480" y="1376280"/>
            <a:ext cx="7653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proportion of 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7000" y="2341440"/>
            <a:ext cx="8166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increase in large citie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&gt;1,000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200" y="3308400"/>
            <a:ext cx="865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rapidly in developing coun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3040" y="4275000"/>
            <a:ext cx="7715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rban growth slower in developed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920" y="5789520"/>
            <a:ext cx="734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verty in urban areas increas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ization in the U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800" y="1406520"/>
            <a:ext cx="748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to large central c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8040" y="2259000"/>
            <a:ext cx="768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from cities to subur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000" y="3112920"/>
            <a:ext cx="8191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from north and east to south and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6600" y="4576680"/>
            <a:ext cx="857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from urban to rural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000" y="5430960"/>
            <a:ext cx="7735680" cy="10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atial patterns of developmen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see Fig. 25-4 p. 5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jor Urban Regions in the U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3055" t="1018" r="1921" b="16761"/>
          <a:stretch/>
        </p:blipFill>
        <p:spPr>
          <a:xfrm>
            <a:off x="355680" y="1290600"/>
            <a:ext cx="8445600" cy="548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7333560" y="64324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5-4 p. 5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5232" t="0" r="32756" b="0"/>
          <a:stretch/>
        </p:blipFill>
        <p:spPr>
          <a:xfrm>
            <a:off x="5157720" y="3638520"/>
            <a:ext cx="2298600" cy="331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mpacts of Urban Spraw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16366" t="0" r="31622" b="0"/>
          <a:stretch/>
        </p:blipFill>
        <p:spPr>
          <a:xfrm>
            <a:off x="1803240" y="3638520"/>
            <a:ext cx="2298960" cy="3314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15996" t="0" r="31992" b="0"/>
          <a:stretch/>
        </p:blipFill>
        <p:spPr>
          <a:xfrm>
            <a:off x="3422520" y="1243080"/>
            <a:ext cx="229896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4"/>
          <a:srcRect l="14492" t="0" r="33913" b="0"/>
          <a:stretch/>
        </p:blipFill>
        <p:spPr>
          <a:xfrm>
            <a:off x="6864480" y="1243080"/>
            <a:ext cx="227952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5"/>
          <a:srcRect l="16366" t="0" r="32016" b="0"/>
          <a:stretch/>
        </p:blipFill>
        <p:spPr>
          <a:xfrm>
            <a:off x="0" y="1243080"/>
            <a:ext cx="228132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5-6 p. 5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rban Resource and Environmental Probl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440" y="1603440"/>
            <a:ext cx="6828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ir and water pollution; wast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240" y="2914560"/>
            <a:ext cx="525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tion in vege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240" y="3676680"/>
            <a:ext cx="8948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ortation of food, energy, and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80" y="4440240"/>
            <a:ext cx="3678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ise pollu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520" y="5202360"/>
            <a:ext cx="769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mate impacts: urban heat is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160" y="5965920"/>
            <a:ext cx="7642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acts on surrounding rural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 Areas:  Inputs and Outpu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5-8 p. 5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840" y="1214280"/>
            <a:ext cx="9109080" cy="526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02Z</dcterms:modified>
  <cp:revision>58</cp:revision>
  <dc:subject/>
  <dc:title>PowerPoint Presentation</dc:title>
</cp:coreProperties>
</file>