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EBB1-36C9-4E88-AB83-08247391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1D4C-9198-4042-9B8A-74FCE241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29E4-EF6C-4B8F-B1AC-B7A9A93D7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8822-B298-4A95-9E43-E12A678FD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943F-C718-4650-BF13-D21CCD9B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D533-F933-41DB-A830-5007927C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2BB8-625A-46B6-AF9E-07F24187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D46C-EBE3-426D-80BD-EF8A6AEC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8D01-413F-4A50-9AF1-1C53765D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1B37-FD52-4E2A-85A9-B3EFEC22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6856-0EE6-4F81-A1CB-506ED257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D5B1-99DB-4E4E-AF13-DE8093E1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26D0-9377-4206-AFB7-275FB80B659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olid and Hazardous Wast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haracteristics of Recyclable Material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6640" y="1914480"/>
            <a:ext cx="7573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asily isolated from other was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200" y="3054240"/>
            <a:ext cx="6742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vailable in large quant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4840" y="4194000"/>
            <a:ext cx="2704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Valuab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Benefits of Recycling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22160" y="1190520"/>
            <a:ext cx="7732800" cy="5621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985800" y="655020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4-8 p. 5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cycling Method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3040" y="1684440"/>
            <a:ext cx="76741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entralized recycling of mixed waste (Materials-Recovery Facilities, MR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9240" y="3124080"/>
            <a:ext cx="3789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urc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6000" y="4154400"/>
            <a:ext cx="5236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y-as-you-throw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PAU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Studies: Wastepaper and Plastic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280" y="1774800"/>
            <a:ext cx="6594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9% of wastepaper recycled in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1200" y="2492280"/>
            <a:ext cx="78343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hlorine-based compound in paper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2840" y="3743280"/>
            <a:ext cx="69346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0% or less of plastic recycled in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560" y="4545000"/>
            <a:ext cx="7285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lastics can be very difficult to re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Burning Wast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-368640" y="1352520"/>
            <a:ext cx="3831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ss bur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ciner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828880"/>
            <a:ext cx="29988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ir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762440"/>
            <a:ext cx="266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ste to 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598920" y="1171440"/>
            <a:ext cx="5537160" cy="5686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01492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4-13 p. 5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Burying Wast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6840" y="2300400"/>
            <a:ext cx="3994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anitary landfi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0080" y="3270240"/>
            <a:ext cx="4372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achate col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3560" y="4357800"/>
            <a:ext cx="3943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nitoring we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5840" y="5376960"/>
            <a:ext cx="7445160" cy="12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mit greenhouse gases (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nd methan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0560" y="1406520"/>
            <a:ext cx="3133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pen dum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anitary Landfill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898" t="0" r="4189" b="2530"/>
          <a:stretch/>
        </p:blipFill>
        <p:spPr>
          <a:xfrm>
            <a:off x="1023840" y="1233360"/>
            <a:ext cx="7159680" cy="557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6548760" y="649620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4-14 p. 5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Sanitary Landfills: Trade-off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790720" y="1177920"/>
            <a:ext cx="3570480" cy="5680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800960" y="655020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4-15 p. 5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Hazardous Wastes: Types 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2654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4200" y="1477800"/>
            <a:ext cx="66438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tains at least one toxic comp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6360" y="3119400"/>
            <a:ext cx="4581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tches fire easi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5280" y="4151160"/>
            <a:ext cx="5203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active or explos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440" y="5183280"/>
            <a:ext cx="6386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rrodes metal contain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 Hazardous Wastes under RCRA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2463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1246320"/>
            <a:ext cx="4325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adioactive was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7280" y="2068560"/>
            <a:ext cx="4098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usehold was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7640" y="2890800"/>
            <a:ext cx="3437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ning was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8360" y="3713040"/>
            <a:ext cx="5785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il and gas drilling was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7280" y="4535640"/>
            <a:ext cx="8721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quids containing organic hydrocarb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920" y="5357880"/>
            <a:ext cx="3984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ement kiln du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280" y="6181560"/>
            <a:ext cx="5933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&lt;100 kg (220 lb) per mon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7680" y="1484280"/>
            <a:ext cx="6950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ypes and amounts of was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6960" y="2873520"/>
            <a:ext cx="6002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thods to reduce was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7680" y="4262400"/>
            <a:ext cx="7401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thods of dealing with was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7320" y="5653080"/>
            <a:ext cx="8826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azardous waste regulation in the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Dealing with Hazardous Wast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30240" y="1174680"/>
            <a:ext cx="7296120" cy="56689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656760" y="654372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4-17 p. 5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etoxifying and Removing Wast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360" y="3419640"/>
            <a:ext cx="3988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remed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1880" y="4386240"/>
            <a:ext cx="4523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hytoremed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0600" y="5332320"/>
            <a:ext cx="49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lasma incine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0320" y="1538280"/>
            <a:ext cx="4397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hysical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1760" y="2465280"/>
            <a:ext cx="4648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emical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eep-well Disposal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946160" y="1206360"/>
            <a:ext cx="5251680" cy="5661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4-21 p. 5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azardous Waste Landfill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28800" y="1197000"/>
            <a:ext cx="7281720" cy="5616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645600" y="650556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4-23 p. 5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urface Impoundments: Trade-off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4-22 p. 5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224080" y="1401840"/>
            <a:ext cx="4694400" cy="5456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ase Studies:  Lead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3680" y="1430280"/>
            <a:ext cx="8922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 algn="ctr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ad poisoning major problem in childr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-446400" y="2384280"/>
            <a:ext cx="5966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Primary Sources of Le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0" y="3186000"/>
            <a:ext cx="7934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aded gasoline (phased out by 198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0" y="4027320"/>
            <a:ext cx="6143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ad paint (banned in 197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80" y="4962600"/>
            <a:ext cx="4110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ad in plu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3400" y="6037200"/>
            <a:ext cx="837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 algn="ctr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gress is being made in reducing le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ase Studies:  Mercury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6400" y="1547640"/>
            <a:ext cx="6492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aporized elemental Mercu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4960" y="2629080"/>
            <a:ext cx="8362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sh contaminated with methylmercu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3160" y="3710160"/>
            <a:ext cx="3489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tural inpu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4240" y="4791240"/>
            <a:ext cx="3918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mission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4960" y="5872320"/>
            <a:ext cx="6190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evention of contami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ase Studies:  Dioxin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1268280"/>
            <a:ext cx="7485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tentially highly toxic chlorinated hydrocarb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4800" y="3236760"/>
            <a:ext cx="4324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aste incine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5160" y="3946680"/>
            <a:ext cx="2748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replac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3720" y="4656240"/>
            <a:ext cx="5278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al-fired power pl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4080" y="5365800"/>
            <a:ext cx="4071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per 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295200" y="2527200"/>
            <a:ext cx="4686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Sources of Diox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3720" y="6076800"/>
            <a:ext cx="3437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wage slud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azardous Waste Regulation in the United Stat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6480" y="2071800"/>
            <a:ext cx="78768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source Conservation and Recovery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RC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4440" y="3314880"/>
            <a:ext cx="86360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rehensive Environmental Response, Compensation, and Liability Act (Superfu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2600" y="4699080"/>
            <a:ext cx="4386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ational Priority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2400" y="5724360"/>
            <a:ext cx="4621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lluter-pays princi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:  Achieving a Low-Waste Socie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4760" y="1952640"/>
            <a:ext cx="5657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cal grassroots 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4960" y="2932200"/>
            <a:ext cx="82566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rnational ban on 12 persistent organic pollutants (the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dirty doze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6400" y="4559400"/>
            <a:ext cx="5835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cautionary Princi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asting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00" y="1353960"/>
            <a:ext cx="7814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ustrial and agricultural was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80" y="2181240"/>
            <a:ext cx="5343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unicipal solid was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00" y="6156360"/>
            <a:ext cx="7389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S:  11 billion metric tons/y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13706" r="0" b="14231"/>
          <a:stretch/>
        </p:blipFill>
        <p:spPr>
          <a:xfrm>
            <a:off x="2036880" y="2890800"/>
            <a:ext cx="5083200" cy="335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5668200" y="594036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4-2 p. 5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roducing Less Waste and Pollu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2240" y="1398600"/>
            <a:ext cx="8937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aste management (high waste approac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1880" y="2324160"/>
            <a:ext cx="5941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urying, burning, shi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2960" y="3249720"/>
            <a:ext cx="835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aste prevention (low waste approac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760" y="4175280"/>
            <a:ext cx="4944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duce, reuse, re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2960" y="5100480"/>
            <a:ext cx="4046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stainability Si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ealing with Material Use and Wast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22280" y="1414440"/>
            <a:ext cx="8255160" cy="5424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219080" y="652464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4-3 p. 5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olutions:  Cleaner Produc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4480" y="1376280"/>
            <a:ext cx="5924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industrial rev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6280" y="2354400"/>
            <a:ext cx="5960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 exchange we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200" y="3332160"/>
            <a:ext cx="3197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mimic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560" y="4309920"/>
            <a:ext cx="5356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rvice-flow econo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:  Selling Services Instead of Thing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5160" y="1684440"/>
            <a:ext cx="4881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rvice-flow econom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4080" y="2479680"/>
            <a:ext cx="7754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a minimum amount of mate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4440" y="3274920"/>
            <a:ext cx="4540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ducts last lon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4070520"/>
            <a:ext cx="84232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ducts are easier to maintain, repair, and re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4440" y="5415120"/>
            <a:ext cx="2864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co-lea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46880" y="6273720"/>
            <a:ext cx="5248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s Matter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p. 5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us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4480" y="1322280"/>
            <a:ext cx="5685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tends resource supp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4480" y="2200320"/>
            <a:ext cx="5418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aves energy and m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4480" y="3079800"/>
            <a:ext cx="4123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duces pol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4840" y="3957480"/>
            <a:ext cx="2877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reate job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040" y="4836960"/>
            <a:ext cx="8148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usable prod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cycling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6200" y="1434960"/>
            <a:ext cx="3429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imary (closed-loo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1040" y="4159080"/>
            <a:ext cx="39531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econsumer wa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7800" y="2798640"/>
            <a:ext cx="33213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condary (open loo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8440" y="5438880"/>
            <a:ext cx="39528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stconsumer wa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697200" y="1243080"/>
            <a:ext cx="5446800" cy="5519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744680" y="649296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4-6 p. 5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39:58Z</dcterms:modified>
  <cp:revision>83</cp:revision>
  <dc:subject/>
  <dc:title>PowerPoint Presentation</dc:title>
</cp:coreProperties>
</file>