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381-6143-463A-B64F-B4BCCC20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C18-01F7-4B61-9CA0-346340E3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35C-0398-4F04-8820-FAC0F644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4B7-8EEB-41EC-B4F6-DBB2D8A2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0C7-9D46-4BEA-91F9-9916F0C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C73-FF26-4858-A910-204846E6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3C1-A8D5-40F7-97F0-3221676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1FB-F27F-4743-8694-38C1D45D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3BF-7858-43E0-BBFD-3C302F50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75F-4B7F-4622-826F-AB4A18BC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F3B-9B36-40EF-B54C-DC0F66E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F36-A748-4FD3-8C51-06B8731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5F2-8396-4C2F-B8D5-0F3CDE4189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id and Hazardous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aracteristics of Recyclable Material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640" y="1914480"/>
            <a:ext cx="757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sily isolated from other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200" y="3054240"/>
            <a:ext cx="674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vailable in large qua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840" y="4194000"/>
            <a:ext cx="270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luab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nefits of 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2160" y="1190520"/>
            <a:ext cx="7732800" cy="562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8580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8 p. 5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 Meth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" y="1684440"/>
            <a:ext cx="7674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alized recycling of mixed waste (Materials-Recovery Facilities, MR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124080"/>
            <a:ext cx="378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00" y="4154400"/>
            <a:ext cx="523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-as-you-throw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Studies: Wastepaper and Plastic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280" y="1774800"/>
            <a:ext cx="659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9% of wastepaper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492280"/>
            <a:ext cx="7834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ine-based compound in pa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840" y="3743280"/>
            <a:ext cx="693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% or less of plastic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560" y="4545000"/>
            <a:ext cx="7285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stics can be very difficult to 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n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68640" y="1352520"/>
            <a:ext cx="3831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bu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in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28880"/>
            <a:ext cx="2998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62440"/>
            <a:ext cx="266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ste to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98920" y="1171440"/>
            <a:ext cx="5537160" cy="568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14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13 p. 5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y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6840" y="2300400"/>
            <a:ext cx="399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nitary landf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080" y="3270240"/>
            <a:ext cx="437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chate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560" y="4357800"/>
            <a:ext cx="394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w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376960"/>
            <a:ext cx="744516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t greenhouse gases (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d metha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560" y="1406520"/>
            <a:ext cx="31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nitary Landfil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98" t="0" r="4189" b="2530"/>
          <a:stretch/>
        </p:blipFill>
        <p:spPr>
          <a:xfrm>
            <a:off x="1023840" y="1233360"/>
            <a:ext cx="715968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548760" y="6496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4 p. 5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anitary Landfil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90720" y="1177920"/>
            <a:ext cx="3570480" cy="5680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96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5 p. 5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zardous Wastes: Types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5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200" y="1477800"/>
            <a:ext cx="664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ains at least one toxic comp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360" y="3119400"/>
            <a:ext cx="45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tches fire eas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280" y="41511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ve or explo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440" y="5183280"/>
            <a:ext cx="638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rodes metal contai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Hazardous Wastes under RCRA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246320"/>
            <a:ext cx="432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280" y="2068560"/>
            <a:ext cx="409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usehold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640" y="2890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360" y="3713040"/>
            <a:ext cx="578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and gas drill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280" y="4535640"/>
            <a:ext cx="872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s containing organic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920" y="535788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ment kiln 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80" y="6181560"/>
            <a:ext cx="593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&lt;100 kg (220 lb) per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680" y="1484280"/>
            <a:ext cx="695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amounts of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6960" y="2873520"/>
            <a:ext cx="600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to reduce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7680" y="4262400"/>
            <a:ext cx="740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of dealing with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320" y="5653080"/>
            <a:ext cx="882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zardous waste regulation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Hazardous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30240" y="1174680"/>
            <a:ext cx="7296120" cy="5668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5676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7 p. 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toxifying and Removing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360" y="341964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1880" y="4386240"/>
            <a:ext cx="452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t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600" y="5332320"/>
            <a:ext cx="49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 inci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0320" y="1538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760" y="246528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ep-well Dispos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46160" y="1206360"/>
            <a:ext cx="5251680" cy="5661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1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Landfil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28800" y="1197000"/>
            <a:ext cx="728172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45600" y="6505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3 p. 5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rface Impoundments: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2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24080" y="1401840"/>
            <a:ext cx="46944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Lead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3680" y="1430280"/>
            <a:ext cx="892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oisoning major problem in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46400" y="2384280"/>
            <a:ext cx="596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imary Sources of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" y="3186000"/>
            <a:ext cx="793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d gasoline (phased out by 198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" y="4027320"/>
            <a:ext cx="614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aint (banned in 19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80" y="4962600"/>
            <a:ext cx="411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in plu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3400" y="603720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gress is being made in reducing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Mercur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" y="1547640"/>
            <a:ext cx="649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porized elemental 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960" y="2629080"/>
            <a:ext cx="836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h contaminated with 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160" y="3710160"/>
            <a:ext cx="348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240" y="4791240"/>
            <a:ext cx="391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ss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4960" y="5872320"/>
            <a:ext cx="619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 of cont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Dioxi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268280"/>
            <a:ext cx="7485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highly toxic chlorinated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800" y="323676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inci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160" y="3946680"/>
            <a:ext cx="274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repla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720" y="4656240"/>
            <a:ext cx="527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-fired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4080" y="5365800"/>
            <a:ext cx="407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per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95200" y="2527200"/>
            <a:ext cx="468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ources of Diox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720" y="6076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wage slu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Regulation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480" y="2071800"/>
            <a:ext cx="7876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Conservation and Recover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C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440" y="3314880"/>
            <a:ext cx="8636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rehensive Environmental Response, Compensation, and Liability Act (Superf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2600" y="4699080"/>
            <a:ext cx="43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onal Prior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00" y="5724360"/>
            <a:ext cx="4621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luter-pays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Low-Waste Socie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760" y="1952640"/>
            <a:ext cx="5657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grassroots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960" y="2932200"/>
            <a:ext cx="8256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tional ban on 12 persistent organic pollutants (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rty doze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" y="455940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sting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1353960"/>
            <a:ext cx="781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and agricultural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80" y="2181240"/>
            <a:ext cx="534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nicipal solid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0" y="6156360"/>
            <a:ext cx="738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:  11 billion metric tons/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706" r="0" b="14231"/>
          <a:stretch/>
        </p:blipFill>
        <p:spPr>
          <a:xfrm>
            <a:off x="2036880" y="2890800"/>
            <a:ext cx="508320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668200" y="59403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 p. 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Less Waste and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240" y="1398600"/>
            <a:ext cx="893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management (high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2324160"/>
            <a:ext cx="594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rying, burning, sh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960" y="3249720"/>
            <a:ext cx="83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prevention (low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" y="4175280"/>
            <a:ext cx="494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, reuse,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960" y="5100480"/>
            <a:ext cx="4046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ility S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aling with Material Use and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2280" y="1414440"/>
            <a:ext cx="8255160" cy="54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19080" y="6524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3 p. 5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Cleaner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" y="1376280"/>
            <a:ext cx="59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industrial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6280" y="235440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exchange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333216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560" y="430992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elling Services Instead of Thing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160" y="1684440"/>
            <a:ext cx="48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2479680"/>
            <a:ext cx="775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a minimum amount of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440" y="3274920"/>
            <a:ext cx="454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last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070520"/>
            <a:ext cx="842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are easier to maintain, repair, and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440" y="5415120"/>
            <a:ext cx="286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l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6880" y="627372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480" y="1322280"/>
            <a:ext cx="568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ds resource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480" y="220032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es energy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480" y="3079800"/>
            <a:ext cx="412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s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3957480"/>
            <a:ext cx="28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4836960"/>
            <a:ext cx="814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usabl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200" y="1434960"/>
            <a:ext cx="3429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(closed-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159080"/>
            <a:ext cx="3953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800" y="2798640"/>
            <a:ext cx="3321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(open 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440" y="5438880"/>
            <a:ext cx="3952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t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97200" y="1243080"/>
            <a:ext cx="5446800" cy="55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44680" y="64929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6 p.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9:58Z</dcterms:modified>
  <cp:revision>83</cp:revision>
  <dc:subject/>
  <dc:title>PowerPoint Presentation</dc:title>
</cp:coreProperties>
</file>