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349-1070-439F-8C2F-01AAD148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039-69DC-4DEE-9E07-596C380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519-3A20-4DA2-A349-41FB0692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45B-16F2-4460-BD1B-572CE6BC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B36-76A7-4D90-A9A2-932E7B2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B56-CF03-40AA-8397-C8A50D3C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A45-F7F8-456F-A650-3485516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0F3-C4AD-4B3F-AB61-A9900CE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B28-3943-48E4-9522-863C56F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696-18CF-4AC8-B939-A07516F4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C5E-F216-4951-BB20-75D0D5E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19F-6C5B-4FF2-81B6-4EDFE15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E04A-AF12-4396-B5DF-BA3C03A790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491" r="0" b="3491"/>
          <a:stretch/>
        </p:blipFill>
        <p:spPr>
          <a:xfrm>
            <a:off x="593640" y="1219320"/>
            <a:ext cx="8039160" cy="56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064640" y="65152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1 p. 5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Chesapeake Ba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480" y="1563840"/>
            <a:ext cx="2757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st US est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20" y="3209760"/>
            <a:ext cx="378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sh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4370400"/>
            <a:ext cx="3771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“flushing” action to Atlan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080" y="6018120"/>
            <a:ext cx="65613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roblems with dissolved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87640" y="1204920"/>
            <a:ext cx="5256360" cy="483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88800" y="60483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3 p. 5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80" y="1143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s:  offshore wells, tankers, pipelines and storage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480" y="242712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:  death of organisms, loss of animal insulation and buoyancy, smo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480" y="3713040"/>
            <a:ext cx="905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t economic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480" y="451008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cal cleanup methods: skimmers and blo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480" y="5796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ical cleanup methods:  coagulants and dispers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Preventing and Reducing Surface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840" y="1736640"/>
            <a:ext cx="40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7320" y="1738440"/>
            <a:ext cx="315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0960" y="2963880"/>
            <a:ext cx="374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4920" y="3886200"/>
            <a:ext cx="324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ffer zone veg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32760" y="5457960"/>
            <a:ext cx="480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soil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6960" y="29638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 Water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6600" y="3886200"/>
            <a:ext cx="466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p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40" y="1481040"/>
            <a:ext cx="909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quire suitable soils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5 p. 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00160" y="2106720"/>
            <a:ext cx="5148360" cy="475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20" y="1481040"/>
            <a:ext cx="787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and biologic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10094" r="0" b="9412"/>
          <a:stretch/>
        </p:blipFill>
        <p:spPr>
          <a:xfrm>
            <a:off x="1141560" y="2647800"/>
            <a:ext cx="6858000" cy="41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442560" y="2338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6 p.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Advanced (Tertiary)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0" y="1943280"/>
            <a:ext cx="867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physical and chem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00" y="2765520"/>
            <a:ext cx="747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ves nitrate and phosph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0" y="366228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4653000"/>
            <a:ext cx="407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widely 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Using Wetlands to Treat Sewa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2160" y="1420920"/>
            <a:ext cx="8985240" cy="5437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0312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8 p. 5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rinking Water Qual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4165560"/>
            <a:ext cx="568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200" y="5005440"/>
            <a:ext cx="8558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ximum contaminant levels (MC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360" y="16938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urban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920" y="5865840"/>
            <a:ext cx="334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tl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249228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ion from terro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040" y="33624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rural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680" y="1494000"/>
            <a:ext cx="886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, sources, and effects of wate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680" y="2584440"/>
            <a:ext cx="860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surfac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3676680"/>
            <a:ext cx="873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ground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680" y="4768920"/>
            <a:ext cx="844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tion and prevention of water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800" y="5861160"/>
            <a:ext cx="463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inking wat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ypes, Effects and Sources of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1650960"/>
            <a:ext cx="352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28036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948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5120" y="2093760"/>
            <a:ext cx="3717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Tables 22-1 and 22-2 p. 492 and 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160" y="3637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3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575" t="5249" r="3150" b="14661"/>
          <a:stretch/>
        </p:blipFill>
        <p:spPr>
          <a:xfrm>
            <a:off x="4572000" y="397512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9600"/>
            <a:ext cx="9144000" cy="537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int and Nonpoint 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504800"/>
            <a:ext cx="9144000" cy="5367240"/>
            <a:chOff x="0" y="1504800"/>
            <a:chExt cx="9144000" cy="53672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1836360"/>
              <a:ext cx="9144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73240" y="1504800"/>
              <a:ext cx="20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1440" y="3346200"/>
              <a:ext cx="132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ban stre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68360" y="4311360"/>
              <a:ext cx="1339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urban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19400" y="4971600"/>
              <a:ext cx="133992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water treatment pl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9480" y="235548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ral ho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1520" y="32954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920" y="448920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7600" y="370188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imal feedl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71960" y="4235040"/>
              <a:ext cx="1123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22760" y="4681080"/>
              <a:ext cx="254160" cy="50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863960" y="4668480"/>
              <a:ext cx="59688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879560" y="1773000"/>
              <a:ext cx="116856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43200" y="1772640"/>
              <a:ext cx="304920" cy="223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048120" y="1773000"/>
              <a:ext cx="139680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048120" y="1773000"/>
              <a:ext cx="2844720" cy="171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035160" y="1760040"/>
              <a:ext cx="3276720" cy="23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645320" y="655308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4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03320" y="1341360"/>
            <a:ext cx="371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xygen sa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8440" y="1341360"/>
            <a:ext cx="561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influencing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1480" y="1969920"/>
            <a:ext cx="7234200" cy="486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73040" y="6512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5 p. 4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440" y="1330200"/>
            <a:ext cx="450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utroph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6320" y="2043000"/>
            <a:ext cx="7186680" cy="48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2680" y="65437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7 p. 4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The Great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414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04920" y="1093680"/>
            <a:ext cx="6727680" cy="57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63440" y="6315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8 p.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365200"/>
            <a:ext cx="91440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water Pollution: 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360" y="1185840"/>
            <a:ext cx="352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flow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7360" y="1189080"/>
            <a:ext cx="372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w 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6720" y="173196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359080"/>
            <a:ext cx="7040520" cy="44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4200" y="3511440"/>
            <a:ext cx="1068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l strip mine run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4041720"/>
            <a:ext cx="917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71600" y="445932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te lag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5029200"/>
            <a:ext cx="1027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 sp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6122880"/>
            <a:ext cx="1150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water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1240" y="5789520"/>
            <a:ext cx="18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7880" y="5464080"/>
            <a:ext cx="96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0520" y="4954680"/>
            <a:ext cx="1947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kage from faulty c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75400" y="3144960"/>
            <a:ext cx="256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zardous waste injection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49840" y="336384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4170240"/>
            <a:ext cx="12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641760"/>
            <a:ext cx="140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ied gasoline and solvent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9800" y="4524480"/>
            <a:ext cx="784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9360" y="4000680"/>
            <a:ext cx="113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sspool septic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2160" y="3603600"/>
            <a:ext cx="957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-icing road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136600">
            <a:off x="3111480" y="571032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36600">
            <a:off x="3129120" y="604152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0680" y="4498920"/>
            <a:ext cx="1298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 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2160" y="4745160"/>
            <a:ext cx="87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019160" y="3960360"/>
            <a:ext cx="16200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35040" y="4260960"/>
            <a:ext cx="33516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466720" y="4711680"/>
            <a:ext cx="112680" cy="18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90560" y="4829040"/>
            <a:ext cx="90360" cy="2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30720" y="4878360"/>
            <a:ext cx="5076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43360" y="3686040"/>
            <a:ext cx="3744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72040" y="4019400"/>
            <a:ext cx="81000" cy="7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68720" y="4670280"/>
            <a:ext cx="1526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300200" y="4101840"/>
            <a:ext cx="11124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88200" y="4352400"/>
            <a:ext cx="10152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0440" y="5713560"/>
            <a:ext cx="222480" cy="13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42080" y="4995720"/>
            <a:ext cx="33516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5320" y="3417480"/>
            <a:ext cx="2840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26000" y="4744800"/>
            <a:ext cx="8100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0120" y="5613480"/>
            <a:ext cx="263520" cy="54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0000" y="5913360"/>
            <a:ext cx="333360" cy="24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7880" y="1677960"/>
            <a:ext cx="312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9 p. 5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oundwater Pollution Preven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3600" y="1614600"/>
            <a:ext cx="36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itor aqu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4080" y="3406680"/>
            <a:ext cx="463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ak dete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440" y="4389480"/>
            <a:ext cx="8448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ctly regulating hazardous waste 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3520" y="5410080"/>
            <a:ext cx="822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re hazardous materials 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440" y="2519280"/>
            <a:ext cx="60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less hazardous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8:23Z</dcterms:modified>
  <cp:revision>62</cp:revision>
  <dc:subject/>
  <dc:title>PowerPoint Presentation</dc:title>
</cp:coreProperties>
</file>