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E9F0-BD34-4334-944B-CF46FB778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4CB4-A39F-43AE-ADB7-D503D346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ECCA-2734-425A-BB15-A7926D16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D9A5-4033-4882-9A54-0FE70F64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2F81-C691-4190-A7ED-4D499790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1067-3A0A-4041-A376-047CB180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6BA7-9960-4C57-B994-549D73AD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1944-A1F1-4321-ACDF-0127012F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3B75-568A-4DE8-8718-6F2FF51B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0A21-ACBB-4670-AACA-DF640EAC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F3DF-3F1B-4565-B02A-37994D37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1484-8D70-47A4-8E6C-97CF5809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22CD-601E-4A1A-8C0C-15774BE70AF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ater 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2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cean 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3491" r="0" b="3491"/>
          <a:stretch/>
        </p:blipFill>
        <p:spPr>
          <a:xfrm>
            <a:off x="593640" y="1219320"/>
            <a:ext cx="8039160" cy="560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7064640" y="65152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2-11 p. 5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ase Study:  Chesapeake Ba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7480" y="1563840"/>
            <a:ext cx="27572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rgest US estu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5320" y="3209760"/>
            <a:ext cx="37875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latively sha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7480" y="4370400"/>
            <a:ext cx="37717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low “flushing” action to Atlan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080" y="6018120"/>
            <a:ext cx="6561360" cy="6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jor problems with dissolved 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887640" y="1204920"/>
            <a:ext cx="5256360" cy="48308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588800" y="604836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2-13 p. 5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il Spill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7480" y="1143000"/>
            <a:ext cx="90565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urces:  offshore wells, tankers, pipelines and storage t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480" y="2427120"/>
            <a:ext cx="90565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ffects:  death of organisms, loss of animal insulation and buoyancy, smoth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480" y="3713040"/>
            <a:ext cx="9056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gnificant economic imp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7480" y="4510080"/>
            <a:ext cx="90565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chanical cleanup methods: skimmers and blo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7480" y="5796000"/>
            <a:ext cx="90565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hemical cleanup methods:  coagulants and dispersing ag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utions:  Preventing and Reducing Surface Water Pollu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8840" y="1736640"/>
            <a:ext cx="4032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Nonpoint 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87320" y="1738440"/>
            <a:ext cx="3157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Point 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-30960" y="2963880"/>
            <a:ext cx="3745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duce runof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-34920" y="3886200"/>
            <a:ext cx="32464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uffer zone vege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-32760" y="5457960"/>
            <a:ext cx="4807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duce soil ero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76960" y="2963880"/>
            <a:ext cx="4295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ean Water 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76600" y="3886200"/>
            <a:ext cx="4664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 Quality 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echnological Approach:  Septic System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92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40" y="1481040"/>
            <a:ext cx="9095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quire suitable soils and mainten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2-15 p. 5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000160" y="2106720"/>
            <a:ext cx="5148360" cy="4751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echnological Approach:  Sewage Treatment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92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20" y="1481040"/>
            <a:ext cx="7870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hysical and biological treat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10094" r="0" b="9412"/>
          <a:stretch/>
        </p:blipFill>
        <p:spPr>
          <a:xfrm>
            <a:off x="1141560" y="2647800"/>
            <a:ext cx="6858000" cy="414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6" name=""/>
          <p:cNvSpPr/>
          <p:nvPr/>
        </p:nvSpPr>
        <p:spPr>
          <a:xfrm>
            <a:off x="6442560" y="233856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2-16 p. 5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echnological Approach:  Advanced (Tertiary) Sewage Treatment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60" y="1943280"/>
            <a:ext cx="8673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ses physical and chemical proce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00" y="2765520"/>
            <a:ext cx="7471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moves nitrate and phosph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40" y="3662280"/>
            <a:ext cx="2832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pens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00" y="4653000"/>
            <a:ext cx="4071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t widely u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echnological Approach:  Using Wetlands to Treat Sewage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92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92160" y="1420920"/>
            <a:ext cx="8985240" cy="54370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503120" y="654372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2-18 p. 5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Drinking Water Qualit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7120" y="4165560"/>
            <a:ext cx="5684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fe Drinking Water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2200" y="5005440"/>
            <a:ext cx="8558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ximum contaminant levels (MC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0360" y="1693800"/>
            <a:ext cx="82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urification of urban drinking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8920" y="5865840"/>
            <a:ext cx="3349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ottled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0120" y="2492280"/>
            <a:ext cx="82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tection from terro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8040" y="3362400"/>
            <a:ext cx="82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urification of rural drinking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680" y="1494000"/>
            <a:ext cx="8864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ypes, sources, and effects of water pollut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9680" y="2584440"/>
            <a:ext cx="8607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jor pollution problems of surfac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9680" y="3676680"/>
            <a:ext cx="8732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jor pollution problems of ground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9680" y="4768920"/>
            <a:ext cx="8447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duction and prevention of water pol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6800" y="5861160"/>
            <a:ext cx="46335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rinking water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ypes, Effects and Sources of Water Pollu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60" y="1650960"/>
            <a:ext cx="352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int 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0" y="2803680"/>
            <a:ext cx="4397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point 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60" y="3948120"/>
            <a:ext cx="3664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 qua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45120" y="2093760"/>
            <a:ext cx="37177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fer to Tables 22-1 and 22-2 p. 492 and 4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38160" y="3637080"/>
            <a:ext cx="2359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2-3 p. 4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575" t="5249" r="3150" b="14661"/>
          <a:stretch/>
        </p:blipFill>
        <p:spPr>
          <a:xfrm>
            <a:off x="4572000" y="3975120"/>
            <a:ext cx="4572000" cy="2882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9600"/>
            <a:ext cx="9144000" cy="537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int and Nonpoint 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1504800"/>
            <a:ext cx="9144000" cy="5367240"/>
            <a:chOff x="0" y="1504800"/>
            <a:chExt cx="9144000" cy="536724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0" y="1836360"/>
              <a:ext cx="9144000" cy="503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2073240" y="1504800"/>
              <a:ext cx="204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NPOINT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1440" y="3346200"/>
              <a:ext cx="132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rban stree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268360" y="4311360"/>
              <a:ext cx="133992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burban develop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119400" y="4971600"/>
              <a:ext cx="1339920" cy="6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astewater treatment pl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79480" y="235548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ural ho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61520" y="3295440"/>
              <a:ext cx="96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ropl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162920" y="4489200"/>
              <a:ext cx="82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ac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87600" y="3701880"/>
              <a:ext cx="140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nimal feedlo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071960" y="4235040"/>
              <a:ext cx="112392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INT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622760" y="4681080"/>
              <a:ext cx="254160" cy="50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863960" y="4668480"/>
              <a:ext cx="596880" cy="49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1879560" y="1773000"/>
              <a:ext cx="1168560" cy="95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2743200" y="1772640"/>
              <a:ext cx="304920" cy="2235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3048120" y="1773000"/>
              <a:ext cx="1396800" cy="55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3048120" y="1773000"/>
              <a:ext cx="2844720" cy="171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3035160" y="1760040"/>
              <a:ext cx="3276720" cy="232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7645320" y="6553080"/>
            <a:ext cx="14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2-4 p. 4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llution of Strea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103320" y="1341360"/>
            <a:ext cx="3711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xygen sag 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38440" y="1341360"/>
            <a:ext cx="561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actors influencing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41480" y="1969920"/>
            <a:ext cx="7234200" cy="4869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773040" y="651204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2-5 p. 4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llution of Lak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2440" y="1330200"/>
            <a:ext cx="4508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utrophic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76320" y="2043000"/>
            <a:ext cx="7186680" cy="4815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682680" y="654372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2-7 p. 4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ase Study:  The Great Lak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0414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04920" y="1093680"/>
            <a:ext cx="6727680" cy="5764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463440" y="631512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2-8 p. 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365200"/>
            <a:ext cx="9144000" cy="44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roundwater Pollution:  Caus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7360" y="1185840"/>
            <a:ext cx="3525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w flow r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67360" y="1189080"/>
            <a:ext cx="3720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ew bacte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76720" y="1731960"/>
            <a:ext cx="457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ld temper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4360" y="2359080"/>
            <a:ext cx="7040520" cy="4498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84200" y="3511440"/>
            <a:ext cx="106848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al strip mine run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36720" y="4041720"/>
            <a:ext cx="917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mping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71600" y="4459320"/>
            <a:ext cx="130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ste lag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60720" y="5029200"/>
            <a:ext cx="102708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idental sp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6122880"/>
            <a:ext cx="11509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oundwater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61240" y="5789520"/>
            <a:ext cx="18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fined aqui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27880" y="5464080"/>
            <a:ext cx="966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40520" y="4954680"/>
            <a:ext cx="194796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akage from faulty ca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75400" y="3144960"/>
            <a:ext cx="2568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zardous waste injection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49840" y="3363840"/>
            <a:ext cx="1109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35400" y="4170240"/>
            <a:ext cx="1258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soline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3641760"/>
            <a:ext cx="140976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ried gasoline and solvent t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9800" y="4524480"/>
            <a:ext cx="784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29360" y="4000680"/>
            <a:ext cx="113976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sspool septic t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62160" y="3603600"/>
            <a:ext cx="9572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-icing road sa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20136600">
            <a:off x="3111480" y="5710320"/>
            <a:ext cx="23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confined freshwater aqui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20136600">
            <a:off x="3129120" y="6041520"/>
            <a:ext cx="220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fined freshwater aqui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30680" y="4498920"/>
            <a:ext cx="12985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ter pumping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32160" y="4745160"/>
            <a:ext cx="874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df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1019160" y="3960360"/>
            <a:ext cx="162000" cy="2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535040" y="4260960"/>
            <a:ext cx="335160" cy="209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2466720" y="4711680"/>
            <a:ext cx="112680" cy="184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490560" y="4829040"/>
            <a:ext cx="90360" cy="2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230720" y="4878360"/>
            <a:ext cx="50760" cy="10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943360" y="3686040"/>
            <a:ext cx="374400" cy="3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972040" y="4019400"/>
            <a:ext cx="81000" cy="725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4968720" y="4670280"/>
            <a:ext cx="15264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4300200" y="4101840"/>
            <a:ext cx="111240" cy="8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388200" y="4352400"/>
            <a:ext cx="101520" cy="15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70440" y="5713560"/>
            <a:ext cx="222480" cy="13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42080" y="4995720"/>
            <a:ext cx="335160" cy="4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7015320" y="3417480"/>
            <a:ext cx="284040" cy="268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526000" y="4744800"/>
            <a:ext cx="81000" cy="8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10120" y="5613480"/>
            <a:ext cx="263520" cy="54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0000" y="5913360"/>
            <a:ext cx="333360" cy="24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7880" y="1677960"/>
            <a:ext cx="3129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w oxyg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2-9 p. 5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Groundwater Pollution Preven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3600" y="1614600"/>
            <a:ext cx="36046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nitor aqui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4080" y="3406680"/>
            <a:ext cx="4635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eak detec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4440" y="4389480"/>
            <a:ext cx="8448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rictly regulating hazardous waste dispo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3520" y="5410080"/>
            <a:ext cx="8226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ore hazardous materials above 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2440" y="2519280"/>
            <a:ext cx="6023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nd less hazardous substit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38:23Z</dcterms:modified>
  <cp:revision>62</cp:revision>
  <dc:subject/>
  <dc:title>PowerPoint Presentation</dc:title>
</cp:coreProperties>
</file>