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2B08-FFEA-417B-A848-C55EAC6E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7C8F-1F5D-416C-8B39-1A73DB68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D734-B784-4222-898C-A6A10DD55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9DFF-8907-4162-A25A-75964A92D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C5B3-D1B6-4DE2-AF67-68AB4534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46E0-9557-418B-BBF3-6B85165C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79AF-5DBA-422E-B968-7DFFE1CB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FC1D-A632-4E56-8A39-F8D29855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C06A-9D00-41F8-B4CE-AB7DFBAA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F063-22AA-4587-8086-9174666D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D5D1-3E0E-4F8C-A4C7-DDDEAE47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50D5-3263-4C35-8467-D9D2EFF2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CEEB-64CE-4DEC-AA08-1EC295EF6F8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nvironmental History:  Learning from the Past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nvironmental History of the United States:  The Environmental Era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6480" y="1612800"/>
            <a:ext cx="5061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iod:  1960-To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7920" y="2496960"/>
            <a:ext cx="6922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environmental mov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840" y="3381480"/>
            <a:ext cx="5384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science of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ec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8640" y="4265640"/>
            <a:ext cx="658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aceship Earth world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080" y="5149800"/>
            <a:ext cx="8566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980’s: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acklash against environment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8640" y="6033960"/>
            <a:ext cx="7954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990’s:  environmental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ortant Figures During The Environmental Era –  Part 1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2920" y="1770120"/>
            <a:ext cx="849096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achel Carson: 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ilent Sprin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(1962)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Se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dividuals Mat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n p. 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20" y="3921120"/>
            <a:ext cx="654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ichard Nixon:  EPA; E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7240" y="5646600"/>
            <a:ext cx="7803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immy Carter:  DOE, Superf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ortant Figures During The Environmental Era –  Part 1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55760" y="1927080"/>
            <a:ext cx="4503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onald Reag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68360" y="3076560"/>
            <a:ext cx="9048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3440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ll Clint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13000" y="4316400"/>
            <a:ext cx="9048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orge W. Bush J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ase Study:  Aldo Leopold and His Land Ethic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440" y="1709640"/>
            <a:ext cx="7346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ividuals are interdepen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0440" y="2516040"/>
            <a:ext cx="5820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thics:  respect for 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160" y="3322800"/>
            <a:ext cx="7543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hift from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nqueror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o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me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6120" y="4129200"/>
            <a:ext cx="86122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blems arise when land viewed as a commod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6120" y="5546880"/>
            <a:ext cx="85917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servation of the integrity, stability, and beauty of land is r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92840" y="1504800"/>
            <a:ext cx="66405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ree Major “Revolutions”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Human 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444960" y="2935440"/>
            <a:ext cx="7144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U.S. Environmental His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4560" y="3740040"/>
            <a:ext cx="5863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ibal and Frontier 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3840" y="4545000"/>
            <a:ext cx="5823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arly Conservation 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5280" y="5349960"/>
            <a:ext cx="5820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Environmental 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6000" y="6156360"/>
            <a:ext cx="651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do Leopold’s Land Eth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ultural Changes and the Environment: Hunter-Gatherer Culture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2640" y="2211480"/>
            <a:ext cx="4057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unter-gather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9880" y="4762440"/>
            <a:ext cx="8006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ually limited environmental imp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1920" y="3486240"/>
            <a:ext cx="6535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madic:  seasonal mov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ultural Changes and the Environment: The Agricultural Revolution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8080" y="1797120"/>
            <a:ext cx="3169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gri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8800" y="2728800"/>
            <a:ext cx="79347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lash and burn/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hifting cultivation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(See Fig. 2-2 p. 2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800" y="4270320"/>
            <a:ext cx="8352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ssentially sustainable resource 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0240" y="5202360"/>
            <a:ext cx="7655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creased environmental imp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7640" y="6145200"/>
            <a:ext cx="70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Refer to </a:t>
            </a:r>
            <a:r>
              <a:rPr b="1" i="1" lang="en-US" sz="2800" spc="-1" strike="noStrike">
                <a:solidFill>
                  <a:srgbClr val="ffffff"/>
                </a:solidFill>
                <a:latin typeface="Arial Unicode MS"/>
              </a:rPr>
              <a:t>Trade-Offs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 in Fig. 2-3 on p. 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ultural Changes and the Environment:  The Industrial-Medical Revolution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80" y="1797120"/>
            <a:ext cx="8167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ustrial Revolution (mid-1700’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87496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hift to dependence on non-renewable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56264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ramatic increase in environmental imp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92800" y="6338880"/>
            <a:ext cx="7461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 to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rade-off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Fig. 2-4 on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. 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ultural Changes and the Environment:  The Information/Globalization Revolution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6640" y="1797120"/>
            <a:ext cx="6234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formation Rev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6640" y="2637000"/>
            <a:ext cx="80074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ate of information increase and speed of commun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4520" y="4121280"/>
            <a:ext cx="379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lobal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0120" y="5092560"/>
            <a:ext cx="699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crease in cultural di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01880" y="6076800"/>
            <a:ext cx="64720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62160" y="6338880"/>
            <a:ext cx="62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er to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rade-off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Fig. 2-5 on p. 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nvironmental History of the United States:  The Tribal and Frontier Era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040" y="1628640"/>
            <a:ext cx="6596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ribal Era:  Native Americ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0160" y="2479680"/>
            <a:ext cx="874368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ative Americans caused some extinctions, but generally were low-impact hunter-gather or agricultural socie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0160" y="4140360"/>
            <a:ext cx="87516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rontier Environmental Worldview:  European Settlement  (1607-189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0160" y="5670720"/>
            <a:ext cx="86486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ignificant impact as wilderness frontier was “tamed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nvironmental History of the United States:  The Early Conservation Era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760" y="1889280"/>
            <a:ext cx="4696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iod:  1832-196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1920" y="2855880"/>
            <a:ext cx="6398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cern over resource 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1920" y="3824280"/>
            <a:ext cx="6712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servation of public la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1560" y="4791240"/>
            <a:ext cx="5739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ublic health initia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2640" y="5759280"/>
            <a:ext cx="8306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restoration proj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ortant Figures During The Early Conservation Era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3080" y="1558800"/>
            <a:ext cx="5425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enry David Thorea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3440" y="2448000"/>
            <a:ext cx="5566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orge Perkins Mar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3080" y="3336840"/>
            <a:ext cx="2957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ohn Mu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2360" y="4226040"/>
            <a:ext cx="4933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odore Rooseve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3800" y="5114880"/>
            <a:ext cx="4057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ifford Pinch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2720" y="6004080"/>
            <a:ext cx="4764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ranklin Rooseve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6:50:40Z</dcterms:modified>
  <cp:revision>37</cp:revision>
  <dc:subject/>
  <dc:title>PowerPoint Presentation</dc:title>
</cp:coreProperties>
</file>