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B6FD-BEBB-4249-8056-EE69F92ED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E1C0-0E8A-4B4D-9D2B-615F9BD46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AA56-D5D4-4B4F-87DF-5274CAFE3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4D81-A516-4DE9-BF1A-B896E1FF8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0CE4-0F9F-4872-8CD6-0A97FB681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B7EB-FEBC-42C5-BE1E-F3BA668BB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8356-8FAE-4E1A-A225-421E60A64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9BFA-CB83-423C-9470-BDFBA2DD9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485A-850A-4FA1-9885-FC3EBCB9C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A9F4-F5B3-4C02-89BF-30FE230EF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F1FC-2DEB-406D-8D37-7AFF2F58E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04E3-CA43-4C62-8073-D56893746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3AAC4-4442-46A0-9626-3CA20596417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584360" y="2181240"/>
            <a:ext cx="6966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22360" y="2387520"/>
            <a:ext cx="63756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3680" indent="-463680">
              <a:spcBef>
                <a:spcPts val="2500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Environmental History:  Learning from the Past</a:t>
            </a: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95880" y="2438280"/>
            <a:ext cx="5950440" cy="314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. Tyler Miller’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iving in the Environ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14</a:t>
            </a:r>
            <a:r>
              <a:rPr b="1" lang="en-US" sz="40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Edi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hapter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Environmental History of the United States:  The Environmental Era</a:t>
            </a: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3780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6480" y="1612800"/>
            <a:ext cx="50619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eriod:  1960-Toda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7920" y="2496960"/>
            <a:ext cx="69228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environmental move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6840" y="3381480"/>
            <a:ext cx="53848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e science of </a:t>
            </a: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ecolog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8640" y="4265640"/>
            <a:ext cx="65826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paceship Earth world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080" y="5149800"/>
            <a:ext cx="85669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1980’s: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acklash against environmentali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8640" y="6033960"/>
            <a:ext cx="79542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1990’s:  environmental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Important Figures During The Environmental Era –  Part 1</a:t>
            </a: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13780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42920" y="1770120"/>
            <a:ext cx="8490960" cy="113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achel Carson:  </a:t>
            </a: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Silent Spring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(1962)</a:t>
            </a:r>
            <a:br>
              <a:rPr sz="40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See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Individuals Matte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on p. 2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44720" y="3921120"/>
            <a:ext cx="6549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ichard Nixon:  EPA; ES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7240" y="5646600"/>
            <a:ext cx="78033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Jimmy Carter:  DOE, Superfu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Important Figures During The Environmental Era –  Part 1</a:t>
            </a: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13780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355760" y="1927080"/>
            <a:ext cx="45036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onald Reag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368360" y="3076560"/>
            <a:ext cx="90489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3440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ill Clint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413000" y="4316400"/>
            <a:ext cx="90486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5140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eorge W. Bush J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Case Study:  Aldo Leopold and His Land Ethic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13780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80440" y="1709640"/>
            <a:ext cx="73461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ndividuals are interdepend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80440" y="2516040"/>
            <a:ext cx="58208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thics:  respect for l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81160" y="3322800"/>
            <a:ext cx="75430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hift from </a:t>
            </a: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onqueror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to </a:t>
            </a: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memb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76120" y="4129200"/>
            <a:ext cx="861228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roblems arise when land viewed as a commod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76120" y="5546880"/>
            <a:ext cx="859176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reservation of the integrity, stability, and beauty of land is righ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Key Concepts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92840" y="1504800"/>
            <a:ext cx="664056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ree Major “Revolutions”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n Human Cul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-444960" y="2935440"/>
            <a:ext cx="71449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U.S. Environmental Histo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4560" y="3740040"/>
            <a:ext cx="58633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ribal and Frontier Er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83840" y="4545000"/>
            <a:ext cx="58237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arly Conservation Er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85280" y="5349960"/>
            <a:ext cx="58208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e Environmental Er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86000" y="6156360"/>
            <a:ext cx="65127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ldo Leopold’s Land Ethi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Cultural Changes and the Environment: Hunter-Gatherer Culture</a:t>
            </a: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3780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32640" y="2211480"/>
            <a:ext cx="40575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unter-gather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9880" y="4762440"/>
            <a:ext cx="8006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Usually limited environmental impa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31920" y="3486240"/>
            <a:ext cx="65354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omadic:  seasonal move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8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Cultural Changes and the Environment: The Agricultural Revolution</a:t>
            </a: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3780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8080" y="1797120"/>
            <a:ext cx="31690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gricul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8800" y="2728800"/>
            <a:ext cx="793476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lash and burn/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hifting cultivation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(See Fig. 2-2 p. 2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8800" y="4270320"/>
            <a:ext cx="8352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ssentially sustainable resource u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90240" y="5202360"/>
            <a:ext cx="76557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ncreased environmental impac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17640" y="6145200"/>
            <a:ext cx="707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</a:rPr>
              <a:t>Refer to </a:t>
            </a:r>
            <a:r>
              <a:rPr b="1" i="1" lang="en-US" sz="2800" spc="-1" strike="noStrike">
                <a:solidFill>
                  <a:srgbClr val="ffffff"/>
                </a:solidFill>
                <a:latin typeface="Arial Unicode MS"/>
              </a:rPr>
              <a:t>Trade-Offs</a:t>
            </a:r>
            <a:r>
              <a:rPr b="1" lang="en-US" sz="2800" spc="-1" strike="noStrike">
                <a:solidFill>
                  <a:srgbClr val="ffffff"/>
                </a:solidFill>
                <a:latin typeface="Arial Unicode MS"/>
              </a:rPr>
              <a:t> in Fig. 2-3 on p. 2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8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Cultural Changes and the Environment:  The Industrial-Medical Revolution</a:t>
            </a: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13780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680" y="1797120"/>
            <a:ext cx="81676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ndustrial Revolution (mid-1700’s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87496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hift to dependence on non-renewable resour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456264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ramatic increase in environmental impac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92800" y="6338880"/>
            <a:ext cx="74617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 to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Trade-offs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 Fig. 2-4 on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. 2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8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Cultural Changes and the Environment:  The Information/Globalization Revolution</a:t>
            </a: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13780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66640" y="1797120"/>
            <a:ext cx="6234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nformation Revolu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66640" y="2637000"/>
            <a:ext cx="800748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ate of information increase and speed of communic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14520" y="4121280"/>
            <a:ext cx="37987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lobaliz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00120" y="5092560"/>
            <a:ext cx="6999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ecrease in cultural divers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001880" y="6076800"/>
            <a:ext cx="647208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262160" y="6338880"/>
            <a:ext cx="62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efer to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Trade-offs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n Fig. 2-5 on p. 2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Environmental History of the United States:  The Tribal and Frontier Eras</a:t>
            </a: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3780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3040" y="1628640"/>
            <a:ext cx="65966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ribal Era:  Native America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00160" y="2479680"/>
            <a:ext cx="874368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Native Americans caused some extinctions, but generally were low-impact hunter-gather or agricultural socie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00160" y="4140360"/>
            <a:ext cx="875160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Frontier Environmental Worldview:  European Settlement  (1607-1890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00160" y="5670720"/>
            <a:ext cx="864864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ignificant impact as wilderness frontier was “tamed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Environmental History of the United States:  The Early Conservation Era</a:t>
            </a: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13780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9760" y="1889280"/>
            <a:ext cx="46962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eriod:  1832-196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1920" y="2855880"/>
            <a:ext cx="63982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oncern over resource u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1920" y="3824280"/>
            <a:ext cx="67122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reservation of public lan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21560" y="4791240"/>
            <a:ext cx="57398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ublic health initiativ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22640" y="5759280"/>
            <a:ext cx="83062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nvironmental restoration projec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Important Figures During The Early Conservation Era</a:t>
            </a: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13780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23080" y="1558800"/>
            <a:ext cx="54259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Henry David Thorea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3440" y="2448000"/>
            <a:ext cx="55663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eorge Perkins Mars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23080" y="3336840"/>
            <a:ext cx="29570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John Mui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22360" y="4226040"/>
            <a:ext cx="49338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eodore Roosevel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23800" y="5114880"/>
            <a:ext cx="40575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ifford Pinch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22720" y="6004080"/>
            <a:ext cx="47646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Franklin Roosevel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3T01:21:45Z</dcterms:created>
  <dc:creator>Richard Clements</dc:creator>
  <dc:description/>
  <dc:language>en-US</dc:language>
  <cp:lastModifiedBy>Laura Murray</cp:lastModifiedBy>
  <dcterms:modified xsi:type="dcterms:W3CDTF">2004-10-07T16:50:40Z</dcterms:modified>
  <cp:revision>37</cp:revision>
  <dc:subject/>
  <dc:title>PowerPoint Presentation</dc:title>
</cp:coreProperties>
</file>