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932-28C1-4D1E-8E16-0202A39E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E36-2A97-4859-AA3F-687255D5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FCA-18C1-41A0-BF79-AF2E1595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559-756A-481B-A7D6-B1205ADE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4C8D-D946-4317-BE0D-7691751F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6AD-4E51-4CC5-83F9-6C185D1E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CFB-A426-4B1A-BA71-BF947125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0F8-F675-4ED1-BAAB-153CCA52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58C-3618-472C-9C94-DA99EDB3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4B2-F7DA-4AF4-B8F8-6D05EF57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89C-AE97-4FE2-93EA-DAA7298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FE4-24CD-4487-84B2-80A7CE91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4158-F02E-4CA3-96B2-0B6AD781CC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vironmental History:  Learning from the Pas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vironmental History of the United States:  The Environmental Era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6480" y="1612800"/>
            <a:ext cx="506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iod:  1960-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7920" y="2496960"/>
            <a:ext cx="692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nvironmental mov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840" y="3381480"/>
            <a:ext cx="538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cience of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8640" y="4265640"/>
            <a:ext cx="658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aceship Earth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080" y="5149800"/>
            <a:ext cx="8566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80’s: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klash against environment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8640" y="6033960"/>
            <a:ext cx="7954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90’s:  environmental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ortant Figures During The Environmental Era –  Part 1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2920" y="1770120"/>
            <a:ext cx="849096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chel Carson: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lent Spr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1962)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Se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dividuals Mat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p.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20" y="3921120"/>
            <a:ext cx="654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ichard Nixon:  EPA; E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7240" y="5646600"/>
            <a:ext cx="780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immy Carter:  DOE, Superf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ortant Figures During The Environmental Era –  Part 1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55760" y="1927080"/>
            <a:ext cx="450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nald Reag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68360" y="3076560"/>
            <a:ext cx="9048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3440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ll Clin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13000" y="4316400"/>
            <a:ext cx="904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rge W. Bush J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se Study:  Aldo Leopold and His Land Ethic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440" y="1709640"/>
            <a:ext cx="734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viduals are inter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0440" y="2516040"/>
            <a:ext cx="582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thics:  respect for 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160" y="3322800"/>
            <a:ext cx="754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ift from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nquero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6120" y="4129200"/>
            <a:ext cx="86122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blems arise when land viewed as a commod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6120" y="5546880"/>
            <a:ext cx="8591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servation of the integrity, stability, and beauty of land is 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2840" y="1504800"/>
            <a:ext cx="66405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ree Major “Revolutions”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Human 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444960" y="2935440"/>
            <a:ext cx="7144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U.S. Environmental Hi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4560" y="3740040"/>
            <a:ext cx="586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ibal and Frontier 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3840" y="4545000"/>
            <a:ext cx="5823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ly Conservation 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5280" y="5349960"/>
            <a:ext cx="582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Environmental 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6000" y="6156360"/>
            <a:ext cx="651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do Leopold’s Land Eth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ultural Changes and the Environment: Hunter-Gatherer Culture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2640" y="2211480"/>
            <a:ext cx="405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nter-gather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9880" y="4762440"/>
            <a:ext cx="8006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ually limited environmental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1920" y="3486240"/>
            <a:ext cx="6535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madic:  seasonal m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ultural Changes and the Environment: The Agricultural Revolu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080" y="1797120"/>
            <a:ext cx="316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800" y="2728800"/>
            <a:ext cx="7934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ash and burn/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ifting cultivatio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(See Fig. 2-2 p. 2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800" y="4270320"/>
            <a:ext cx="835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ssentially sustainable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0240" y="5202360"/>
            <a:ext cx="7655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reased environmental imp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7640" y="614520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 Unicode MS"/>
              </a:rPr>
              <a:t>Trade-Offs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in Fig. 2-3 on p.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ultural Changes and the Environment:  The Industrial-Medical Revolu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0" y="1797120"/>
            <a:ext cx="8167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ustrial Revolution (mid-1700’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87496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ift to dependence on non-renewable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56264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amatic increase in environmental imp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2800" y="6338880"/>
            <a:ext cx="7461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rade-off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Fig. 2-4 o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.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ultural Changes and the Environment:  The Information/Globalization Revolu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6640" y="1797120"/>
            <a:ext cx="623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formation Rev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6640" y="2637000"/>
            <a:ext cx="8007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te of information increase and speed of 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4520" y="4121280"/>
            <a:ext cx="379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lob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0120" y="5092560"/>
            <a:ext cx="699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rease in cultural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1880" y="6076800"/>
            <a:ext cx="64720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62160" y="6338880"/>
            <a:ext cx="62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ade-off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Fig. 2-5 on p.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vironmental History of the United States:  The Tribal and Frontier Era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040" y="1628640"/>
            <a:ext cx="659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ibal Era:  Native Americ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0160" y="2479680"/>
            <a:ext cx="87436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tive Americans caused some extinctions, but generally were low-impact hunter-gather or agricultural socie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0160" y="4140360"/>
            <a:ext cx="87516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ontier Environmental Worldview:  European Settlement  (1607-189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670720"/>
            <a:ext cx="8648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gnificant impact as wilderness frontier was “tamed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vironmental History of the United States:  The Early Conservation Era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760" y="1889280"/>
            <a:ext cx="469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iod:  1832-19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1920" y="2855880"/>
            <a:ext cx="639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cern over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920" y="3824280"/>
            <a:ext cx="671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servation of public l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1560" y="4791240"/>
            <a:ext cx="573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blic health initi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640" y="5759280"/>
            <a:ext cx="830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restoration pro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ortant Figures During The Early Conservation Era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3080" y="1558800"/>
            <a:ext cx="542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nry David Thor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3440" y="2448000"/>
            <a:ext cx="5566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rge Perkins Mar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3080" y="3336840"/>
            <a:ext cx="2957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Mu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2360" y="4226040"/>
            <a:ext cx="493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odore Rooseve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3800" y="5114880"/>
            <a:ext cx="4057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fford Pinch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2720" y="6004080"/>
            <a:ext cx="476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anklin Rooseve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6:50:40Z</dcterms:modified>
  <cp:revision>37</cp:revision>
  <dc:subject/>
  <dc:title>PowerPoint Presentation</dc:title>
</cp:coreProperties>
</file>