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E27-8E08-4BAF-91FE-6BBB7510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BD7-89E7-438C-A904-4FDD0804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649-F613-4F6F-8E35-A179FF76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49D-8968-4DDF-9555-DA664295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CE9-1AEE-47EB-B982-C17B9F2A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C4E-C1E4-4585-9206-43346FDD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C06-4A42-4EF3-BF3E-DCF386EA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089-6231-4C01-ADA7-E9019E22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8A7-2BED-4B97-8B78-7E65547C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6FE-8A56-46E4-9AF8-EB55ED1C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643-ECC6-42C6-866D-3B13860D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12B-C007-42FF-95EC-A4ADFF24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9919-2EF5-45AC-A033-48636EFAA9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ergy Efficiency and Renewable Ener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arge-scale Hydroelectric Power: Trade-of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22 p. 3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00320" y="603360"/>
            <a:ext cx="4030560" cy="625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viewing the Trade-offs of Hydropower Da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60668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87440" y="6294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5-9 p. 3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ducing Electricity from Wind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37280" y="1165320"/>
            <a:ext cx="3846240" cy="5692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160640"/>
            <a:ext cx="5081760" cy="569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52008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23 p. 3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6792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24 p. 3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ducing Energy from Biomas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0" y="1230480"/>
            <a:ext cx="5203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mass and biofu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80" y="2050920"/>
            <a:ext cx="4993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mass plan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80" y="2871720"/>
            <a:ext cx="3662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op resid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0" y="3692520"/>
            <a:ext cx="405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imal man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80" y="4513320"/>
            <a:ext cx="219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g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5334120"/>
            <a:ext cx="247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thano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6156360"/>
            <a:ext cx="271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han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584680" y="1177920"/>
            <a:ext cx="2934000" cy="5680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00572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25 p. 3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othermal Ener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00" y="1406520"/>
            <a:ext cx="587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thermal heat pum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20" y="2292480"/>
            <a:ext cx="535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thermal ex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0" y="3179880"/>
            <a:ext cx="470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y and wet ste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20" y="4067280"/>
            <a:ext cx="281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t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954680"/>
            <a:ext cx="588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lten rock (magm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80" y="5842080"/>
            <a:ext cx="480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t dry-rock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e Hydrogen Revolu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080" y="2568600"/>
            <a:ext cx="740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racting hydrogen efficien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8600" y="355140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ring hydro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7360" y="4476600"/>
            <a:ext cx="264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el 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8720" y="1643040"/>
            <a:ext cx="833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ly friendly hydro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e Hydrogen Revolu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324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774800"/>
            <a:ext cx="9144000" cy="4216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538760" y="568944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31  p. 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tering the Age of Decentralized Micropowe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2880" y="1662120"/>
            <a:ext cx="5654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centralized pow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1080" y="2295360"/>
            <a:ext cx="421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cropow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64320" y="6553080"/>
            <a:ext cx="15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32 p. 4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76560" y="2886120"/>
            <a:ext cx="4903560" cy="397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A Sustainable Energy Strate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95200" y="1420920"/>
            <a:ext cx="8558280" cy="541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238880" y="652464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35  p. 4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0" y="1380960"/>
            <a:ext cx="672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ing energy effici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80" y="2022480"/>
            <a:ext cx="724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ypes and uses of solar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0" y="2662200"/>
            <a:ext cx="755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ypes and uses of flowing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00" y="3301920"/>
            <a:ext cx="495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s of wind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20" y="3941640"/>
            <a:ext cx="6331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ypes and uses of bio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" y="4581360"/>
            <a:ext cx="6145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 of geothermal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0" y="5221440"/>
            <a:ext cx="606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 of hydrogen as a f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20" y="5861160"/>
            <a:ext cx="689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entralized powe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Importance of Improving Energy Efficienc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1800" y="1682640"/>
            <a:ext cx="3652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ergy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3 p. 3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9398" t="0" r="21181" b="0"/>
          <a:stretch/>
        </p:blipFill>
        <p:spPr>
          <a:xfrm>
            <a:off x="4498920" y="1515960"/>
            <a:ext cx="4645080" cy="5018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3240" y="2351160"/>
            <a:ext cx="4275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t energy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5120" y="3213000"/>
            <a:ext cx="3624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ast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080" y="3816360"/>
            <a:ext cx="3966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andescent l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041800"/>
            <a:ext cx="4230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nal combustion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2160" y="4430880"/>
            <a:ext cx="4363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clear power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ergy Efficienci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Fig. 18-5 p. 381)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42880" y="1420920"/>
            <a:ext cx="2334960" cy="5313240"/>
            <a:chOff x="542880" y="1420920"/>
            <a:chExt cx="2334960" cy="53132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12547" t="0" r="20417" b="0"/>
            <a:stretch/>
          </p:blipFill>
          <p:spPr>
            <a:xfrm>
              <a:off x="569520" y="1420920"/>
              <a:ext cx="229896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rcRect l="15697" t="0" r="16205" b="0"/>
            <a:stretch/>
          </p:blipFill>
          <p:spPr>
            <a:xfrm>
              <a:off x="542880" y="4162320"/>
              <a:ext cx="2334960" cy="257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6280200" y="1420920"/>
            <a:ext cx="2173320" cy="5313240"/>
            <a:chOff x="6280200" y="1420920"/>
            <a:chExt cx="2173320" cy="5313240"/>
          </a:xfrm>
        </p:grpSpPr>
        <p:pic>
          <p:nvPicPr>
            <p:cNvPr id="72" name="" descr=""/>
            <p:cNvPicPr/>
            <p:nvPr/>
          </p:nvPicPr>
          <p:blipFill>
            <a:blip r:embed="rId3"/>
            <a:srcRect l="14630" t="0" r="21992" b="0"/>
            <a:stretch/>
          </p:blipFill>
          <p:spPr>
            <a:xfrm>
              <a:off x="6280200" y="1420920"/>
              <a:ext cx="217332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3" name="" descr=""/>
            <p:cNvPicPr/>
            <p:nvPr/>
          </p:nvPicPr>
          <p:blipFill>
            <a:blip r:embed="rId4"/>
            <a:srcRect l="18335" t="0" r="18335" b="0"/>
            <a:stretch/>
          </p:blipFill>
          <p:spPr>
            <a:xfrm>
              <a:off x="6282000" y="4162320"/>
              <a:ext cx="2171520" cy="257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3519360" y="1420920"/>
            <a:ext cx="2119320" cy="5313240"/>
            <a:chOff x="3519360" y="1420920"/>
            <a:chExt cx="2119320" cy="5313240"/>
          </a:xfrm>
        </p:grpSpPr>
        <p:pic>
          <p:nvPicPr>
            <p:cNvPr id="75" name="" descr=""/>
            <p:cNvPicPr/>
            <p:nvPr/>
          </p:nvPicPr>
          <p:blipFill>
            <a:blip r:embed="rId5"/>
            <a:srcRect l="15697" t="0" r="22500" b="0"/>
            <a:stretch/>
          </p:blipFill>
          <p:spPr>
            <a:xfrm>
              <a:off x="3519360" y="1420920"/>
              <a:ext cx="211932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6" name="" descr=""/>
            <p:cNvPicPr/>
            <p:nvPr/>
          </p:nvPicPr>
          <p:blipFill>
            <a:blip r:embed="rId6"/>
            <a:srcRect l="7118" t="0" r="16878" b="0"/>
            <a:stretch/>
          </p:blipFill>
          <p:spPr>
            <a:xfrm>
              <a:off x="3520800" y="4162320"/>
              <a:ext cx="2102040" cy="257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ays to Improve Energy Efficienc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6400" y="1365120"/>
            <a:ext cx="356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7840" y="2127240"/>
            <a:ext cx="584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icient electric mo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6760" y="2889360"/>
            <a:ext cx="572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-efficiency ligh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7480" y="3651120"/>
            <a:ext cx="5907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reasing fuel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6400" y="4413240"/>
            <a:ext cx="4906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ternative vehi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7120" y="5175360"/>
            <a:ext cx="2960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6400" y="5938920"/>
            <a:ext cx="284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ug lea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ybrid and Fuel Cell Car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0" y="1512720"/>
            <a:ext cx="9045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ybrid electric-internal combustion eng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0" y="2251080"/>
            <a:ext cx="24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el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16240" y="2131920"/>
            <a:ext cx="5927760" cy="472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7238160" y="6553080"/>
            <a:ext cx="23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8-9 p. 3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sing Solar Energy to Provide Hea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1120" y="1604880"/>
            <a:ext cx="514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ssive solar hea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1480" y="2332080"/>
            <a:ext cx="4948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 solar hea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39520" y="6553080"/>
            <a:ext cx="245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16 p. 3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00" y="3063960"/>
            <a:ext cx="4559040" cy="3419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86400" y="3063960"/>
            <a:ext cx="4557600" cy="34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sing Solar Energy to Provide High-Temperature Heat and Electric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37080" y="1703520"/>
            <a:ext cx="4476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ar therm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39240" y="2627280"/>
            <a:ext cx="4568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otovoltaic (PV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3324240"/>
            <a:ext cx="4322880" cy="324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79748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20 p. 3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0280" y="142704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8-21 p. 3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505480" y="1401840"/>
            <a:ext cx="3522600" cy="545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ducing Electricity from Moving Water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1120" y="1379520"/>
            <a:ext cx="5391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rge-scale hydro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0760" y="2496960"/>
            <a:ext cx="5340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mall-scale hydro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040" y="3614760"/>
            <a:ext cx="6332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mped-storage hydro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4732200"/>
            <a:ext cx="413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idal power 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0400" y="5850000"/>
            <a:ext cx="421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ve power 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4:53Z</dcterms:modified>
  <cp:revision>71</cp:revision>
  <dc:subject/>
  <dc:title>PowerPoint Presentation</dc:title>
</cp:coreProperties>
</file>