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C0E-2627-495E-A6BF-AA6187DE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400-6291-4005-A28E-96778E46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73F-3371-4F2F-8038-1EDDB191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73E-622A-4993-89AF-CEDA27ED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339-8FE4-4BE3-B791-DADB3399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4BB-4E5B-4F26-B18A-4CB5836D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712-7A61-4D4D-8248-9FED55F4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EB8-1AB7-44BF-8971-ADD241AB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B46-8CB5-4B16-BF41-4B765BFF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573-FC78-486F-9155-C54EE1CA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AD1-F900-456D-8A74-FB4609A7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D59-59DA-4388-8A33-9F98233A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8E56-99D8-4C0C-8AEF-91466CD614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 Efficiency and Renewable Ener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arge-scale Hydroelectric Power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2 p. 3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00320" y="603360"/>
            <a:ext cx="4030560" cy="625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viewing the Trade-offs of Hydropower Da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066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87440" y="6294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9 p. 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Electricity from Wind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37280" y="1165320"/>
            <a:ext cx="3846240" cy="5692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160640"/>
            <a:ext cx="5081760" cy="569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52008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23 p. 3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679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24 p. 3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Energy from Biomas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" y="1230480"/>
            <a:ext cx="520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ass and biofu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80" y="2050920"/>
            <a:ext cx="4993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ass pla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0" y="2871720"/>
            <a:ext cx="3662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 resid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0" y="3692520"/>
            <a:ext cx="405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imal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80" y="4513320"/>
            <a:ext cx="219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g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5334120"/>
            <a:ext cx="247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ano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6156360"/>
            <a:ext cx="271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an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584680" y="1177920"/>
            <a:ext cx="2934000" cy="568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057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5 p. 3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othermal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00" y="1406520"/>
            <a:ext cx="587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thermal heat pum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0" y="2292480"/>
            <a:ext cx="535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thermal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0" y="3179880"/>
            <a:ext cx="470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y and wet ste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20" y="4067280"/>
            <a:ext cx="281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t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954680"/>
            <a:ext cx="588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lten rock (magm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80" y="5842080"/>
            <a:ext cx="480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t dry-rock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e Hydrogen Revolu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080" y="2568600"/>
            <a:ext cx="740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acting hydrogen efficien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8600" y="355140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ing hydr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7360" y="4476600"/>
            <a:ext cx="264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el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720" y="1643040"/>
            <a:ext cx="833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ly friendly hydr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e Hydrogen Revolu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24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74800"/>
            <a:ext cx="9144000" cy="4216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38760" y="56894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31  p. 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tering the Age of Decentralized Micropow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2880" y="1662120"/>
            <a:ext cx="5654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entralized pow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1080" y="2295360"/>
            <a:ext cx="421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cropow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64320" y="655308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32 p. 4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76560" y="2886120"/>
            <a:ext cx="4903560" cy="39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 Sustainable Energy Strate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5200" y="1420920"/>
            <a:ext cx="8558280" cy="541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238880" y="65246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35  p. 4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380960"/>
            <a:ext cx="672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ing energy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2022480"/>
            <a:ext cx="724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solar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2662200"/>
            <a:ext cx="755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flowing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00" y="3301920"/>
            <a:ext cx="495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s of wind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20" y="3941640"/>
            <a:ext cx="633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bio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4581360"/>
            <a:ext cx="614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 of geothermal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5221440"/>
            <a:ext cx="606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 of hydrogen as a f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20" y="5861160"/>
            <a:ext cx="689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entralized powe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Importance of Improving Energy Efficien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800" y="1682640"/>
            <a:ext cx="3652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ergy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3 p. 3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9398" t="0" r="21181" b="0"/>
          <a:stretch/>
        </p:blipFill>
        <p:spPr>
          <a:xfrm>
            <a:off x="4498920" y="1515960"/>
            <a:ext cx="4645080" cy="5018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3240" y="2351160"/>
            <a:ext cx="4275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 energy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5120" y="3213000"/>
            <a:ext cx="3624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ast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080" y="3816360"/>
            <a:ext cx="396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andescent l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041800"/>
            <a:ext cx="4230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al combustion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2160" y="4430880"/>
            <a:ext cx="4363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clear power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ergy Efficienci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Fig. 18-5 p. 381)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42880" y="1420920"/>
            <a:ext cx="2334960" cy="5313240"/>
            <a:chOff x="542880" y="1420920"/>
            <a:chExt cx="2334960" cy="53132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12547" t="0" r="20417" b="0"/>
            <a:stretch/>
          </p:blipFill>
          <p:spPr>
            <a:xfrm>
              <a:off x="569520" y="1420920"/>
              <a:ext cx="229896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rcRect l="15697" t="0" r="16205" b="0"/>
            <a:stretch/>
          </p:blipFill>
          <p:spPr>
            <a:xfrm>
              <a:off x="542880" y="4162320"/>
              <a:ext cx="233496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6280200" y="1420920"/>
            <a:ext cx="2173320" cy="5313240"/>
            <a:chOff x="6280200" y="1420920"/>
            <a:chExt cx="2173320" cy="5313240"/>
          </a:xfrm>
        </p:grpSpPr>
        <p:pic>
          <p:nvPicPr>
            <p:cNvPr id="72" name="" descr=""/>
            <p:cNvPicPr/>
            <p:nvPr/>
          </p:nvPicPr>
          <p:blipFill>
            <a:blip r:embed="rId3"/>
            <a:srcRect l="14630" t="0" r="21992" b="0"/>
            <a:stretch/>
          </p:blipFill>
          <p:spPr>
            <a:xfrm>
              <a:off x="6280200" y="1420920"/>
              <a:ext cx="217332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rcRect l="18335" t="0" r="18335" b="0"/>
            <a:stretch/>
          </p:blipFill>
          <p:spPr>
            <a:xfrm>
              <a:off x="6282000" y="4162320"/>
              <a:ext cx="217152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3519360" y="1420920"/>
            <a:ext cx="2119320" cy="5313240"/>
            <a:chOff x="3519360" y="1420920"/>
            <a:chExt cx="2119320" cy="5313240"/>
          </a:xfrm>
        </p:grpSpPr>
        <p:pic>
          <p:nvPicPr>
            <p:cNvPr id="75" name="" descr=""/>
            <p:cNvPicPr/>
            <p:nvPr/>
          </p:nvPicPr>
          <p:blipFill>
            <a:blip r:embed="rId5"/>
            <a:srcRect l="15697" t="0" r="22500" b="0"/>
            <a:stretch/>
          </p:blipFill>
          <p:spPr>
            <a:xfrm>
              <a:off x="3519360" y="1420920"/>
              <a:ext cx="211932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rcRect l="7118" t="0" r="16878" b="0"/>
            <a:stretch/>
          </p:blipFill>
          <p:spPr>
            <a:xfrm>
              <a:off x="3520800" y="4162320"/>
              <a:ext cx="210204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ays to Improve Energy Efficien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400" y="1365120"/>
            <a:ext cx="356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840" y="2127240"/>
            <a:ext cx="584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electric mo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6760" y="2889360"/>
            <a:ext cx="572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efficiency ligh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7480" y="3651120"/>
            <a:ext cx="590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fuel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6400" y="4413240"/>
            <a:ext cx="4906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ternative veh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7120" y="5175360"/>
            <a:ext cx="2960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6400" y="5938920"/>
            <a:ext cx="284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ug lea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ybrid and Fuel Cell Car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0" y="1512720"/>
            <a:ext cx="9045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brid electric-internal combustion eng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0" y="2251080"/>
            <a:ext cx="24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el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16240" y="2131920"/>
            <a:ext cx="5927760" cy="472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723816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9 p. 3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Solar Energy to Provide Hea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1120" y="1604880"/>
            <a:ext cx="51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ssive solar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480" y="2332080"/>
            <a:ext cx="4948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 solar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39520" y="655308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16 p. 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00" y="3063960"/>
            <a:ext cx="4559040" cy="341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86400" y="3063960"/>
            <a:ext cx="4557600" cy="34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Solar Energy to Provide High-Temperature Heat and Electric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37080" y="1703520"/>
            <a:ext cx="447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ar therm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39240" y="2627280"/>
            <a:ext cx="4568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otovoltaic (PV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3324240"/>
            <a:ext cx="4322880" cy="32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79748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0 p. 3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0280" y="142704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1 p. 3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05480" y="1401840"/>
            <a:ext cx="3522600" cy="54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ducing Electricity from Moving Water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1120" y="1379520"/>
            <a:ext cx="539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rge-scal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0760" y="2496960"/>
            <a:ext cx="534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mall-scal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040" y="3614760"/>
            <a:ext cx="633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mped-storag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4732200"/>
            <a:ext cx="413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dal power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400" y="5850000"/>
            <a:ext cx="421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ve power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4:53Z</dcterms:modified>
  <cp:revision>71</cp:revision>
  <dc:subject/>
  <dc:title>PowerPoint Presentation</dc:title>
</cp:coreProperties>
</file>