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24D-F1EA-42DB-818B-87BDCF65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60E-4877-4040-A077-55044F4A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583-494B-44FC-B92A-4F1771DC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184-B3ED-4FB8-A9C5-2D3E0681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7C5-4781-4A68-B02F-480C2312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762-24F4-4B35-91FA-147561F6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9E6-CA2A-4BCE-BFFF-9CCE5A5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B71-DA25-4D4A-B3EE-8FC1F2A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1A8-3D38-440F-9DA4-4D7F95A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59C-C400-44BF-8BEC-31825AD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58B-BF3F-4F1C-8819-189C0C7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B1B-1D18-4643-9F1D-6E6A5573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F01-492F-4298-95E2-02C3C5C0AC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 Efficiency and Renewable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rge-scale Hydroelectric Power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2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00320" y="603360"/>
            <a:ext cx="4030560" cy="625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viewing the Trade-offs of Hydropower Da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066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87440" y="6294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lectricity from Wi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37280" y="1165320"/>
            <a:ext cx="3846240" cy="569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5081760" cy="569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52008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3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67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4 p. 3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nergy from Biomas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" y="123048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and biofu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2050920"/>
            <a:ext cx="4993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pla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0" y="2871720"/>
            <a:ext cx="366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esid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0" y="369252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0" y="4513320"/>
            <a:ext cx="219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g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5334120"/>
            <a:ext cx="247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an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615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an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84680" y="1177920"/>
            <a:ext cx="2934000" cy="56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057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5 p. 3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thermal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00" y="1406520"/>
            <a:ext cx="587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heat pu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0" y="229248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0" y="3179880"/>
            <a:ext cx="470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and wet st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20" y="4067280"/>
            <a:ext cx="281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54680"/>
            <a:ext cx="588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ten rock (mag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80" y="5842080"/>
            <a:ext cx="480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dry-rock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080" y="2568600"/>
            <a:ext cx="740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acting hydrogen efficien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8600" y="355140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ing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360" y="4476600"/>
            <a:ext cx="264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720" y="1643040"/>
            <a:ext cx="833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 friendly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7480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38760" y="56894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1  p. 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tering the Age of Decentralized Micropow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2880" y="1662120"/>
            <a:ext cx="5654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080" y="2295360"/>
            <a:ext cx="421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64320" y="655308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2 p. 4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76560" y="2886120"/>
            <a:ext cx="4903560" cy="39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 Sustainable Energy Strate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5200" y="1420920"/>
            <a:ext cx="8558280" cy="541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238880" y="65246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5  p. 4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380960"/>
            <a:ext cx="672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022480"/>
            <a:ext cx="72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solar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662200"/>
            <a:ext cx="755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flow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0" y="3301920"/>
            <a:ext cx="495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of wind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0" y="3941640"/>
            <a:ext cx="633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bio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5813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geotherm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5221440"/>
            <a:ext cx="606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hydrogen as a f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" y="5861160"/>
            <a:ext cx="689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Improving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800" y="1682640"/>
            <a:ext cx="365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 p. 3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9398" t="0" r="21181" b="0"/>
          <a:stretch/>
        </p:blipFill>
        <p:spPr>
          <a:xfrm>
            <a:off x="4498920" y="1515960"/>
            <a:ext cx="4645080" cy="501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240" y="2351160"/>
            <a:ext cx="4275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 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120" y="3213000"/>
            <a:ext cx="3624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st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080" y="3816360"/>
            <a:ext cx="396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andescent 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041800"/>
            <a:ext cx="423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l combustion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2160" y="4430880"/>
            <a:ext cx="4363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clear power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 Efficienci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Fig. 18-5 p. 381)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42880" y="1420920"/>
            <a:ext cx="2334960" cy="5313240"/>
            <a:chOff x="542880" y="1420920"/>
            <a:chExt cx="2334960" cy="53132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12547" t="0" r="20417" b="0"/>
            <a:stretch/>
          </p:blipFill>
          <p:spPr>
            <a:xfrm>
              <a:off x="569520" y="1420920"/>
              <a:ext cx="229896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rcRect l="15697" t="0" r="16205" b="0"/>
            <a:stretch/>
          </p:blipFill>
          <p:spPr>
            <a:xfrm>
              <a:off x="542880" y="4162320"/>
              <a:ext cx="233496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280200" y="1420920"/>
            <a:ext cx="2173320" cy="5313240"/>
            <a:chOff x="6280200" y="1420920"/>
            <a:chExt cx="2173320" cy="5313240"/>
          </a:xfrm>
        </p:grpSpPr>
        <p:pic>
          <p:nvPicPr>
            <p:cNvPr id="72" name="" descr=""/>
            <p:cNvPicPr/>
            <p:nvPr/>
          </p:nvPicPr>
          <p:blipFill>
            <a:blip r:embed="rId3"/>
            <a:srcRect l="14630" t="0" r="21992" b="0"/>
            <a:stretch/>
          </p:blipFill>
          <p:spPr>
            <a:xfrm>
              <a:off x="6280200" y="1420920"/>
              <a:ext cx="2173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rcRect l="18335" t="0" r="18335" b="0"/>
            <a:stretch/>
          </p:blipFill>
          <p:spPr>
            <a:xfrm>
              <a:off x="6282000" y="4162320"/>
              <a:ext cx="217152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519360" y="1420920"/>
            <a:ext cx="2119320" cy="5313240"/>
            <a:chOff x="3519360" y="1420920"/>
            <a:chExt cx="2119320" cy="5313240"/>
          </a:xfrm>
        </p:grpSpPr>
        <p:pic>
          <p:nvPicPr>
            <p:cNvPr id="75" name="" descr=""/>
            <p:cNvPicPr/>
            <p:nvPr/>
          </p:nvPicPr>
          <p:blipFill>
            <a:blip r:embed="rId5"/>
            <a:srcRect l="15697" t="0" r="22500" b="0"/>
            <a:stretch/>
          </p:blipFill>
          <p:spPr>
            <a:xfrm>
              <a:off x="3519360" y="1420920"/>
              <a:ext cx="2119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rcRect l="7118" t="0" r="16878" b="0"/>
            <a:stretch/>
          </p:blipFill>
          <p:spPr>
            <a:xfrm>
              <a:off x="3520800" y="4162320"/>
              <a:ext cx="210204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ays to Improve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400" y="1365120"/>
            <a:ext cx="356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840" y="2127240"/>
            <a:ext cx="584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electric mo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760" y="2889360"/>
            <a:ext cx="572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efficiency ligh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7480" y="3651120"/>
            <a:ext cx="590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el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400" y="441324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ternative veh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120" y="5175360"/>
            <a:ext cx="296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400" y="5938920"/>
            <a:ext cx="284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ug l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brid and Fuel Cell Ca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0" y="1512720"/>
            <a:ext cx="904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brid electric-internal combustion eng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251080"/>
            <a:ext cx="24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16240" y="2131920"/>
            <a:ext cx="592776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9 p. 3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e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1120" y="1604880"/>
            <a:ext cx="51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ss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480" y="2332080"/>
            <a:ext cx="494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16 p. 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00" y="3063960"/>
            <a:ext cx="4559040" cy="341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86400" y="3063960"/>
            <a:ext cx="4557600" cy="34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igh-Temperature Heat and Electric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37080" y="1703520"/>
            <a:ext cx="447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ar therm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240" y="2627280"/>
            <a:ext cx="4568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tovoltaic (PV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3324240"/>
            <a:ext cx="432288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79748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0 p. 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0280" y="142704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1 p. 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5480" y="1401840"/>
            <a:ext cx="35226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Electricity from Moving Wa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1120" y="137952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rge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760" y="249696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mall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040" y="3614760"/>
            <a:ext cx="633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mped-storag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4732200"/>
            <a:ext cx="413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dal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400" y="5850000"/>
            <a:ext cx="421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4:53Z</dcterms:modified>
  <cp:revision>71</cp:revision>
  <dc:subject/>
  <dc:title>PowerPoint Presentation</dc:title>
</cp:coreProperties>
</file>