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62BA-1D49-49F0-B46F-D6C4550D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43C-F5C4-4358-8E78-AF30BBFA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6765-22E1-459E-88B2-CB829699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4954-4B92-4B81-B212-F8818D4E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4E7C-043E-48FF-8A7C-CFD875DA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AE25-384F-43E6-B19C-04E08F1C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C0F3-7840-4D47-9F7E-5C6FCF0B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789A-5057-4FB3-9371-ED1B3674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F362-BAB1-46F4-997F-B7005DE9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5DB6-60EC-44EB-94EF-142041A0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C17E-AA0D-4807-9923-42503A8A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15B0-2694-4085-9DE0-604041C5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7254-7BE9-4734-9DA9-23CAC5FC384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onrenewable Energy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il Shale and Tar San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00" y="1558800"/>
            <a:ext cx="266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il sha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00" y="4978440"/>
            <a:ext cx="2619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Kerog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60" y="2646360"/>
            <a:ext cx="271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ar s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40" y="3841920"/>
            <a:ext cx="2617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tum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18 p. 3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370320" y="1176480"/>
            <a:ext cx="3255840" cy="5654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atural Ga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760" y="1397160"/>
            <a:ext cx="3208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0-90% meth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43000"/>
            <a:ext cx="52531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320" y="2109960"/>
            <a:ext cx="3251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ventional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320" y="2824200"/>
            <a:ext cx="3606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conventional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6760" y="3538440"/>
            <a:ext cx="3246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thane hyd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7840" y="4253040"/>
            <a:ext cx="38275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quefied petroleum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as (LP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7120" y="5516640"/>
            <a:ext cx="4985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quefied natural gas (L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6400" y="6230880"/>
            <a:ext cx="5125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pproximate 200 year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280120" y="47520"/>
            <a:ext cx="3863880" cy="6729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98160" y="646740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7-19 p. 3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6000" y="1352520"/>
            <a:ext cx="5340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ges of coal 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7080" y="2297160"/>
            <a:ext cx="493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imarily strip-m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7800" y="3243240"/>
            <a:ext cx="7940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d mostly for generating electri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5280" y="4187880"/>
            <a:ext cx="7170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ough coal for about 1000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6360" y="5133960"/>
            <a:ext cx="6012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 environmental imp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6000" y="6080040"/>
            <a:ext cx="7169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al gasification and liquef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0" r="0" b="24756"/>
          <a:stretch/>
        </p:blipFill>
        <p:spPr>
          <a:xfrm>
            <a:off x="347760" y="2066760"/>
            <a:ext cx="8488440" cy="4791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826680" y="1728720"/>
            <a:ext cx="2458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20 p. 3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oal Formation and Typ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oal: Trade-off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149800" y="0"/>
            <a:ext cx="39942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562880" y="655020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7-21 p. 3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Synthetic Fuels: Trade-off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3160" y="6553080"/>
            <a:ext cx="15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22 p. 3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24280" y="1203480"/>
            <a:ext cx="3308400" cy="5654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uclear Energ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141560"/>
            <a:ext cx="3436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ssion re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00400" y="1706400"/>
            <a:ext cx="5891040" cy="4418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40" y="2631960"/>
            <a:ext cx="3246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ranium-23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417840"/>
            <a:ext cx="34624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tentially danger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861080"/>
            <a:ext cx="3432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dioactive was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-448200" y="6400800"/>
            <a:ext cx="6026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tory Essay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p. 3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39520" y="6553080"/>
            <a:ext cx="2458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23 p. 3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Locations of U.S. Nuclear Power Plant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79400" y="1189080"/>
            <a:ext cx="7680240" cy="5621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66280" y="645156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7-25 p. 3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Nuclear Fuel Cycl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28680" y="1192320"/>
            <a:ext cx="6807240" cy="5665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43640" y="6550200"/>
            <a:ext cx="157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7-24 p. 3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onventional Nuclear Power: Trade-off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26 p. 3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129120" y="1203480"/>
            <a:ext cx="2977920" cy="5654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3240" y="1370160"/>
            <a:ext cx="6316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vailable energy altern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1440" y="2317680"/>
            <a:ext cx="775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il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5080" y="3276720"/>
            <a:ext cx="8173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tural gas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2360" y="4216320"/>
            <a:ext cx="4832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al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5080" y="5183280"/>
            <a:ext cx="8680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uclear fission and fus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Serious Nuclear Accident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7200"/>
            <a:ext cx="8229600" cy="235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ree Mile Island (1979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rnobyl (1986): p. 35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ealing with Nuclear Wast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469880"/>
            <a:ext cx="7031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gh- and low-level was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111400"/>
            <a:ext cx="457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rrorist threa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751120"/>
            <a:ext cx="5126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derground bu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392640"/>
            <a:ext cx="457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posal in sp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032360"/>
            <a:ext cx="5397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urial in ice she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673520"/>
            <a:ext cx="8086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umping into subduction z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313240"/>
            <a:ext cx="5397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urial in ocean mu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5952960"/>
            <a:ext cx="8516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version into harmless materi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Yucca Mountain Controversy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36680" y="1782720"/>
            <a:ext cx="8229600" cy="41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stes stored and guarded in one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ssible long-term groundwater conta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urity and safety concerns during waste transport to the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71040" y="6072120"/>
            <a:ext cx="40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 to Fig. 17-29 p. 3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ermanent Underground Disposal of Nuclear Wast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317520" y="1365120"/>
            <a:ext cx="100663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06360" y="1817640"/>
            <a:ext cx="8512200" cy="453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568560" y="1916280"/>
            <a:ext cx="182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rage Contain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57320" y="2403360"/>
            <a:ext cx="784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uel ro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37880" y="2819520"/>
            <a:ext cx="1369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imary canis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10960" y="3246480"/>
            <a:ext cx="8848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verpac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al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01120" y="4189320"/>
            <a:ext cx="130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g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63760" y="4546440"/>
            <a:ext cx="1561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uried and capp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8180280" y="4766760"/>
            <a:ext cx="792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60520" y="301464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und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1640" y="337500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loaded from tr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5040" y="4818240"/>
            <a:ext cx="177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ered down sh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75520" y="3322800"/>
            <a:ext cx="91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n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77320" y="3774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h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75520" y="4075200"/>
            <a:ext cx="119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was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422240" y="3459240"/>
            <a:ext cx="133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176720" y="3905280"/>
            <a:ext cx="363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4057200" y="4213080"/>
            <a:ext cx="49068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96280" y="655308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28 p. 3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uclear Alternativ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60480" y="3341520"/>
            <a:ext cx="7808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reeder nuclear fission re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01880" y="4722840"/>
            <a:ext cx="4539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uclear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22400" y="2019240"/>
            <a:ext cx="5611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w reactor desig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valuating Energy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00" y="1550880"/>
            <a:ext cx="4197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newable 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00" y="2413080"/>
            <a:ext cx="5036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n-renewable 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720" y="3274920"/>
            <a:ext cx="4272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avail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360" y="4137120"/>
            <a:ext cx="3803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t energy yie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6840" y="4998960"/>
            <a:ext cx="1808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360" y="5861160"/>
            <a:ext cx="4933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vironmental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79080" y="6553080"/>
            <a:ext cx="15692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3b p. 3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lum contrast="18000"/>
          </a:blip>
          <a:srcRect l="3937" t="0" r="13843" b="0"/>
          <a:stretch/>
        </p:blipFill>
        <p:spPr>
          <a:xfrm>
            <a:off x="5135400" y="1914480"/>
            <a:ext cx="4008600" cy="365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Important Nonrenewable Energy 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87440" y="654372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2 p. 3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982880"/>
            <a:ext cx="9144000" cy="4379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8720" y="1243080"/>
            <a:ext cx="7486560" cy="5614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North American Energy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2160" y="655308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7-9 p. 3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00" y="1486080"/>
            <a:ext cx="5255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troleum (crude oi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80" y="2262240"/>
            <a:ext cx="2661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ove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60" y="3110040"/>
            <a:ext cx="4057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trochemic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20" y="4011480"/>
            <a:ext cx="2619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fi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00" y="4933800"/>
            <a:ext cx="3537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anspor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94760" y="6553080"/>
            <a:ext cx="2359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8 p. 3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25626" t="0" r="29028" b="0"/>
          <a:stretch/>
        </p:blipFill>
        <p:spPr>
          <a:xfrm>
            <a:off x="5735520" y="1197000"/>
            <a:ext cx="3422880" cy="5661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onventional Oil: Advantage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7750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latively low cos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6040" y="2646360"/>
            <a:ext cx="52624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gh net energy yie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6040" y="3784680"/>
            <a:ext cx="735660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fficient distribution syste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5462640"/>
            <a:ext cx="47768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er to Fig. 17-15 p. 3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onventional Oil: Disadvantag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7750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unning ou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6040" y="2646360"/>
            <a:ext cx="695016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w prices encourage was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6040" y="3784680"/>
            <a:ext cx="833112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ir pollution and Greenhouse gas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78120" y="6013440"/>
            <a:ext cx="47768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er to Fig. 17-15 p. 3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3440" y="4995720"/>
            <a:ext cx="833112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poll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rctic National Wildlife Refuge Controversy: Trade-off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7750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ould create job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325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6040" y="2646360"/>
            <a:ext cx="695016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il resources are uncerta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6040" y="3784680"/>
            <a:ext cx="833112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certain environmental impact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78120" y="6013440"/>
            <a:ext cx="47768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er to Fig. 17-14 p. 3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3440" y="4995720"/>
            <a:ext cx="833112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illing controvers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33:59Z</dcterms:modified>
  <cp:revision>88</cp:revision>
  <dc:subject/>
  <dc:title>PowerPoint Presentation</dc:title>
</cp:coreProperties>
</file>