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A62-0DC5-4808-8A6C-361C61D4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A3E-8C3C-4F13-BFE1-C1AE7409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DD4-CFCD-4B57-8132-10D58748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851-4143-4685-8D0D-39BDC0EF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57E-98DE-4137-A876-5E523FE0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371-963D-490B-B0A7-A834AF47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59C-FE15-4107-B4B5-39EC020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C51-5C82-4599-A89C-9E18BAE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277-293D-4CCD-8DCD-682507B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3EF-7440-45A7-A9CA-9F6DA80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AB4-5BAF-45A2-A7DF-F3E1475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46B-B090-44C0-94F5-9B19D0E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DCF6-6F97-485A-ADAB-6EC4EA3600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hale and Tar S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00" y="15588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sha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97844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ro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264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r s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" y="3841920"/>
            <a:ext cx="261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tum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18 p. 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70320" y="1176480"/>
            <a:ext cx="325584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760" y="1397160"/>
            <a:ext cx="3208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-90%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5253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320" y="2109960"/>
            <a:ext cx="3251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320" y="2824200"/>
            <a:ext cx="360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760" y="3538440"/>
            <a:ext cx="324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840" y="4253040"/>
            <a:ext cx="3827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petroleu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s (LP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120" y="5516640"/>
            <a:ext cx="498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natural gas (L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400" y="6230880"/>
            <a:ext cx="512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roximate 200 yea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80120" y="47520"/>
            <a:ext cx="3863880" cy="6729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98160" y="64674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19 p. 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00" y="135252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ges of coal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7080" y="2297160"/>
            <a:ext cx="493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ily strip-m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" y="3243240"/>
            <a:ext cx="794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mostly for generating electr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5280" y="4187880"/>
            <a:ext cx="717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ough coal for about 100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360" y="5133960"/>
            <a:ext cx="60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6000" y="6080040"/>
            <a:ext cx="716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gasification and lique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24756"/>
          <a:stretch/>
        </p:blipFill>
        <p:spPr>
          <a:xfrm>
            <a:off x="347760" y="2066760"/>
            <a:ext cx="8488440" cy="4791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26680" y="172872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0 p. 3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 Formation and Typ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al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9800" y="0"/>
            <a:ext cx="3994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62880" y="65502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1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ynthetic Fue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3160" y="6553080"/>
            <a:ext cx="15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2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24280" y="1203480"/>
            <a:ext cx="330840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1560"/>
            <a:ext cx="3436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sion re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0400" y="1706400"/>
            <a:ext cx="5891040" cy="441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0" y="2631960"/>
            <a:ext cx="324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17840"/>
            <a:ext cx="3462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61080"/>
            <a:ext cx="343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48200" y="6400800"/>
            <a:ext cx="602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ory Essa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3 p. 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ocations of U.S. Nuclear Power Plant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79400" y="1189080"/>
            <a:ext cx="7680240" cy="5621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66280" y="6451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5 p. 3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uclear Fuel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28680" y="1192320"/>
            <a:ext cx="6807240" cy="566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43640" y="655020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4 p. 3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ventional Nuclear Power: Trade-off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6 p. 3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9120" y="1203480"/>
            <a:ext cx="297792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240" y="1370160"/>
            <a:ext cx="631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le energy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440" y="2317680"/>
            <a:ext cx="77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3276720"/>
            <a:ext cx="817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gas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4216320"/>
            <a:ext cx="48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5183280"/>
            <a:ext cx="868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clear fission and fu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erious Nuclear Acciden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23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ile Island (197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rnobyl (1986): p. 3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Nuclear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69880"/>
            <a:ext cx="703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 and low-level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1140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orist thr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751120"/>
            <a:ext cx="51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ground bu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9264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posal in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03236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ice 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673520"/>
            <a:ext cx="80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mping into subduction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1324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ocean m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52960"/>
            <a:ext cx="851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ion into harmless mater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Yucca Mountain Controvers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6680" y="1782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stes stored and guard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ssible long-term groundwater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urity and safety concerns during waste transport to the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1040" y="607212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7-29 p. 3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ermanent Underground Disposal of Nuclear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17520" y="1365120"/>
            <a:ext cx="100663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6360" y="1817640"/>
            <a:ext cx="8512200" cy="453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68560" y="191628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Cont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57320" y="2403360"/>
            <a:ext cx="78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el ro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37880" y="2819520"/>
            <a:ext cx="136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mary can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10960" y="3246480"/>
            <a:ext cx="884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p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al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1120" y="418932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63760" y="454644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ried and capp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180280" y="4766760"/>
            <a:ext cx="79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0520" y="30146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1640" y="337500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aded from t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040" y="481824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ed down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75520" y="332280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77320" y="3774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5520" y="407520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was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422240" y="3459240"/>
            <a:ext cx="1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176720" y="3905280"/>
            <a:ext cx="363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057200" y="4213080"/>
            <a:ext cx="490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6280" y="655308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8 p. 3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Alternati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60480" y="3341520"/>
            <a:ext cx="780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eder nuclear fission re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4722840"/>
            <a:ext cx="4539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019240"/>
            <a:ext cx="561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reactor de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valuating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" y="1550880"/>
            <a:ext cx="4197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00" y="2413080"/>
            <a:ext cx="503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-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720" y="3274920"/>
            <a:ext cx="427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360" y="4137120"/>
            <a:ext cx="380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t energy 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840" y="4998960"/>
            <a:ext cx="180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360" y="5861160"/>
            <a:ext cx="49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79080" y="6553080"/>
            <a:ext cx="1569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3b p. 3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8000"/>
          </a:blip>
          <a:srcRect l="3937" t="0" r="13843" b="0"/>
          <a:stretch/>
        </p:blipFill>
        <p:spPr>
          <a:xfrm>
            <a:off x="5135400" y="1914480"/>
            <a:ext cx="4008600" cy="36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ortant Nonrenewable Energy 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 p. 3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8720" y="1243080"/>
            <a:ext cx="7486560" cy="561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rth American Energy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2160" y="655308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9 p. 3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0" y="1486080"/>
            <a:ext cx="525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leum (crude oi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" y="22622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v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0" y="311004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chemic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20" y="401148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f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00" y="4933800"/>
            <a:ext cx="35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47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8 p. 3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5626" t="0" r="29028" b="0"/>
          <a:stretch/>
        </p:blipFill>
        <p:spPr>
          <a:xfrm>
            <a:off x="5735520" y="1197000"/>
            <a:ext cx="3422880" cy="56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ventional Oil: Advantag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ely low c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040" y="2646360"/>
            <a:ext cx="52624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net energy yi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3784680"/>
            <a:ext cx="73566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distribution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5462640"/>
            <a:ext cx="47768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ventional Oil: Disadvanta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ning ou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prices encourage was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 and Greenhouse ga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rctic National Wildlife Refuge Controversy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uld create job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25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resources are uncert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certain environmental impac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4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illing controvers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3:59Z</dcterms:modified>
  <cp:revision>88</cp:revision>
  <dc:subject/>
  <dc:title>PowerPoint Presentation</dc:title>
</cp:coreProperties>
</file>