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91C-193E-4DF7-90A4-2BA44EC2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9F1-037B-4912-8700-8EBA8DBE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A68-283F-40AC-A25A-9E137EB8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852-1B94-4C2B-9BA6-207D7256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95B-A69F-40F6-9ACB-38E44543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85F-39F8-4FA2-9EFF-D876C7DD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3F6-D6A1-4A7D-99FB-14BA2044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F34-1C7A-48E5-99F9-F502D7E2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228-3C69-4F9C-8028-23D8D3E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CCF-CC95-43CA-B196-A26A700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3F9-991D-4BC7-9342-20A40FF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E4D-8A8B-4676-B8BC-23BE557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3284-545E-4642-9058-EC5D20B4B5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eology and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Hazards:  Volcanic Erup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160" y="6553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8 p. 3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484280" y="1243080"/>
            <a:ext cx="6259320" cy="5198760"/>
            <a:chOff x="1484280" y="1243080"/>
            <a:chExt cx="6259320" cy="51987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490760" y="2044440"/>
              <a:ext cx="6252840" cy="43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49920" y="1243080"/>
              <a:ext cx="129780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in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lcano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3200" y="3738960"/>
              <a:ext cx="1155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ervo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0000" y="3032640"/>
              <a:ext cx="929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4280" y="3718800"/>
              <a:ext cx="10083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d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94360" y="4514760"/>
              <a:ext cx="141372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o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3400" y="5540400"/>
              <a:ext cx="12628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wel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96680" y="5499720"/>
              <a:ext cx="1883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tially mol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theno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47360" y="4870080"/>
              <a:ext cx="0" cy="69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92160" y="413460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359880" y="3463920"/>
              <a:ext cx="131040" cy="41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484440" y="4093560"/>
              <a:ext cx="982440" cy="51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739480" y="2046240"/>
              <a:ext cx="613080" cy="46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617360" y="2070000"/>
              <a:ext cx="765360" cy="43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inerals and Rock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680" y="1449360"/>
            <a:ext cx="64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 (diamond, quartz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176760" y="2522520"/>
            <a:ext cx="363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ock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240" y="3595680"/>
            <a:ext cx="589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gneous (granite, basal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6120" y="4668840"/>
            <a:ext cx="831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dimentary (limestone, sandsto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040" y="5743440"/>
            <a:ext cx="6849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morphic (marble, s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56480" y="6553080"/>
            <a:ext cx="14875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9 p. 3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667240" cy="152424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nite, Pum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511600" y="304920"/>
            <a:ext cx="3404160" cy="1523880"/>
            <a:chOff x="5511600" y="304920"/>
            <a:chExt cx="3404160" cy="1523880"/>
          </a:xfrm>
        </p:grpSpPr>
        <p:sp>
          <p:nvSpPr>
            <p:cNvPr id="135" name=""/>
            <p:cNvSpPr/>
            <p:nvPr/>
          </p:nvSpPr>
          <p:spPr>
            <a:xfrm>
              <a:off x="5511960" y="304920"/>
              <a:ext cx="3352680" cy="1523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1600" y="392040"/>
              <a:ext cx="3404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edimentary R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hale, Sandston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me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30960" y="4038480"/>
            <a:ext cx="3562560" cy="1523880"/>
            <a:chOff x="5430960" y="4038480"/>
            <a:chExt cx="3562560" cy="1523880"/>
          </a:xfrm>
        </p:grpSpPr>
        <p:sp>
          <p:nvSpPr>
            <p:cNvPr id="138" name=""/>
            <p:cNvSpPr/>
            <p:nvPr/>
          </p:nvSpPr>
          <p:spPr>
            <a:xfrm>
              <a:off x="5508720" y="4038480"/>
              <a:ext cx="3352680" cy="1523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30960" y="4125600"/>
              <a:ext cx="3562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tamorphic R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late, Quartzit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r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72440" y="5791320"/>
            <a:ext cx="2382840" cy="100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Molten R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782600">
            <a:off x="5458680" y="5567040"/>
            <a:ext cx="1243080" cy="106056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182600">
            <a:off x="1746720" y="5497920"/>
            <a:ext cx="1181160" cy="10080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4479840"/>
            <a:ext cx="2444760" cy="567000"/>
          </a:xfrm>
          <a:prstGeom prst="rightArrow">
            <a:avLst>
              <a:gd name="adj1" fmla="val 50000"/>
              <a:gd name="adj2" fmla="val 107794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9640" y="2759040"/>
            <a:ext cx="1977480" cy="771480"/>
            <a:chOff x="449640" y="2759040"/>
            <a:chExt cx="1977480" cy="771480"/>
          </a:xfrm>
        </p:grpSpPr>
        <p:sp>
          <p:nvSpPr>
            <p:cNvPr id="145" name=""/>
            <p:cNvSpPr/>
            <p:nvPr/>
          </p:nvSpPr>
          <p:spPr>
            <a:xfrm>
              <a:off x="511200" y="2759040"/>
              <a:ext cx="185400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9640" y="2886120"/>
              <a:ext cx="1977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Weather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63400" y="1631880"/>
            <a:ext cx="1854360" cy="771480"/>
            <a:chOff x="563400" y="1631880"/>
            <a:chExt cx="1854360" cy="771480"/>
          </a:xfrm>
        </p:grpSpPr>
        <p:sp>
          <p:nvSpPr>
            <p:cNvPr id="148" name=""/>
            <p:cNvSpPr/>
            <p:nvPr/>
          </p:nvSpPr>
          <p:spPr>
            <a:xfrm>
              <a:off x="563400" y="1631880"/>
              <a:ext cx="185436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7120" y="1757520"/>
              <a:ext cx="13665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Ero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66760" y="598320"/>
            <a:ext cx="1854360" cy="771840"/>
            <a:chOff x="1166760" y="598320"/>
            <a:chExt cx="1854360" cy="771840"/>
          </a:xfrm>
        </p:grpSpPr>
        <p:sp>
          <p:nvSpPr>
            <p:cNvPr id="151" name=""/>
            <p:cNvSpPr/>
            <p:nvPr/>
          </p:nvSpPr>
          <p:spPr>
            <a:xfrm>
              <a:off x="1166760" y="598320"/>
              <a:ext cx="1854360" cy="77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22200" y="723960"/>
              <a:ext cx="17413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14880" y="380880"/>
            <a:ext cx="1854000" cy="771480"/>
            <a:chOff x="3314880" y="380880"/>
            <a:chExt cx="1854000" cy="771480"/>
          </a:xfrm>
        </p:grpSpPr>
        <p:sp>
          <p:nvSpPr>
            <p:cNvPr id="154" name=""/>
            <p:cNvSpPr/>
            <p:nvPr/>
          </p:nvSpPr>
          <p:spPr>
            <a:xfrm>
              <a:off x="3314880" y="380880"/>
              <a:ext cx="185400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41520" y="506520"/>
              <a:ext cx="1802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De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rot="12040800">
            <a:off x="2447280" y="3405240"/>
            <a:ext cx="3079800" cy="566640"/>
          </a:xfrm>
          <a:prstGeom prst="rightArrow">
            <a:avLst>
              <a:gd name="adj1" fmla="val 50000"/>
              <a:gd name="adj2" fmla="val 135880"/>
            </a:avLst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6192000" y="2559960"/>
            <a:ext cx="2006640" cy="566640"/>
          </a:xfrm>
          <a:prstGeom prst="rightArrow">
            <a:avLst>
              <a:gd name="adj1" fmla="val 50000"/>
              <a:gd name="adj2" fmla="val 88532"/>
            </a:avLst>
          </a:prstGeom>
          <a:gradFill rotWithShape="0">
            <a:gsLst>
              <a:gs pos="0">
                <a:srgbClr val="ffff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33240" y="2111400"/>
            <a:ext cx="1697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7760" y="3860640"/>
            <a:ext cx="16970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89320" y="164772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renewable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6720" y="1995480"/>
            <a:ext cx="240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78840" y="2940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5800" y="39448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48240" y="4908600"/>
            <a:ext cx="167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onrenewable Mineral Resources: Categor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6840" y="2298600"/>
            <a:ext cx="274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5080" y="3346560"/>
            <a:ext cx="359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iscov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680" y="4368960"/>
            <a:ext cx="254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er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4800" y="539424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037040" y="1909800"/>
            <a:ext cx="5097600" cy="4583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88800" y="6172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10 p. 3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inding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840" y="1603440"/>
            <a:ext cx="597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tellite and air imag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8680" y="3263760"/>
            <a:ext cx="401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gneto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6800" y="413064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vity dif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7640" y="2397240"/>
            <a:ext cx="487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ation dete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880" y="497196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ismic surv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7080" y="5838840"/>
            <a:ext cx="462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analy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tracting Nonrenewable Mineral Resources:  Fig. 16-11 and 16-12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460520"/>
            <a:ext cx="627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-pit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40" y="3222720"/>
            <a:ext cx="654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ea strip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60" y="4110120"/>
            <a:ext cx="730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our strip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" y="2295360"/>
            <a:ext cx="635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edging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20" y="4951440"/>
            <a:ext cx="872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om-and-pillar (sub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20" y="5838840"/>
            <a:ext cx="712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wall (sub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Mining Control and Reclamation 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2520" y="1742760"/>
            <a:ext cx="406404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ablished 197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7960" y="2685960"/>
            <a:ext cx="7539120" cy="12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 lands must be restored to pre-mining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9360" y="4138560"/>
            <a:ext cx="7619760" cy="119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xes on mining companies to restore pre-1977 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0800" y="5713560"/>
            <a:ext cx="7620120" cy="60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ited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Effects of Mining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560" y="1560600"/>
            <a:ext cx="631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ruption of land su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1480" y="2305080"/>
            <a:ext cx="305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2200" y="305100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 of solid mining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1840" y="3797280"/>
            <a:ext cx="488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id mine drai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0760" y="4543560"/>
            <a:ext cx="34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5289480"/>
            <a:ext cx="867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age and leakage of liquid mining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Effects of Mining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67004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88800" y="625644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14 p. 3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9160" y="1593720"/>
            <a:ext cx="4979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geologic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7720" y="3346560"/>
            <a:ext cx="670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erals, rocks, and the rock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160" y="2448000"/>
            <a:ext cx="540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thquakes and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4268880"/>
            <a:ext cx="7824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ing and extracting mine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6080" y="5210280"/>
            <a:ext cx="649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-renewable mine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re Environmental Impacts of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15840" y="1647720"/>
            <a:ext cx="439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rface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04880" y="1647720"/>
            <a:ext cx="515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surface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240" y="2567160"/>
            <a:ext cx="343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burd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" y="3340080"/>
            <a:ext cx="173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600" y="411336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-p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160" y="488628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ed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600" y="5659560"/>
            <a:ext cx="3380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p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4880" y="2573280"/>
            <a:ext cx="418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om and pil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3080" y="34290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90840" y="4933800"/>
            <a:ext cx="46641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er to Figs. 15-4 and 15-5, p. 341 and 3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0" y="1481040"/>
            <a:ext cx="9144000" cy="537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cessing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21560" y="1924200"/>
            <a:ext cx="329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e min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21200" y="301320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n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21920" y="4164120"/>
            <a:ext cx="250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ailing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23720" y="5254560"/>
            <a:ext cx="267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el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12800" y="590868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6-15 p. 3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pplies of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1440" y="1424160"/>
            <a:ext cx="405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 de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720" y="2036880"/>
            <a:ext cx="317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leti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080" y="2692440"/>
            <a:ext cx="3380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eign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0" y="4059360"/>
            <a:ext cx="250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2160" y="3398760"/>
            <a:ext cx="4894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1440" y="5481720"/>
            <a:ext cx="363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ng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720" y="6203880"/>
            <a:ext cx="394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ing sub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16 p. 3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1440" y="4730760"/>
            <a:ext cx="3629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w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38760" y="1488960"/>
            <a:ext cx="4305240" cy="498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ologic Processes: Structure of the Ear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63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65920" y="6553080"/>
            <a:ext cx="13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7 p.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52520" y="1314360"/>
            <a:ext cx="4732560" cy="554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eatures of the Crust and Upper Mant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5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2 p. 3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008080"/>
            <a:ext cx="914400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27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1000" y="1798560"/>
            <a:ext cx="5017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vergent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400" y="2870280"/>
            <a:ext cx="541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gent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4680" y="3876840"/>
            <a:ext cx="422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duction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2880" y="4925880"/>
            <a:ext cx="4142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form fa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50000" y="6389640"/>
            <a:ext cx="450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6-3 p. 3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10160" y="19080"/>
            <a:ext cx="2733840" cy="680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9996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5 p. 3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arth’s Major Tectonic Plat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2560" y="1185840"/>
            <a:ext cx="7842240" cy="567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61320" y="6550200"/>
            <a:ext cx="15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4, p. 3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ernal Earth Proces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800" y="1492200"/>
            <a:ext cx="245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880" y="2438280"/>
            <a:ext cx="569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chan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9360" y="3486240"/>
            <a:ext cx="371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st wed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1000" y="4533840"/>
            <a:ext cx="524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360" y="5540400"/>
            <a:ext cx="533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Hazards:  Earthqu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360" y="1566720"/>
            <a:ext cx="244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atur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2587680"/>
            <a:ext cx="299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gnitud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640" y="3610080"/>
            <a:ext cx="308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shoc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440" y="4632480"/>
            <a:ext cx="375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y effe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360" y="5654520"/>
            <a:ext cx="404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ary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6 p. 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13360" y="1663560"/>
            <a:ext cx="5021280" cy="448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pected Earthquake Damag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7 p. 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19200" y="1290600"/>
            <a:ext cx="6114960" cy="5232240"/>
            <a:chOff x="1519200" y="1290600"/>
            <a:chExt cx="6114960" cy="5232240"/>
          </a:xfrm>
        </p:grpSpPr>
        <p:pic>
          <p:nvPicPr>
            <p:cNvPr id="94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309840" y="1290600"/>
              <a:ext cx="4152960" cy="27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>
              <a:lum contrast="18000"/>
            </a:blip>
            <a:stretch/>
          </p:blipFill>
          <p:spPr>
            <a:xfrm>
              <a:off x="3887640" y="3738600"/>
              <a:ext cx="3746520" cy="26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348440" y="3719520"/>
              <a:ext cx="1005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76760" y="6154560"/>
              <a:ext cx="1640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519200" y="3340080"/>
              <a:ext cx="2751480" cy="1486080"/>
              <a:chOff x="1519200" y="3340080"/>
              <a:chExt cx="2751480" cy="14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1519200" y="3413160"/>
                <a:ext cx="314280" cy="1936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5400" y="3340080"/>
                <a:ext cx="246528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o damage expect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19200" y="3774960"/>
                <a:ext cx="314280" cy="193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04680" y="3711600"/>
                <a:ext cx="195912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inimal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19200" y="4146480"/>
                <a:ext cx="314280" cy="193680"/>
              </a:xfrm>
              <a:prstGeom prst="rect">
                <a:avLst/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05760" y="4084560"/>
                <a:ext cx="2122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oderate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19200" y="4530600"/>
                <a:ext cx="314280" cy="1922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06480" y="445788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vere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2:39Z</dcterms:modified>
  <cp:revision>74</cp:revision>
  <dc:subject/>
  <dc:title>PowerPoint Presentation</dc:title>
</cp:coreProperties>
</file>