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104-474A-404F-9246-5264EBBC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773-4D6B-4EAD-9332-02AD667F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736-78AA-4639-AD43-2D10EF6E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CCC-8119-4A82-A2D5-CC03EF17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E2D1-1E73-4580-AB88-120DBE9F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CF91-0295-4AD5-99B3-3D75439C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17E-049B-497C-8D32-083FD2AC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936-6B49-415B-ABDC-785978BA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F504-B6D7-493C-B1A8-ECBB3E6C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9DD-7F84-48C3-8DBE-4AFC6D4C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BCC-2DE6-485E-8071-A4CDF4C8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2F24-7885-4F09-9F82-66F34382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303D-39D9-4671-BCC2-B80FD9FA7E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ter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ransferring Water from One Place to Anothe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88000" y="1851120"/>
            <a:ext cx="5256000" cy="4591440"/>
            <a:chOff x="3888000" y="1851120"/>
            <a:chExt cx="5256000" cy="4591440"/>
          </a:xfrm>
        </p:grpSpPr>
        <p:grpSp>
          <p:nvGrpSpPr>
            <p:cNvPr id="193" name=""/>
            <p:cNvGrpSpPr/>
            <p:nvPr/>
          </p:nvGrpSpPr>
          <p:grpSpPr>
            <a:xfrm>
              <a:off x="3888000" y="1851120"/>
              <a:ext cx="5256000" cy="4591440"/>
              <a:chOff x="3888000" y="1851120"/>
              <a:chExt cx="5256000" cy="4591440"/>
            </a:xfrm>
          </p:grpSpPr>
          <p:sp>
            <p:nvSpPr>
              <p:cNvPr id="194" name=""/>
              <p:cNvSpPr/>
              <p:nvPr/>
            </p:nvSpPr>
            <p:spPr>
              <a:xfrm>
                <a:off x="4007520" y="3262320"/>
                <a:ext cx="909360" cy="422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North B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00760" y="1851120"/>
                <a:ext cx="4143240" cy="452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4151160" y="3956040"/>
                <a:ext cx="935280" cy="422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outh B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88000" y="4622760"/>
                <a:ext cx="163008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alifornia 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091480" y="2125800"/>
                <a:ext cx="1119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LIFORN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549120" y="2298600"/>
                <a:ext cx="823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VAD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934400" y="2351160"/>
                <a:ext cx="60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TA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172360" y="6166080"/>
                <a:ext cx="7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EXIC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823520" y="4859280"/>
                <a:ext cx="13086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entral Arizo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90240" y="5540400"/>
                <a:ext cx="127512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lorado Ri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88640" y="4392720"/>
                <a:ext cx="10890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os Ange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559120" y="2446560"/>
                <a:ext cx="1032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asta Lak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99880" y="3160800"/>
                <a:ext cx="105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acrame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068520" y="3890880"/>
                <a:ext cx="689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res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75200" y="5324400"/>
                <a:ext cx="775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eni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221680" y="5818320"/>
                <a:ext cx="723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ucs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240760" y="4510080"/>
                <a:ext cx="87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IZO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342640" y="4146480"/>
                <a:ext cx="8010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Colorad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Ri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31360" y="2573280"/>
                <a:ext cx="1005120" cy="4590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Sacrame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Ri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57480" y="3659400"/>
                <a:ext cx="12261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n Francisc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585400" y="5089680"/>
                <a:ext cx="108900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Los Ange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17960" y="5480280"/>
                <a:ext cx="9273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n Dieg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76720" y="2710080"/>
                <a:ext cx="50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914360" y="3403800"/>
                <a:ext cx="6670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949280" y="3559320"/>
                <a:ext cx="406440" cy="1825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4946760" y="3672000"/>
                <a:ext cx="591840" cy="4158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5140080" y="3888000"/>
                <a:ext cx="546120" cy="54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5243040" y="4192560"/>
                <a:ext cx="763560" cy="501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 flipH="1" flipV="1">
              <a:off x="7211520" y="5237280"/>
              <a:ext cx="9540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600" y="1527120"/>
            <a:ext cx="4875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shed trans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664000"/>
            <a:ext cx="40165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lifornia Water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410000"/>
            <a:ext cx="4184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entra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izona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00" y="6156360"/>
            <a:ext cx="2958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ames B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5-13 p. 3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apping Ground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4840" y="1630440"/>
            <a:ext cx="4028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ear-round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3040" y="2930400"/>
            <a:ext cx="5317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 evaporation lo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4840" y="4232160"/>
            <a:ext cx="4976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ten less expen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4480" y="5533920"/>
            <a:ext cx="4932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tential Problem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5600" y="5730840"/>
            <a:ext cx="29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fer to Fig. 15-15 p. 3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blems with Using Groundwate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00" y="1474920"/>
            <a:ext cx="8676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table lowering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5-15 p. 319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00" y="2343240"/>
            <a:ext cx="616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pletion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5-16 p. 320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80" y="3211560"/>
            <a:ext cx="663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bsidence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5-16 p. 320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20" y="4081320"/>
            <a:ext cx="8268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ltwater intrusion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5-17 p. 320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00" y="4950000"/>
            <a:ext cx="5948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conta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80" y="5819760"/>
            <a:ext cx="5395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ed stream fl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nverting Salt Water to Fresh Water and Making it Rai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5960" y="1787400"/>
            <a:ext cx="578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tillation desal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6680" y="3097080"/>
            <a:ext cx="689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verse osmosis desal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5960" y="4406760"/>
            <a:ext cx="6968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salination is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very expen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6680" y="5718240"/>
            <a:ext cx="3691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oud see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sing Water More Efficientl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40" y="1479600"/>
            <a:ext cx="619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e losses due to lea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00" y="2376360"/>
            <a:ext cx="433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form water la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80" y="3273480"/>
            <a:ext cx="9085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rove irrigation efficienc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g. 15-20 p. 324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80" y="4232160"/>
            <a:ext cx="7692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roving manufacturing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129280"/>
            <a:ext cx="8761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ter efficient landscaping (xeriscap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" y="6027840"/>
            <a:ext cx="5732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ter efficient applia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oo Much Water:  Floo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80" y="1544760"/>
            <a:ext cx="452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ural phenom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9600" y="3613320"/>
            <a:ext cx="9104400" cy="32446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29920" y="591984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odp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76400" y="51354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47960" y="54007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40920" y="5235480"/>
            <a:ext cx="1009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7480" y="5473800"/>
            <a:ext cx="34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57000" y="43830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54400" y="43308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18000" y="36720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4027320" y="3987720"/>
            <a:ext cx="25416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459160"/>
            <a:ext cx="6927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gravated by human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5-24 p. 3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Achieving a More Sustainable Water Futur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280" y="1706400"/>
            <a:ext cx="4709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icient irri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9640" y="3165480"/>
            <a:ext cx="6347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-saving technolog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" y="4624560"/>
            <a:ext cx="723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proving water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7480" y="5818320"/>
            <a:ext cx="554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ee Fig. 15-26 p. 32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0" y="1792440"/>
            <a:ext cx="695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hysical properties of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20" y="2768760"/>
            <a:ext cx="5745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ailability of fresh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0" y="3745080"/>
            <a:ext cx="885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thods of increasing freshwater supp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" y="4721400"/>
            <a:ext cx="6151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ing water more efficien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00" y="5697360"/>
            <a:ext cx="727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blems associated with floo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ter’s Unique Propert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3360" y="1214280"/>
            <a:ext cx="430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ydrogen bo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5160" y="1916280"/>
            <a:ext cx="773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quid over wide temperature 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3720" y="2617920"/>
            <a:ext cx="619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nges temperature slow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4440" y="3319560"/>
            <a:ext cx="5493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 heat of evap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4440" y="4021200"/>
            <a:ext cx="5150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eat dissolving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5880" y="4722840"/>
            <a:ext cx="6709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lters out ultraviolet rad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640" y="5424480"/>
            <a:ext cx="5103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hesion and cohe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3720" y="6127920"/>
            <a:ext cx="5342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pands when it freez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pply of Water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82040" y="6553080"/>
            <a:ext cx="14619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5-2 p. 3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9200" y="1446120"/>
            <a:ext cx="8985960" cy="4201200"/>
            <a:chOff x="79200" y="1446120"/>
            <a:chExt cx="8985960" cy="42012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79200" y="2525400"/>
              <a:ext cx="2751120" cy="2934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4368600" y="2541600"/>
              <a:ext cx="2754360" cy="29257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9" name=""/>
            <p:cNvSpPr/>
            <p:nvPr/>
          </p:nvSpPr>
          <p:spPr>
            <a:xfrm>
              <a:off x="552960" y="1446120"/>
              <a:ext cx="18068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eshw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46920" y="1446120"/>
              <a:ext cx="4518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adily accessible freshw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79840" y="2055600"/>
              <a:ext cx="138312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io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00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01960" y="3122280"/>
              <a:ext cx="138312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v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00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22160" y="4456080"/>
              <a:ext cx="20430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tmospher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ater vap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00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95480" y="2906640"/>
              <a:ext cx="138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L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0.0007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44760" y="4011480"/>
              <a:ext cx="146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So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mois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0.000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48200" y="2043000"/>
              <a:ext cx="207828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roundw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592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6160" y="3914640"/>
              <a:ext cx="1959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Ice ca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and glaci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0.592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2825640" y="2896560"/>
              <a:ext cx="2006640" cy="1874880"/>
              <a:chOff x="2825640" y="2896560"/>
              <a:chExt cx="2006640" cy="1874880"/>
            </a:xfrm>
          </p:grpSpPr>
          <p:sp>
            <p:nvSpPr>
              <p:cNvPr id="79" name=""/>
              <p:cNvSpPr/>
              <p:nvPr/>
            </p:nvSpPr>
            <p:spPr>
              <a:xfrm flipV="1">
                <a:off x="2825640" y="2896560"/>
                <a:ext cx="2006640" cy="94788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25640" y="3907800"/>
                <a:ext cx="1828800" cy="863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096360" y="3693960"/>
                <a:ext cx="12139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0.014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 flipH="1">
              <a:off x="1809360" y="2587320"/>
              <a:ext cx="672840" cy="67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711840" y="2612520"/>
              <a:ext cx="46980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50000" y="3235320"/>
              <a:ext cx="74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64120" y="3789360"/>
              <a:ext cx="469800" cy="59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rface 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2680" y="1577880"/>
            <a:ext cx="3803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rface run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1960" y="2871720"/>
            <a:ext cx="3197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sh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2320" y="4165560"/>
            <a:ext cx="4043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liable runof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63360" y="1104840"/>
            <a:ext cx="9029880" cy="5753160"/>
            <a:chOff x="63360" y="1104840"/>
            <a:chExt cx="9029880" cy="5753160"/>
          </a:xfrm>
        </p:grpSpPr>
        <p:grpSp>
          <p:nvGrpSpPr>
            <p:cNvPr id="92" name=""/>
            <p:cNvGrpSpPr/>
            <p:nvPr/>
          </p:nvGrpSpPr>
          <p:grpSpPr>
            <a:xfrm>
              <a:off x="63360" y="1104840"/>
              <a:ext cx="9029880" cy="5753160"/>
              <a:chOff x="63360" y="1104840"/>
              <a:chExt cx="9029880" cy="575316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63360" y="1104840"/>
                <a:ext cx="9029880" cy="5743080"/>
                <a:chOff x="63360" y="1104840"/>
                <a:chExt cx="9029880" cy="5743080"/>
              </a:xfrm>
            </p:grpSpPr>
            <p:pic>
              <p:nvPicPr>
                <p:cNvPr id="9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3360" y="1114560"/>
                  <a:ext cx="9029880" cy="57308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5" name=""/>
                <p:cNvGrpSpPr/>
                <p:nvPr/>
              </p:nvGrpSpPr>
              <p:grpSpPr>
                <a:xfrm>
                  <a:off x="63360" y="1104840"/>
                  <a:ext cx="9004320" cy="5743080"/>
                  <a:chOff x="63360" y="1104840"/>
                  <a:chExt cx="9004320" cy="57430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63360" y="1104840"/>
                    <a:ext cx="0" cy="5727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75960" y="1104840"/>
                    <a:ext cx="8979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9067680" y="1104840"/>
                    <a:ext cx="0" cy="3670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3360" y="6845400"/>
                    <a:ext cx="731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V="1">
                    <a:off x="7394400" y="4774680"/>
                    <a:ext cx="1673280" cy="207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1" name=""/>
              <p:cNvSpPr/>
              <p:nvPr/>
            </p:nvSpPr>
            <p:spPr>
              <a:xfrm flipV="1">
                <a:off x="7378560" y="5423040"/>
                <a:ext cx="0" cy="143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7391160" y="4584600"/>
                <a:ext cx="1041480" cy="81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6158880" y="5410080"/>
                <a:ext cx="121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1866960" y="4381560"/>
              <a:ext cx="296640" cy="507960"/>
            </a:xfrm>
            <a:prstGeom prst="downArrow">
              <a:avLst>
                <a:gd name="adj1" fmla="val 50000"/>
                <a:gd name="adj2" fmla="val 42809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7100000">
              <a:off x="3340440" y="3287880"/>
              <a:ext cx="297000" cy="507960"/>
            </a:xfrm>
            <a:prstGeom prst="downArrow">
              <a:avLst>
                <a:gd name="adj1" fmla="val 50000"/>
                <a:gd name="adj2" fmla="val 4275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21240" y="4927680"/>
              <a:ext cx="296640" cy="761760"/>
            </a:xfrm>
            <a:prstGeom prst="downArrow">
              <a:avLst>
                <a:gd name="adj1" fmla="val 50000"/>
                <a:gd name="adj2" fmla="val 64199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0800000">
              <a:off x="4749840" y="2577960"/>
              <a:ext cx="309600" cy="2082960"/>
            </a:xfrm>
            <a:prstGeom prst="downArrow">
              <a:avLst>
                <a:gd name="adj1" fmla="val 50000"/>
                <a:gd name="adj2" fmla="val 16819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0800000">
              <a:off x="5752800" y="2577600"/>
              <a:ext cx="309240" cy="1892520"/>
            </a:xfrm>
            <a:prstGeom prst="downArrow">
              <a:avLst>
                <a:gd name="adj1" fmla="val 50000"/>
                <a:gd name="adj2" fmla="val 15299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0800000">
              <a:off x="6730920" y="2577960"/>
              <a:ext cx="309600" cy="1625760"/>
            </a:xfrm>
            <a:prstGeom prst="downArrow">
              <a:avLst>
                <a:gd name="adj1" fmla="val 50000"/>
                <a:gd name="adj2" fmla="val 131279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0800000">
              <a:off x="7785000" y="3085920"/>
              <a:ext cx="309600" cy="1663920"/>
            </a:xfrm>
            <a:prstGeom prst="downArrow">
              <a:avLst>
                <a:gd name="adj1" fmla="val 50000"/>
                <a:gd name="adj2" fmla="val 134360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18160" y="2271600"/>
              <a:ext cx="251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poration and transpi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59840" y="2766960"/>
              <a:ext cx="113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00560" y="450684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60640" y="5078520"/>
              <a:ext cx="9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il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19320" y="4811760"/>
              <a:ext cx="10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ter 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68200" y="4748040"/>
              <a:ext cx="9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il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25800" y="5408640"/>
              <a:ext cx="167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confined aqui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07440" y="6030720"/>
              <a:ext cx="148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ned aqui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04080" y="4913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165560" y="2717640"/>
              <a:ext cx="0" cy="212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33280" y="2411280"/>
              <a:ext cx="191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l requiring a p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984400" y="1980720"/>
              <a:ext cx="0" cy="287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92560" y="1446120"/>
              <a:ext cx="117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ow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tesian w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78000" y="379584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unof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1040" y="201780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cipi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720" y="2894040"/>
              <a:ext cx="143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f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harge 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83480" y="441792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qui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568680" y="5130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724480" y="5844960"/>
              <a:ext cx="25308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3029040" y="5844960"/>
              <a:ext cx="25308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892680" y="5514840"/>
              <a:ext cx="25344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4197600" y="5514840"/>
              <a:ext cx="25344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0440" y="6183360"/>
              <a:ext cx="2264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ess permeable mater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uch as c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8880" y="6487920"/>
              <a:ext cx="296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firming permeable rock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round 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065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5-3 p. 3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se of Water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0" y="1546200"/>
            <a:ext cx="8733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s use about 54% of reliable run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60" y="2430360"/>
            <a:ext cx="2914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ricul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0" y="3314880"/>
            <a:ext cx="2333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us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00" y="4199040"/>
            <a:ext cx="2432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omes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0" y="5084640"/>
            <a:ext cx="3182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wer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61160" y="6553080"/>
            <a:ext cx="14828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5-4 p. 3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335560" y="2101680"/>
            <a:ext cx="3603960" cy="4460040"/>
            <a:chOff x="5335560" y="2101680"/>
            <a:chExt cx="3603960" cy="446004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rcRect l="0" t="0" r="54686" b="0"/>
            <a:stretch/>
          </p:blipFill>
          <p:spPr>
            <a:xfrm>
              <a:off x="5335560" y="2803320"/>
              <a:ext cx="3533760" cy="25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037200" y="2101680"/>
              <a:ext cx="212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44720" y="5619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ustry 1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49600" y="6102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ublic 1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94680" y="3244680"/>
              <a:ext cx="1264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o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o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8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02280" y="3041280"/>
              <a:ext cx="180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8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80080" y="4970160"/>
              <a:ext cx="0" cy="596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43840" y="4970160"/>
              <a:ext cx="0" cy="1014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oo Little 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600" y="1527120"/>
            <a:ext cx="318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y clim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960" y="2689200"/>
            <a:ext cx="2589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ough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8880" y="3852720"/>
            <a:ext cx="311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sic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960" y="5016600"/>
            <a:ext cx="3353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876840" y="1320840"/>
            <a:ext cx="5179680" cy="326880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3900600" y="4479840"/>
            <a:ext cx="5130720" cy="2132640"/>
            <a:chOff x="3900600" y="4479840"/>
            <a:chExt cx="5130720" cy="2132640"/>
          </a:xfrm>
        </p:grpSpPr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3900600" y="4514760"/>
              <a:ext cx="676080" cy="17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664880" y="447984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cute shor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65600" y="495936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equate sup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66320" y="546120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hor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65600" y="5908680"/>
              <a:ext cx="4365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tropolitan regions with population greater than 1 mil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664400" y="6553080"/>
            <a:ext cx="1479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5-6 p. 3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sing Dams and Reservoirs to Supply More Water: The Trade-off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01520" y="1631880"/>
            <a:ext cx="8911440" cy="5150520"/>
            <a:chOff x="101520" y="1631880"/>
            <a:chExt cx="8911440" cy="515052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101520" y="3222360"/>
              <a:ext cx="8839440" cy="30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665280" y="2393640"/>
              <a:ext cx="177624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arge lo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f water throu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apo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35320" y="1707840"/>
              <a:ext cx="252720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looded land destroys forests or cropland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places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08640" y="2604960"/>
              <a:ext cx="234468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ownstream flooding is re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34120" y="1631880"/>
              <a:ext cx="274788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ownstream cropland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stuaries are deprived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utrient-rich si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8520" y="4617720"/>
              <a:ext cx="2469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oir is useful for recreation and fis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0640" y="5854320"/>
              <a:ext cx="454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n produce cheap electricity (hydropow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57640" y="6445080"/>
              <a:ext cx="538308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gration and spawning of some fish are disru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90440" y="5155920"/>
              <a:ext cx="1622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vides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year-ro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rrigation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opl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531800" y="3171240"/>
              <a:ext cx="0" cy="9399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602160" y="2651040"/>
              <a:ext cx="0" cy="16128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5784840" y="3073320"/>
              <a:ext cx="992160" cy="19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615440" y="2574360"/>
              <a:ext cx="0" cy="23367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759040" y="4452480"/>
              <a:ext cx="1254240" cy="4698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579920" y="5020560"/>
              <a:ext cx="836640" cy="79236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815160" y="5165280"/>
              <a:ext cx="0" cy="13078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6911640" y="5103000"/>
              <a:ext cx="431640" cy="24912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7687440" y="654372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5-9 p. 3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2:33Z</dcterms:modified>
  <cp:revision>43</cp:revision>
  <dc:subject/>
  <dc:title>PowerPoint Presentation</dc:title>
</cp:coreProperties>
</file>