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15B-8115-4A40-8313-CF75A9C1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6DA-0646-4745-8548-3FCA57FA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501-D45C-4F71-93CF-8A4C2B3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F37-E0B9-49BE-A162-BFEA0DBD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428-EFBF-4320-834A-633A8150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A41-75FC-4E81-9D79-8F6062E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74B-9CDC-45E4-B57C-BE26715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9BE-B454-4D3D-BA55-B966BA8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7CB-69EB-4D4D-9E25-95B6618E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7F3-4360-4245-958B-DB864C1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B8D-58C3-4019-B4B4-F086ADD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763-E4BD-4B2B-9E6C-E6CD1BD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562-731A-42B8-9532-5A2E82F3F8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3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4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13 p. 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5600" y="5730840"/>
            <a:ext cx="29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15-15 p. 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5 p. 31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7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5-20 p. 32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29280"/>
            <a:ext cx="876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 (xeriscap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00" y="3613320"/>
            <a:ext cx="9104400" cy="324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9920" y="59198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6400" y="5135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47960" y="5400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920" y="5235480"/>
            <a:ext cx="100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7480" y="547380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7000" y="4383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4400" y="43308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18000" y="3672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027320" y="3987720"/>
            <a:ext cx="2541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59160"/>
            <a:ext cx="692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24 p.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5-26 p. 3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880" y="4722840"/>
            <a:ext cx="670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ters out ultraviolet rad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82040" y="6553080"/>
            <a:ext cx="14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2 p. 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960" y="287172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2320" y="4165560"/>
            <a:ext cx="404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2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3 p. 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4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1160" y="6553080"/>
            <a:ext cx="1482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4 p. 3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560" y="2101680"/>
            <a:ext cx="3603960" cy="4460040"/>
            <a:chOff x="5335560" y="2101680"/>
            <a:chExt cx="3603960" cy="44600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5335560" y="280332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037200" y="210168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4720" y="5619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49600" y="6102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4680" y="3244680"/>
              <a:ext cx="126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3041280"/>
              <a:ext cx="180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0080" y="497016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43840" y="497016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880" y="385272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ic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6320" y="54612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64400" y="6553080"/>
            <a:ext cx="1479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6 p. 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: The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1520" y="1631880"/>
            <a:ext cx="8911440" cy="5150520"/>
            <a:chOff x="101520" y="1631880"/>
            <a:chExt cx="8911440" cy="5150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36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280" y="239364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5320" y="170784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8520" y="461772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640" y="5854320"/>
              <a:ext cx="454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produce cheap electricity 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640" y="6445080"/>
              <a:ext cx="5383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0440" y="515592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31800" y="3171240"/>
              <a:ext cx="0" cy="93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02160" y="2651040"/>
              <a:ext cx="0" cy="1612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615440" y="257436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59040" y="4452480"/>
              <a:ext cx="1254240" cy="469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79920" y="5020560"/>
              <a:ext cx="836640" cy="792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815160" y="5165280"/>
              <a:ext cx="0" cy="1307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3Z</dcterms:modified>
  <cp:revision>43</cp:revision>
  <dc:subject/>
  <dc:title>PowerPoint Presentation</dc:title>
</cp:coreProperties>
</file>