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6617-EB11-4D3E-8F6A-B936D669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1C31-55CE-4D0E-8F2B-91812CC4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F351-45C2-4D4F-8841-7863FC78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ABD-13EE-4B80-B1FA-B66DC318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D0ED-C80D-4294-A2F9-B994E24D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747E-71AB-4328-8D8E-2C30D637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780-20DB-4541-9768-16C37EE0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E7B-4A65-47C2-B2E0-AA054F17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5149-F2AC-4DBE-A7F0-3984014C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758-7767-4DA3-BF1D-E9390501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223-B12F-4F10-AFCC-CD8D80BB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826D-4F6C-4182-9F7A-14FC05FA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6DAF-4D03-4242-91CD-73E66959ED7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ood and Soil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15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227160" y="1224000"/>
            <a:ext cx="8699400" cy="5595840"/>
            <a:chOff x="227160" y="1224000"/>
            <a:chExt cx="8699400" cy="559584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227160" y="1224000"/>
              <a:ext cx="8699400" cy="55958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grpSp>
          <p:nvGrpSpPr>
            <p:cNvPr id="111" name=""/>
            <p:cNvGrpSpPr/>
            <p:nvPr/>
          </p:nvGrpSpPr>
          <p:grpSpPr>
            <a:xfrm>
              <a:off x="4572000" y="5508720"/>
              <a:ext cx="3486600" cy="1137240"/>
              <a:chOff x="4572000" y="5508720"/>
              <a:chExt cx="3486600" cy="1137240"/>
            </a:xfrm>
          </p:grpSpPr>
          <p:sp>
            <p:nvSpPr>
              <p:cNvPr id="112" name=""/>
              <p:cNvSpPr/>
              <p:nvPr/>
            </p:nvSpPr>
            <p:spPr>
              <a:xfrm>
                <a:off x="5005440" y="5508720"/>
                <a:ext cx="2612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reas of serious concer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005440" y="5908680"/>
                <a:ext cx="242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reas of some concer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06520" y="6308640"/>
                <a:ext cx="3052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ble or nonvegetative are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72000" y="5553000"/>
                <a:ext cx="444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572000" y="5946840"/>
                <a:ext cx="444600" cy="22860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572000" y="6340320"/>
                <a:ext cx="444600" cy="228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lobal Soil Eros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49160" y="6553080"/>
            <a:ext cx="23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4-7 p. 2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oil Erosion in the U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58720" y="18446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ust Bowl – 1930s: Fig. 14-5 p. 28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tions in erosion since 198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985 Food Security 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auses of Desertific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6680" y="1579320"/>
            <a:ext cx="8229600" cy="438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vergraz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fores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lin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il Comp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 Climate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94040" y="6278400"/>
            <a:ext cx="46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4-10 p. 2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World Desertificat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1960" y="1189080"/>
            <a:ext cx="7557840" cy="5646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912000" y="6521400"/>
            <a:ext cx="14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4-9 p. 2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il Degradation on Irrigated Land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00" y="2403360"/>
            <a:ext cx="3453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liniz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0" y="4216320"/>
            <a:ext cx="3595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logg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960720" y="1900080"/>
            <a:ext cx="5183280" cy="4147920"/>
            <a:chOff x="3960720" y="1900080"/>
            <a:chExt cx="5183280" cy="41479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3960720" y="1900080"/>
              <a:ext cx="5183280" cy="41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101840" y="2011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vapo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50720" y="2217600"/>
              <a:ext cx="14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i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78560" y="2011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vapo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6360" y="4755960"/>
              <a:ext cx="14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aterlog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61280" y="5467320"/>
              <a:ext cx="1712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ess perme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y 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6570720" y="5573160"/>
              <a:ext cx="777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588800" y="6553080"/>
            <a:ext cx="1559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4-11 p. 2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ducing and Cleaning Up Saliniz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7720" y="1886040"/>
            <a:ext cx="8229600" cy="381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uce irri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witch to salt-tolerant cro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ush soi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 growing crops for 2-5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stall underground drain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0200" y="5983200"/>
            <a:ext cx="45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er to Fig. 14-12 p. 2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olutions:  Soil Conserv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320" y="1449360"/>
            <a:ext cx="503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ventional-till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080" y="2211480"/>
            <a:ext cx="5246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ervation tillag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7440" y="2932200"/>
            <a:ext cx="292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rrac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9640" y="5195880"/>
            <a:ext cx="3310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indbrea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9920" y="5899320"/>
            <a:ext cx="4851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nd Class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70120" y="3191040"/>
            <a:ext cx="3774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fer to Fig. 14-14 p. 2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6600" y="3714840"/>
            <a:ext cx="4578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our farm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5960" y="4414680"/>
            <a:ext cx="7626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rip and alley cropp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oil Restor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9560" y="1449360"/>
            <a:ext cx="442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c fertiliz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0360" y="5772240"/>
            <a:ext cx="751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ercial inorganic fertiliz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3240" y="2303640"/>
            <a:ext cx="4056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imal man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1880" y="3193920"/>
            <a:ext cx="3801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een man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960" y="4068720"/>
            <a:ext cx="2576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4000" y="4941720"/>
            <a:ext cx="3635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op ro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orld Food Produ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2160" y="1203480"/>
            <a:ext cx="356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w leveling off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80" y="1870200"/>
            <a:ext cx="5738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ages in developing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67560" y="6553080"/>
            <a:ext cx="157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4-16 p. 2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9360" y="2701800"/>
            <a:ext cx="4599000" cy="2832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608360" y="2701800"/>
            <a:ext cx="4535640" cy="2843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utri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4080" y="1581120"/>
            <a:ext cx="3958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dernutr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3360" y="2790720"/>
            <a:ext cx="357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lnutr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3000" y="4002120"/>
            <a:ext cx="3678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vernutr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50600" y="5437080"/>
            <a:ext cx="5864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fer to Fig. 14-17 p. 2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1120" y="1949400"/>
            <a:ext cx="5927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thods of producing f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1120" y="3147840"/>
            <a:ext cx="593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ing food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1840" y="4346640"/>
            <a:ext cx="3842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il degra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480" y="5546880"/>
            <a:ext cx="541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ing sustain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Effects of Food Produ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3120" y="1843200"/>
            <a:ext cx="4176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diversity l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2040" y="2778120"/>
            <a:ext cx="4297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il degra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4200" y="3714840"/>
            <a:ext cx="343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i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2040" y="4651200"/>
            <a:ext cx="7442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 shortages and ero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000" y="5587920"/>
            <a:ext cx="3746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 heal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74680" y="3713040"/>
            <a:ext cx="415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e Fig. 14-18 p. 2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Increasing World Crop Produc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7800" y="1708200"/>
            <a:ext cx="7904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rossbreeding and artificial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8880" y="2470320"/>
            <a:ext cx="7445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tic engineering (gene splic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8520" y="3232080"/>
            <a:ext cx="8538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tically modified organisms (GMO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6360" y="3995640"/>
            <a:ext cx="8466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tinued Green Revolution techni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5280" y="4757760"/>
            <a:ext cx="502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roducing new fo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6720" y="5521320"/>
            <a:ext cx="4490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rking more 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oducing More Me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60" y="1974960"/>
            <a:ext cx="2254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eedlo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0" y="2871720"/>
            <a:ext cx="2917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ngel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0" y="4962600"/>
            <a:ext cx="7285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roved rangeland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20" y="3895560"/>
            <a:ext cx="258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20" y="5843520"/>
            <a:ext cx="9248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Environmental consequenc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nection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. 295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954160" y="1276200"/>
            <a:ext cx="6189840" cy="2764440"/>
            <a:chOff x="2954160" y="1276200"/>
            <a:chExt cx="6189840" cy="2764440"/>
          </a:xfrm>
        </p:grpSpPr>
        <p:sp>
          <p:nvSpPr>
            <p:cNvPr id="204" name=""/>
            <p:cNvSpPr/>
            <p:nvPr/>
          </p:nvSpPr>
          <p:spPr>
            <a:xfrm>
              <a:off x="2954160" y="1276200"/>
              <a:ext cx="61898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ilograms of grain needed per kilogram of body we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3157920" y="1733400"/>
              <a:ext cx="5984640" cy="2307240"/>
              <a:chOff x="3157920" y="1733400"/>
              <a:chExt cx="5984640" cy="230724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3294000" y="1733400"/>
                <a:ext cx="5848560" cy="490320"/>
                <a:chOff x="3294000" y="1733400"/>
                <a:chExt cx="5848560" cy="490320"/>
              </a:xfrm>
            </p:grpSpPr>
            <p:pic>
              <p:nvPicPr>
                <p:cNvPr id="207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892760" y="1733400"/>
                  <a:ext cx="3894120" cy="490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</p:pic>
            <p:sp>
              <p:nvSpPr>
                <p:cNvPr id="208" name=""/>
                <p:cNvSpPr/>
                <p:nvPr/>
              </p:nvSpPr>
              <p:spPr>
                <a:xfrm>
                  <a:off x="3294000" y="1780920"/>
                  <a:ext cx="146988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Beef cattl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820000" y="17809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872160" y="2297160"/>
                <a:ext cx="4775040" cy="487440"/>
                <a:chOff x="3872160" y="2297160"/>
                <a:chExt cx="4775040" cy="487440"/>
              </a:xfrm>
            </p:grpSpPr>
            <p:pic>
              <p:nvPicPr>
                <p:cNvPr id="21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92760" y="2297160"/>
                  <a:ext cx="3409920" cy="487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</p:pic>
            <p:sp>
              <p:nvSpPr>
                <p:cNvPr id="212" name=""/>
                <p:cNvSpPr/>
                <p:nvPr/>
              </p:nvSpPr>
              <p:spPr>
                <a:xfrm>
                  <a:off x="3872160" y="2341440"/>
                  <a:ext cx="71712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Pig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24640" y="234324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523320" y="2854440"/>
                <a:ext cx="3830400" cy="477720"/>
                <a:chOff x="3523320" y="2854440"/>
                <a:chExt cx="3830400" cy="477720"/>
              </a:xfrm>
            </p:grpSpPr>
            <p:pic>
              <p:nvPicPr>
                <p:cNvPr id="21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92760" y="2854440"/>
                  <a:ext cx="1947600" cy="477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</p:pic>
            <p:sp>
              <p:nvSpPr>
                <p:cNvPr id="216" name=""/>
                <p:cNvSpPr/>
                <p:nvPr/>
              </p:nvSpPr>
              <p:spPr>
                <a:xfrm>
                  <a:off x="3523320" y="2894040"/>
                  <a:ext cx="117144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hicke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819480" y="2895480"/>
                  <a:ext cx="53424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3157920" y="3336840"/>
                <a:ext cx="3890520" cy="703800"/>
                <a:chOff x="3157920" y="3336840"/>
                <a:chExt cx="3890520" cy="703800"/>
              </a:xfrm>
            </p:grpSpPr>
            <p:pic>
              <p:nvPicPr>
                <p:cNvPr id="21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892760" y="3438360"/>
                  <a:ext cx="1803240" cy="497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</p:pic>
            <p:sp>
              <p:nvSpPr>
                <p:cNvPr id="220" name=""/>
                <p:cNvSpPr/>
                <p:nvPr/>
              </p:nvSpPr>
              <p:spPr>
                <a:xfrm>
                  <a:off x="3157920" y="3336840"/>
                  <a:ext cx="1680480" cy="7038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Fish (catfis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or carp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725880" y="348948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2" name=""/>
          <p:cNvSpPr/>
          <p:nvPr/>
        </p:nvSpPr>
        <p:spPr>
          <a:xfrm>
            <a:off x="4997520" y="4113360"/>
            <a:ext cx="16747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4-22  p. 2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atching and Raising More Fis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6160" y="1606680"/>
            <a:ext cx="2577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h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9920" y="2386080"/>
            <a:ext cx="764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hing methods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4-24 p. 299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840" y="3173400"/>
            <a:ext cx="332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verfish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0960" y="4040280"/>
            <a:ext cx="5581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ercial exti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9160" y="4902120"/>
            <a:ext cx="3252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qu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8800" y="5680080"/>
            <a:ext cx="6456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h farming and ranc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overnment Agricultural Polic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6800" y="1606680"/>
            <a:ext cx="5316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tificially low pr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240" y="2733840"/>
            <a:ext cx="2789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bsid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240" y="3860640"/>
            <a:ext cx="6854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imination of price contr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6800" y="4987800"/>
            <a:ext cx="253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od a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olutions:  Sustainable Agriculture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9280" y="1711440"/>
            <a:ext cx="5468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w-input 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8200" y="2857680"/>
            <a:ext cx="4284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c far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7840" y="4003560"/>
            <a:ext cx="280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fit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6040" y="5149800"/>
            <a:ext cx="82393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creasing funding for research in sustainable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29600" y="2984400"/>
            <a:ext cx="3163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e Fig. 14-29 p. 3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ow Is Food Produced?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7800" y="1847880"/>
            <a:ext cx="3960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urces of 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8880" y="3157560"/>
            <a:ext cx="5183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mary plants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at, corn, and r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1040" y="5076720"/>
            <a:ext cx="6735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mary animals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sh, beef, pork, and chic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jor Types of Agricultur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3040" y="1616040"/>
            <a:ext cx="6233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ustrialized 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8520" y="3787920"/>
            <a:ext cx="8224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ditional subsistence 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680" y="2643120"/>
            <a:ext cx="2888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5600" y="4959360"/>
            <a:ext cx="7716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ditional intensive 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orld Food Produc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58680" y="1166760"/>
            <a:ext cx="7167600" cy="5662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615000" y="655020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4-2 p. 2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ducing Food by Green-Revolution Technique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8760" y="1477800"/>
            <a:ext cx="539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-input monocul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7320" y="2190600"/>
            <a:ext cx="8986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lectively bred or genetically-engineered c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560" y="3454560"/>
            <a:ext cx="523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 inputs of fertili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9120" y="4167360"/>
            <a:ext cx="5747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tensive use of pestic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8760" y="4881600"/>
            <a:ext cx="4656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 inputs of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7320" y="5595840"/>
            <a:ext cx="898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ultiple cr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reen Revolu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11080" y="1241280"/>
            <a:ext cx="7566120" cy="43657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35200" y="1254240"/>
            <a:ext cx="7515000" cy="5603400"/>
            <a:chOff x="835200" y="1254240"/>
            <a:chExt cx="7515000" cy="5603400"/>
          </a:xfrm>
        </p:grpSpPr>
        <p:grpSp>
          <p:nvGrpSpPr>
            <p:cNvPr id="79" name=""/>
            <p:cNvGrpSpPr/>
            <p:nvPr/>
          </p:nvGrpSpPr>
          <p:grpSpPr>
            <a:xfrm>
              <a:off x="835200" y="1254240"/>
              <a:ext cx="7515000" cy="5063760"/>
              <a:chOff x="835200" y="1254240"/>
              <a:chExt cx="7515000" cy="5063760"/>
            </a:xfrm>
          </p:grpSpPr>
          <p:pic>
            <p:nvPicPr>
              <p:cNvPr id="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35200" y="1254240"/>
                <a:ext cx="7515000" cy="4344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1" name=""/>
              <p:cNvGrpSpPr/>
              <p:nvPr/>
            </p:nvGrpSpPr>
            <p:grpSpPr>
              <a:xfrm>
                <a:off x="1090440" y="5737320"/>
                <a:ext cx="6998040" cy="580680"/>
                <a:chOff x="1090440" y="5737320"/>
                <a:chExt cx="6998040" cy="580680"/>
              </a:xfrm>
            </p:grpSpPr>
            <p:grpSp>
              <p:nvGrpSpPr>
                <p:cNvPr id="82" name=""/>
                <p:cNvGrpSpPr/>
                <p:nvPr/>
              </p:nvGrpSpPr>
              <p:grpSpPr>
                <a:xfrm>
                  <a:off x="1090440" y="5737320"/>
                  <a:ext cx="2885040" cy="580680"/>
                  <a:chOff x="1090440" y="5737320"/>
                  <a:chExt cx="2885040" cy="580680"/>
                </a:xfrm>
              </p:grpSpPr>
              <p:grpSp>
                <p:nvGrpSpPr>
                  <p:cNvPr id="83" name=""/>
                  <p:cNvGrpSpPr/>
                  <p:nvPr/>
                </p:nvGrpSpPr>
                <p:grpSpPr>
                  <a:xfrm>
                    <a:off x="1090440" y="5894640"/>
                    <a:ext cx="512640" cy="266400"/>
                    <a:chOff x="1090440" y="5894640"/>
                    <a:chExt cx="512640" cy="266400"/>
                  </a:xfrm>
                </p:grpSpPr>
                <p:pic>
                  <p:nvPicPr>
                    <p:cNvPr id="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98360" y="5910480"/>
                      <a:ext cx="49824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1090440" y="5894640"/>
                      <a:ext cx="512640" cy="2552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" name=""/>
                  <p:cNvSpPr/>
                  <p:nvPr/>
                </p:nvSpPr>
                <p:spPr>
                  <a:xfrm>
                    <a:off x="1691640" y="5737320"/>
                    <a:ext cx="228384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First green revolutio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(developed countries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" name=""/>
                <p:cNvGrpSpPr/>
                <p:nvPr/>
              </p:nvGrpSpPr>
              <p:grpSpPr>
                <a:xfrm>
                  <a:off x="4935240" y="5737320"/>
                  <a:ext cx="3153240" cy="580680"/>
                  <a:chOff x="4935240" y="5737320"/>
                  <a:chExt cx="3153240" cy="580680"/>
                </a:xfrm>
              </p:grpSpPr>
              <p:grpSp>
                <p:nvGrpSpPr>
                  <p:cNvPr id="88" name=""/>
                  <p:cNvGrpSpPr/>
                  <p:nvPr/>
                </p:nvGrpSpPr>
                <p:grpSpPr>
                  <a:xfrm>
                    <a:off x="4935240" y="5892840"/>
                    <a:ext cx="512280" cy="266760"/>
                    <a:chOff x="4935240" y="5892840"/>
                    <a:chExt cx="512280" cy="266760"/>
                  </a:xfrm>
                </p:grpSpPr>
                <p:pic>
                  <p:nvPicPr>
                    <p:cNvPr id="8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936680" y="5892840"/>
                      <a:ext cx="5086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4935240" y="5897520"/>
                      <a:ext cx="512280" cy="2556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1" name=""/>
                  <p:cNvSpPr/>
                  <p:nvPr/>
                </p:nvSpPr>
                <p:spPr>
                  <a:xfrm>
                    <a:off x="5533200" y="5737320"/>
                    <a:ext cx="25552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Second green revolutio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(developing countries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2" name=""/>
            <p:cNvGrpSpPr/>
            <p:nvPr/>
          </p:nvGrpSpPr>
          <p:grpSpPr>
            <a:xfrm>
              <a:off x="2608200" y="6276960"/>
              <a:ext cx="3677400" cy="580680"/>
              <a:chOff x="2608200" y="6276960"/>
              <a:chExt cx="3677400" cy="5806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2608200" y="6299280"/>
                <a:ext cx="195840" cy="213840"/>
                <a:chOff x="2608200" y="6299280"/>
                <a:chExt cx="195840" cy="213840"/>
              </a:xfrm>
            </p:grpSpPr>
            <p:pic>
              <p:nvPicPr>
                <p:cNvPr id="9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608200" y="6314400"/>
                  <a:ext cx="19584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>
                  <a:off x="2608200" y="6299280"/>
                  <a:ext cx="195840" cy="1987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2905920" y="6276960"/>
                <a:ext cx="3379680" cy="580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Major International agricultural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research centers and seed ban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7687440" y="65530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4-4 p. 2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oducing Food by Traditional Technique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320" y="1716120"/>
            <a:ext cx="366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plant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7520" y="2570040"/>
            <a:ext cx="570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yvarietal culti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9680" y="3465360"/>
            <a:ext cx="3678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cropp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9760" y="4359240"/>
            <a:ext cx="7009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groforestry (alley cropp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9880" y="5254560"/>
            <a:ext cx="3141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y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16160" y="6278400"/>
            <a:ext cx="53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e Individuals Matter p. 27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auses of Soil Erosion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802880"/>
            <a:ext cx="8229600" cy="45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376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Laura Murray</cp:lastModifiedBy>
  <dcterms:modified xsi:type="dcterms:W3CDTF">2004-10-07T17:24:27Z</dcterms:modified>
  <cp:revision>79</cp:revision>
  <dc:subject/>
  <dc:title>PowerPoint Presentation</dc:title>
</cp:coreProperties>
</file>