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7AD-495D-4C9B-AD17-82968052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5A5-CE37-4157-AFF8-9EE1078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812-3D3E-41F8-B740-585B5869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FC9-48F1-4CF3-B620-510033D7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457-5B2A-4C5C-A179-19C169D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8C8-F6E6-484A-BDA3-DD27187E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527-3410-43BF-BF24-49EFE5E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ECD-6B2B-4239-8984-F98A9A3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B8A-EC84-43BE-90C6-02D61C25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285-A55D-4B19-B814-8587A85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A78-F66B-4F70-81F5-B861394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0B3-B574-4DD5-A708-6DBD704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DCD8-71E2-4863-A1BE-2ADD339E9C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od and Soi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7160" y="1224000"/>
            <a:ext cx="8699400" cy="5595840"/>
            <a:chOff x="227160" y="1224000"/>
            <a:chExt cx="8699400" cy="55958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27160" y="1224000"/>
              <a:ext cx="8699400" cy="55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4572000" y="5508720"/>
              <a:ext cx="3486600" cy="1137240"/>
              <a:chOff x="4572000" y="5508720"/>
              <a:chExt cx="3486600" cy="11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5005440" y="5508720"/>
                <a:ext cx="261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erious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05440" y="5908680"/>
                <a:ext cx="24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ome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520" y="6308640"/>
                <a:ext cx="30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ble or nonvegetative are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0" y="5553000"/>
                <a:ext cx="444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0" y="5946840"/>
                <a:ext cx="444600" cy="2286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0" y="6340320"/>
                <a:ext cx="444600" cy="228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Soil Ero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9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7 p. 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il Erosion in the U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– 1930s: Fig. 14-5 p. 2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tions in erosion since 19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5 Food Secur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6680" y="1579320"/>
            <a:ext cx="8229600" cy="438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graz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Comp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Climate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4040" y="6278400"/>
            <a:ext cx="46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0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orld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1960" y="1189080"/>
            <a:ext cx="7557840" cy="564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12000" y="65214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9 p. 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il Degradation on Irrigated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" y="2403360"/>
            <a:ext cx="345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" y="4216320"/>
            <a:ext cx="35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log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60720" y="1900080"/>
            <a:ext cx="5183280" cy="4147920"/>
            <a:chOff x="3960720" y="1900080"/>
            <a:chExt cx="5183280" cy="41479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60720" y="1900080"/>
              <a:ext cx="518328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10184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0720" y="221760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7856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6360" y="475596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lo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5467320"/>
              <a:ext cx="171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s perme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y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570720" y="5573160"/>
              <a:ext cx="77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1 p. 2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and Cleaning Up Salin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886040"/>
            <a:ext cx="822960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itch to salt-tolerant cr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ush so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growing crops for 2-5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all underground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200" y="5983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2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Soil Conserv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320" y="1449360"/>
            <a:ext cx="503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ntional-till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2211480"/>
            <a:ext cx="524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tilla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440" y="2932200"/>
            <a:ext cx="292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ac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640" y="5195880"/>
            <a:ext cx="331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br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920" y="5899320"/>
            <a:ext cx="485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0120" y="3191040"/>
            <a:ext cx="377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4-14 p. 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6600" y="3714840"/>
            <a:ext cx="457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farm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4414680"/>
            <a:ext cx="762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and alley crop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9560" y="144936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0360" y="5772240"/>
            <a:ext cx="751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in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" y="230364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880" y="3193920"/>
            <a:ext cx="380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40687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4000" y="4941720"/>
            <a:ext cx="363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160" y="1203480"/>
            <a:ext cx="356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leveling of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1870200"/>
            <a:ext cx="57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ages in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67560" y="6553080"/>
            <a:ext cx="15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6 p. 2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360" y="2701800"/>
            <a:ext cx="4599000" cy="283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08360" y="2701800"/>
            <a:ext cx="4535640" cy="28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080" y="158112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3360" y="2790720"/>
            <a:ext cx="357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lnutr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000" y="400212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0600" y="5437080"/>
            <a:ext cx="586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. 14-17 p. 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120" y="1949400"/>
            <a:ext cx="592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producing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20" y="3147840"/>
            <a:ext cx="59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foo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4346640"/>
            <a:ext cx="384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554688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ffects of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3120" y="1843200"/>
            <a:ext cx="417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2778120"/>
            <a:ext cx="429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4200" y="371484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46512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hortages and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000" y="55879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h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74680" y="3713040"/>
            <a:ext cx="415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e Fig. 14-18 p. 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creasing World Crop Produc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7800" y="1708200"/>
            <a:ext cx="790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breeding and 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8880" y="2470320"/>
            <a:ext cx="744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 (gene splic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520" y="3232080"/>
            <a:ext cx="853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ally modified organisms (GM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360" y="3995640"/>
            <a:ext cx="846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inued Green Revolution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280" y="4757760"/>
            <a:ext cx="502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ing new f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720" y="5521320"/>
            <a:ext cx="449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rking more 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More Me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1974960"/>
            <a:ext cx="225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2871720"/>
            <a:ext cx="291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nge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0" y="4962600"/>
            <a:ext cx="728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d rangeland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20" y="3895560"/>
            <a:ext cx="258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20" y="5843520"/>
            <a:ext cx="924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nvironmental consequen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ion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. 29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54160" y="1276200"/>
            <a:ext cx="6189840" cy="2764440"/>
            <a:chOff x="2954160" y="1276200"/>
            <a:chExt cx="6189840" cy="2764440"/>
          </a:xfrm>
        </p:grpSpPr>
        <p:sp>
          <p:nvSpPr>
            <p:cNvPr id="204" name=""/>
            <p:cNvSpPr/>
            <p:nvPr/>
          </p:nvSpPr>
          <p:spPr>
            <a:xfrm>
              <a:off x="2954160" y="1276200"/>
              <a:ext cx="6189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ilograms of grain needed per kilogram of body 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157920" y="1733400"/>
              <a:ext cx="5984640" cy="2307240"/>
              <a:chOff x="3157920" y="1733400"/>
              <a:chExt cx="5984640" cy="23072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294000" y="1733400"/>
                <a:ext cx="5848560" cy="490320"/>
                <a:chOff x="3294000" y="1733400"/>
                <a:chExt cx="5848560" cy="490320"/>
              </a:xfrm>
            </p:grpSpPr>
            <p:pic>
              <p:nvPicPr>
                <p:cNvPr id="2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92760" y="1733400"/>
                  <a:ext cx="3894120" cy="490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3294000" y="1780920"/>
                  <a:ext cx="146988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eef cat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820000" y="17809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872160" y="2297160"/>
                <a:ext cx="4775040" cy="487440"/>
                <a:chOff x="3872160" y="2297160"/>
                <a:chExt cx="4775040" cy="48744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92760" y="2297160"/>
                  <a:ext cx="3409920" cy="487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872160" y="2341440"/>
                  <a:ext cx="7171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Pi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24640" y="23432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23320" y="2854440"/>
                <a:ext cx="3830400" cy="477720"/>
                <a:chOff x="3523320" y="2854440"/>
                <a:chExt cx="3830400" cy="47772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92760" y="2854440"/>
                  <a:ext cx="1947600" cy="477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23320" y="2894040"/>
                  <a:ext cx="1171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hick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19480" y="28954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57920" y="3336840"/>
                <a:ext cx="3890520" cy="703800"/>
                <a:chOff x="3157920" y="3336840"/>
                <a:chExt cx="3890520" cy="703800"/>
              </a:xfrm>
            </p:grpSpPr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92760" y="3438360"/>
                  <a:ext cx="1803240" cy="497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3157920" y="3336840"/>
                  <a:ext cx="1680480" cy="7038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Fish (catfis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or carp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25880" y="34894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>
            <a:off x="4997520" y="4113360"/>
            <a:ext cx="1674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22  p. 2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tching and Raising More Fis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160" y="160668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9920" y="2386080"/>
            <a:ext cx="764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ing method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4 p. 29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840" y="317340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fis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960" y="4040280"/>
            <a:ext cx="55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9160" y="4902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" y="5680080"/>
            <a:ext cx="645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 farming and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overnment Agricultur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00" y="160668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tificially low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240" y="2733840"/>
            <a:ext cx="278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" y="3860640"/>
            <a:ext cx="685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imination of price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00" y="4987800"/>
            <a:ext cx="253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ustainable Agricul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280" y="171144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input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200" y="2857680"/>
            <a:ext cx="428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ar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40035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i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6040" y="5149800"/>
            <a:ext cx="82393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nding for research in sustainable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9600" y="2984400"/>
            <a:ext cx="316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9 p. 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ow Is Food Produced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7800" y="1847880"/>
            <a:ext cx="396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880" y="3157560"/>
            <a:ext cx="5183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plant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at, corn, and 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040" y="5076720"/>
            <a:ext cx="6735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animal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, beef, pork, and chic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Types of Agricul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3040" y="1616040"/>
            <a:ext cx="62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ized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520" y="3787920"/>
            <a:ext cx="822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subsistenc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680" y="264312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4959360"/>
            <a:ext cx="771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intensiv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8680" y="1166760"/>
            <a:ext cx="7167600" cy="566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15000" y="6550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2 p. 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Food by Green-Revolution Techniqu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1477800"/>
            <a:ext cx="539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input mono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2190600"/>
            <a:ext cx="8986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vely bred or genetically-engineered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560" y="3454560"/>
            <a:ext cx="523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fertil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120" y="416736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sive use of pest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4881600"/>
            <a:ext cx="465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7320" y="5595840"/>
            <a:ext cx="898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ultiple c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 Revolu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1080" y="1241280"/>
            <a:ext cx="7566120" cy="4365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5200" y="1254240"/>
            <a:ext cx="7515000" cy="5603400"/>
            <a:chOff x="835200" y="1254240"/>
            <a:chExt cx="7515000" cy="5603400"/>
          </a:xfrm>
        </p:grpSpPr>
        <p:grpSp>
          <p:nvGrpSpPr>
            <p:cNvPr id="79" name=""/>
            <p:cNvGrpSpPr/>
            <p:nvPr/>
          </p:nvGrpSpPr>
          <p:grpSpPr>
            <a:xfrm>
              <a:off x="835200" y="1254240"/>
              <a:ext cx="7515000" cy="5063760"/>
              <a:chOff x="835200" y="1254240"/>
              <a:chExt cx="7515000" cy="506376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5200" y="1254240"/>
                <a:ext cx="7515000" cy="4344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" name=""/>
              <p:cNvGrpSpPr/>
              <p:nvPr/>
            </p:nvGrpSpPr>
            <p:grpSpPr>
              <a:xfrm>
                <a:off x="1090440" y="5737320"/>
                <a:ext cx="6998040" cy="580680"/>
                <a:chOff x="1090440" y="5737320"/>
                <a:chExt cx="6998040" cy="58068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090440" y="5737320"/>
                  <a:ext cx="2885040" cy="580680"/>
                  <a:chOff x="1090440" y="5737320"/>
                  <a:chExt cx="2885040" cy="5806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090440" y="5894640"/>
                    <a:ext cx="512640" cy="266400"/>
                    <a:chOff x="1090440" y="5894640"/>
                    <a:chExt cx="512640" cy="266400"/>
                  </a:xfrm>
                </p:grpSpPr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8360" y="5910480"/>
                      <a:ext cx="49824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090440" y="5894640"/>
                      <a:ext cx="512640" cy="255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1691640" y="5737320"/>
                    <a:ext cx="228384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First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ed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4935240" y="5737320"/>
                  <a:ext cx="3153240" cy="580680"/>
                  <a:chOff x="4935240" y="5737320"/>
                  <a:chExt cx="3153240" cy="5806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935240" y="5892840"/>
                    <a:ext cx="512280" cy="266760"/>
                    <a:chOff x="4935240" y="5892840"/>
                    <a:chExt cx="512280" cy="266760"/>
                  </a:xfrm>
                </p:grpSpPr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36680" y="5892840"/>
                      <a:ext cx="5086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935240" y="5897520"/>
                      <a:ext cx="512280" cy="2556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5533200" y="5737320"/>
                    <a:ext cx="2555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Second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ing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" name=""/>
            <p:cNvGrpSpPr/>
            <p:nvPr/>
          </p:nvGrpSpPr>
          <p:grpSpPr>
            <a:xfrm>
              <a:off x="2608200" y="6276960"/>
              <a:ext cx="3677400" cy="580680"/>
              <a:chOff x="2608200" y="6276960"/>
              <a:chExt cx="3677400" cy="580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608200" y="6299280"/>
                <a:ext cx="195840" cy="213840"/>
                <a:chOff x="2608200" y="6299280"/>
                <a:chExt cx="195840" cy="21384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08200" y="6314400"/>
                  <a:ext cx="1958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2608200" y="6299280"/>
                  <a:ext cx="195840" cy="1987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2905920" y="6276960"/>
                <a:ext cx="337968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jor International agricultu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esearch centers and seed ba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4 p. 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Food by Traditional Techniqu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320" y="1716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plan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7520" y="2570040"/>
            <a:ext cx="570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varietal cul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680" y="346536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cr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760" y="435924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oforestry (alley cropp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880" y="525456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6160" y="62784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Individuals Matter p. 2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Soil Eros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02880"/>
            <a:ext cx="822960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27Z</dcterms:modified>
  <cp:revision>79</cp:revision>
  <dc:subject/>
  <dc:title>PowerPoint Presentation</dc:title>
</cp:coreProperties>
</file>