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AADB-5458-4614-8BC8-B3E7122C3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CE99-0E7A-4C80-A86E-1ACD6DE7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F78C-D51C-488C-9FE9-AE6EC056C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B859-2AD5-4DDD-9CA2-F4DE5D4F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626E-10AB-4919-9837-FF7BFD99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AD06-FF9B-4425-95F5-10BF8B28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C69F-F5CA-41DC-AB5E-E380104B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F871-1B59-49F1-8301-DE654B7B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34DB-41A1-44FE-88CE-C5EA07C6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5F88-3D27-4447-B7AE-F5C8E7AB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CF60-A41B-41A5-BF73-A683B082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B10C-2EE9-4142-B82C-C4C0596F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AFFE-77CD-402C-A8F0-603D0584F17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ood and Soil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227160" y="1224000"/>
            <a:ext cx="8699400" cy="5595840"/>
            <a:chOff x="227160" y="1224000"/>
            <a:chExt cx="8699400" cy="559584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227160" y="1224000"/>
              <a:ext cx="8699400" cy="55958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grpSp>
          <p:nvGrpSpPr>
            <p:cNvPr id="111" name=""/>
            <p:cNvGrpSpPr/>
            <p:nvPr/>
          </p:nvGrpSpPr>
          <p:grpSpPr>
            <a:xfrm>
              <a:off x="4572000" y="5508720"/>
              <a:ext cx="3486600" cy="1137240"/>
              <a:chOff x="4572000" y="5508720"/>
              <a:chExt cx="3486600" cy="1137240"/>
            </a:xfrm>
          </p:grpSpPr>
          <p:sp>
            <p:nvSpPr>
              <p:cNvPr id="112" name=""/>
              <p:cNvSpPr/>
              <p:nvPr/>
            </p:nvSpPr>
            <p:spPr>
              <a:xfrm>
                <a:off x="5005440" y="5508720"/>
                <a:ext cx="2612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reas of serious concer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005440" y="5908680"/>
                <a:ext cx="242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reas of some concer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006520" y="6308640"/>
                <a:ext cx="3052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ble or nonvegetative are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572000" y="5553000"/>
                <a:ext cx="444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572000" y="5946840"/>
                <a:ext cx="444600" cy="22860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572000" y="6340320"/>
                <a:ext cx="444600" cy="2286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lobal Soil Eros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49160" y="6553080"/>
            <a:ext cx="235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4-7 p. 2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Soil Erosion in the U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58720" y="184464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ust Bowl – 1930s: Fig. 14-5 p. 28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ductions in erosion since 198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985 Food Security 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auses of Desertification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36680" y="1579320"/>
            <a:ext cx="8229600" cy="438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vergraz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fores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alin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il Comp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atural Climate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94040" y="6278400"/>
            <a:ext cx="469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fer to Fig. 14-10 p. 28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World Desertification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31960" y="1189080"/>
            <a:ext cx="7557840" cy="56466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912000" y="6521400"/>
            <a:ext cx="148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4-9 p. 2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il Degradation on Irrigated Land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00" y="2403360"/>
            <a:ext cx="3453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aliniza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0" y="4216320"/>
            <a:ext cx="3595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logg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960720" y="1900080"/>
            <a:ext cx="5183280" cy="4147920"/>
            <a:chOff x="3960720" y="1900080"/>
            <a:chExt cx="5183280" cy="414792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3960720" y="1900080"/>
              <a:ext cx="5183280" cy="411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101840" y="2011320"/>
              <a:ext cx="135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vapo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50720" y="2217600"/>
              <a:ext cx="147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nspi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78560" y="2011320"/>
              <a:ext cx="135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vapo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36360" y="4755960"/>
              <a:ext cx="147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aterlogg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61280" y="5467320"/>
              <a:ext cx="1712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ess perme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y lay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6570720" y="5573160"/>
              <a:ext cx="7776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4-11 p. 2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ducing and Cleaning Up Saliniz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77720" y="1886040"/>
            <a:ext cx="8229600" cy="381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duce irrig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witch to salt-tolerant cro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lush soi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t growing crops for 2-5 ye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stall underground drain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90200" y="5983200"/>
            <a:ext cx="456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fer to Fig. 14-12 p. 28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olutions:  Soil Conserv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7320" y="1449360"/>
            <a:ext cx="5036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ventional-till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9080" y="2211480"/>
            <a:ext cx="5246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servation tillag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7440" y="2932200"/>
            <a:ext cx="2929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rrac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9640" y="5195880"/>
            <a:ext cx="3310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indbrea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9920" y="5899320"/>
            <a:ext cx="4851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and Class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70120" y="3191040"/>
            <a:ext cx="3774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fer to Fig. 14-14 p. 2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6600" y="3714840"/>
            <a:ext cx="4578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tour farm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5960" y="4414680"/>
            <a:ext cx="7626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rip and alley cropp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oil Restor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9560" y="1449360"/>
            <a:ext cx="4426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rganic fertiliz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0360" y="5772240"/>
            <a:ext cx="7515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mercial inorganic fertiliz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3240" y="2303640"/>
            <a:ext cx="4056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imal man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1880" y="3193920"/>
            <a:ext cx="3801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een man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960" y="4068720"/>
            <a:ext cx="2576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p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04000" y="4941720"/>
            <a:ext cx="3635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op ro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orld Food Produc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-2160" y="1203480"/>
            <a:ext cx="3563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w leveling off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80" y="1870200"/>
            <a:ext cx="5738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rtages in developing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567560" y="6553080"/>
            <a:ext cx="157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4-16 p. 28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-9360" y="2701800"/>
            <a:ext cx="4599000" cy="2832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608360" y="2701800"/>
            <a:ext cx="4535640" cy="2843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utri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4080" y="1581120"/>
            <a:ext cx="3958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ndernutr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3360" y="2790720"/>
            <a:ext cx="357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lnutri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3000" y="4002120"/>
            <a:ext cx="3678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vernutr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50600" y="5437080"/>
            <a:ext cx="5864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efer to Fig. 14-17 p. 28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1120" y="1949400"/>
            <a:ext cx="5927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ethods of producing f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1120" y="3147840"/>
            <a:ext cx="5939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creasing food 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1840" y="4346640"/>
            <a:ext cx="3842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oil degrad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1480" y="5546880"/>
            <a:ext cx="5418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creasing sustain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Effects of Food Produc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3120" y="1843200"/>
            <a:ext cx="4176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diversity lo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2040" y="2778120"/>
            <a:ext cx="4297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il degra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4200" y="3714840"/>
            <a:ext cx="3438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ir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2040" y="4651200"/>
            <a:ext cx="7442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 shortages and ero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000" y="5587920"/>
            <a:ext cx="3746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uman heal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74680" y="3713040"/>
            <a:ext cx="415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e Fig. 14-18 p. 2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Increasing World Crop Produc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7800" y="1708200"/>
            <a:ext cx="7904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rossbreeding and artificial se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8880" y="2470320"/>
            <a:ext cx="7445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enetic engineering (gene splicin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8520" y="3232080"/>
            <a:ext cx="8538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enetically modified organisms (GMO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6360" y="3995640"/>
            <a:ext cx="8466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tinued Green Revolution techniq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5280" y="4757760"/>
            <a:ext cx="5026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troducing new fo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6720" y="5521320"/>
            <a:ext cx="4490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orking more l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roducing More Mea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60" y="1974960"/>
            <a:ext cx="2254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eedlo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20" y="2871720"/>
            <a:ext cx="2917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angela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40" y="4962600"/>
            <a:ext cx="7285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mproved rangeland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20" y="3895560"/>
            <a:ext cx="2583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ffici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20" y="5843520"/>
            <a:ext cx="9248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Environmental consequence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nection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. 295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954160" y="1276200"/>
            <a:ext cx="6189840" cy="2764440"/>
            <a:chOff x="2954160" y="1276200"/>
            <a:chExt cx="6189840" cy="2764440"/>
          </a:xfrm>
        </p:grpSpPr>
        <p:sp>
          <p:nvSpPr>
            <p:cNvPr id="204" name=""/>
            <p:cNvSpPr/>
            <p:nvPr/>
          </p:nvSpPr>
          <p:spPr>
            <a:xfrm>
              <a:off x="2954160" y="1276200"/>
              <a:ext cx="61898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Kilograms of grain needed per kilogram of body wei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3157920" y="1733400"/>
              <a:ext cx="5984640" cy="2307240"/>
              <a:chOff x="3157920" y="1733400"/>
              <a:chExt cx="5984640" cy="230724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3294000" y="1733400"/>
                <a:ext cx="5848560" cy="490320"/>
                <a:chOff x="3294000" y="1733400"/>
                <a:chExt cx="5848560" cy="490320"/>
              </a:xfrm>
            </p:grpSpPr>
            <p:pic>
              <p:nvPicPr>
                <p:cNvPr id="207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892760" y="1733400"/>
                  <a:ext cx="3894120" cy="490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</p:pic>
            <p:sp>
              <p:nvSpPr>
                <p:cNvPr id="208" name=""/>
                <p:cNvSpPr/>
                <p:nvPr/>
              </p:nvSpPr>
              <p:spPr>
                <a:xfrm>
                  <a:off x="3294000" y="1780920"/>
                  <a:ext cx="146988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Beef cattl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820000" y="178092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3872160" y="2297160"/>
                <a:ext cx="4775040" cy="487440"/>
                <a:chOff x="3872160" y="2297160"/>
                <a:chExt cx="4775040" cy="487440"/>
              </a:xfrm>
            </p:grpSpPr>
            <p:pic>
              <p:nvPicPr>
                <p:cNvPr id="21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892760" y="2297160"/>
                  <a:ext cx="3409920" cy="487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</p:pic>
            <p:sp>
              <p:nvSpPr>
                <p:cNvPr id="212" name=""/>
                <p:cNvSpPr/>
                <p:nvPr/>
              </p:nvSpPr>
              <p:spPr>
                <a:xfrm>
                  <a:off x="3872160" y="2341440"/>
                  <a:ext cx="71712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Pig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324640" y="234324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523320" y="2854440"/>
                <a:ext cx="3830400" cy="477720"/>
                <a:chOff x="3523320" y="2854440"/>
                <a:chExt cx="3830400" cy="477720"/>
              </a:xfrm>
            </p:grpSpPr>
            <p:pic>
              <p:nvPicPr>
                <p:cNvPr id="21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892760" y="2854440"/>
                  <a:ext cx="1947600" cy="477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</p:pic>
            <p:sp>
              <p:nvSpPr>
                <p:cNvPr id="216" name=""/>
                <p:cNvSpPr/>
                <p:nvPr/>
              </p:nvSpPr>
              <p:spPr>
                <a:xfrm>
                  <a:off x="3523320" y="2894040"/>
                  <a:ext cx="117144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hicke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819480" y="2895480"/>
                  <a:ext cx="53424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2.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3157920" y="3336840"/>
                <a:ext cx="3890520" cy="703800"/>
                <a:chOff x="3157920" y="3336840"/>
                <a:chExt cx="3890520" cy="703800"/>
              </a:xfrm>
            </p:grpSpPr>
            <p:pic>
              <p:nvPicPr>
                <p:cNvPr id="21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892760" y="3438360"/>
                  <a:ext cx="1803240" cy="497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</p:pic>
            <p:sp>
              <p:nvSpPr>
                <p:cNvPr id="220" name=""/>
                <p:cNvSpPr/>
                <p:nvPr/>
              </p:nvSpPr>
              <p:spPr>
                <a:xfrm>
                  <a:off x="3157920" y="3336840"/>
                  <a:ext cx="1680480" cy="70380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Fish (catfis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or carp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725880" y="348948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2" name=""/>
          <p:cNvSpPr/>
          <p:nvPr/>
        </p:nvSpPr>
        <p:spPr>
          <a:xfrm>
            <a:off x="4997520" y="4113360"/>
            <a:ext cx="167472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4-22  p. 2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atching and Raising More Fis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6160" y="1606680"/>
            <a:ext cx="2577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sh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9920" y="2386080"/>
            <a:ext cx="7646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shing methods 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 Fig. 14-24 p. 299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8840" y="3173400"/>
            <a:ext cx="3326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verfish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0960" y="4040280"/>
            <a:ext cx="5581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mercial exti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79160" y="4902120"/>
            <a:ext cx="3252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quicul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8800" y="5680080"/>
            <a:ext cx="6456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sh farming and ranc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overnment Agricultural Polic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6800" y="1606680"/>
            <a:ext cx="5316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rtificially low pr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240" y="2733840"/>
            <a:ext cx="2789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bsidi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8240" y="3860640"/>
            <a:ext cx="6854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limination of price contr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6800" y="4987800"/>
            <a:ext cx="2535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od a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lutions:  Sustainable Agriculture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9280" y="1711440"/>
            <a:ext cx="5468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w-input agricul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8200" y="2857680"/>
            <a:ext cx="4284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rganic farm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7840" y="4003560"/>
            <a:ext cx="2803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fit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6040" y="5149800"/>
            <a:ext cx="82393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creasing funding for research in sustainable techni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29600" y="2984400"/>
            <a:ext cx="3163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 Fig. 14-29 p. 3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How Is Food Produced?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7800" y="1847880"/>
            <a:ext cx="3960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urces of f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8880" y="3157560"/>
            <a:ext cx="51836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imary plants: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eat, corn, and r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1040" y="5076720"/>
            <a:ext cx="67352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imary animals: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sh, beef, pork, and chick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Major Types of Agricultur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3040" y="1616040"/>
            <a:ext cx="6233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dustrialized agricul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8520" y="3787920"/>
            <a:ext cx="8224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aditional subsistence agricul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4680" y="2643120"/>
            <a:ext cx="2888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la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5600" y="4959360"/>
            <a:ext cx="7716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aditional intensive agricul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orld Food Produc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58680" y="1166760"/>
            <a:ext cx="7167600" cy="5662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615000" y="655020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4-2 p. 2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roducing Food by Green-Revolution Techniqu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8760" y="1477800"/>
            <a:ext cx="539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gh-input monocul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7320" y="2190600"/>
            <a:ext cx="89866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lectively bred or genetically-engineered cro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560" y="3454560"/>
            <a:ext cx="5236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gh inputs of fertili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9120" y="4167360"/>
            <a:ext cx="5747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tensive use of pestici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8760" y="4881600"/>
            <a:ext cx="4656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gh inputs of 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7320" y="5595840"/>
            <a:ext cx="8986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ultiple cro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reen Revolution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11080" y="1241280"/>
            <a:ext cx="7566120" cy="43657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35200" y="1254240"/>
            <a:ext cx="7515000" cy="5603400"/>
            <a:chOff x="835200" y="1254240"/>
            <a:chExt cx="7515000" cy="5603400"/>
          </a:xfrm>
        </p:grpSpPr>
        <p:grpSp>
          <p:nvGrpSpPr>
            <p:cNvPr id="79" name=""/>
            <p:cNvGrpSpPr/>
            <p:nvPr/>
          </p:nvGrpSpPr>
          <p:grpSpPr>
            <a:xfrm>
              <a:off x="835200" y="1254240"/>
              <a:ext cx="7515000" cy="5063760"/>
              <a:chOff x="835200" y="1254240"/>
              <a:chExt cx="7515000" cy="5063760"/>
            </a:xfrm>
          </p:grpSpPr>
          <p:pic>
            <p:nvPicPr>
              <p:cNvPr id="8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35200" y="1254240"/>
                <a:ext cx="7515000" cy="4344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1" name=""/>
              <p:cNvGrpSpPr/>
              <p:nvPr/>
            </p:nvGrpSpPr>
            <p:grpSpPr>
              <a:xfrm>
                <a:off x="1090440" y="5737320"/>
                <a:ext cx="6998040" cy="580680"/>
                <a:chOff x="1090440" y="5737320"/>
                <a:chExt cx="6998040" cy="580680"/>
              </a:xfrm>
            </p:grpSpPr>
            <p:grpSp>
              <p:nvGrpSpPr>
                <p:cNvPr id="82" name=""/>
                <p:cNvGrpSpPr/>
                <p:nvPr/>
              </p:nvGrpSpPr>
              <p:grpSpPr>
                <a:xfrm>
                  <a:off x="1090440" y="5737320"/>
                  <a:ext cx="2885040" cy="580680"/>
                  <a:chOff x="1090440" y="5737320"/>
                  <a:chExt cx="2885040" cy="580680"/>
                </a:xfrm>
              </p:grpSpPr>
              <p:grpSp>
                <p:nvGrpSpPr>
                  <p:cNvPr id="83" name=""/>
                  <p:cNvGrpSpPr/>
                  <p:nvPr/>
                </p:nvGrpSpPr>
                <p:grpSpPr>
                  <a:xfrm>
                    <a:off x="1090440" y="5894640"/>
                    <a:ext cx="512640" cy="266400"/>
                    <a:chOff x="1090440" y="5894640"/>
                    <a:chExt cx="512640" cy="266400"/>
                  </a:xfrm>
                </p:grpSpPr>
                <p:pic>
                  <p:nvPicPr>
                    <p:cNvPr id="8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98360" y="5910480"/>
                      <a:ext cx="498240" cy="25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1090440" y="5894640"/>
                      <a:ext cx="512640" cy="25524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6" name=""/>
                  <p:cNvSpPr/>
                  <p:nvPr/>
                </p:nvSpPr>
                <p:spPr>
                  <a:xfrm>
                    <a:off x="1691640" y="5737320"/>
                    <a:ext cx="228384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First green revolutio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(developed countries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" name=""/>
                <p:cNvGrpSpPr/>
                <p:nvPr/>
              </p:nvGrpSpPr>
              <p:grpSpPr>
                <a:xfrm>
                  <a:off x="4935240" y="5737320"/>
                  <a:ext cx="3153240" cy="580680"/>
                  <a:chOff x="4935240" y="5737320"/>
                  <a:chExt cx="3153240" cy="580680"/>
                </a:xfrm>
              </p:grpSpPr>
              <p:grpSp>
                <p:nvGrpSpPr>
                  <p:cNvPr id="88" name=""/>
                  <p:cNvGrpSpPr/>
                  <p:nvPr/>
                </p:nvGrpSpPr>
                <p:grpSpPr>
                  <a:xfrm>
                    <a:off x="4935240" y="5892840"/>
                    <a:ext cx="512280" cy="266760"/>
                    <a:chOff x="4935240" y="5892840"/>
                    <a:chExt cx="512280" cy="266760"/>
                  </a:xfrm>
                </p:grpSpPr>
                <p:pic>
                  <p:nvPicPr>
                    <p:cNvPr id="8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936680" y="5892840"/>
                      <a:ext cx="5086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4935240" y="5897520"/>
                      <a:ext cx="512280" cy="25560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1" name=""/>
                  <p:cNvSpPr/>
                  <p:nvPr/>
                </p:nvSpPr>
                <p:spPr>
                  <a:xfrm>
                    <a:off x="5533200" y="5737320"/>
                    <a:ext cx="25552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Second green revolutio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(developing countries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2" name=""/>
            <p:cNvGrpSpPr/>
            <p:nvPr/>
          </p:nvGrpSpPr>
          <p:grpSpPr>
            <a:xfrm>
              <a:off x="2608200" y="6276960"/>
              <a:ext cx="3677400" cy="580680"/>
              <a:chOff x="2608200" y="6276960"/>
              <a:chExt cx="3677400" cy="58068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2608200" y="6299280"/>
                <a:ext cx="195840" cy="213840"/>
                <a:chOff x="2608200" y="6299280"/>
                <a:chExt cx="195840" cy="213840"/>
              </a:xfrm>
            </p:grpSpPr>
            <p:pic>
              <p:nvPicPr>
                <p:cNvPr id="9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608200" y="6314400"/>
                  <a:ext cx="19584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>
                  <a:off x="2608200" y="6299280"/>
                  <a:ext cx="195840" cy="1987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" name=""/>
              <p:cNvSpPr/>
              <p:nvPr/>
            </p:nvSpPr>
            <p:spPr>
              <a:xfrm>
                <a:off x="2905920" y="6276960"/>
                <a:ext cx="3379680" cy="5806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Major International agricultural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research centers and seed ban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" name="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4-4 p. 2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oducing Food by Traditional Technique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320" y="1716120"/>
            <a:ext cx="3664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erplant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7520" y="2570040"/>
            <a:ext cx="5700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lyvarietal cultiv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9680" y="3465360"/>
            <a:ext cx="3678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ercropp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9760" y="4359240"/>
            <a:ext cx="7009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groforestry (alley cropp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9880" y="5254560"/>
            <a:ext cx="3141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lycul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16160" y="6278400"/>
            <a:ext cx="53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e Individuals Matter p. 27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auses of Soil Erosion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802880"/>
            <a:ext cx="8229600" cy="45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24:27Z</dcterms:modified>
  <cp:revision>79</cp:revision>
  <dc:subject/>
  <dc:title>PowerPoint Presentation</dc:title>
</cp:coreProperties>
</file>