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E8E-CB5C-4494-B80A-E58AB10C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AFB-A2D9-489D-B7F4-C031FB77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AB2-68E8-430A-9E6F-0FE9E9EE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FBB-EBBE-44A6-8F13-E253406A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4DB-E20A-4B67-A16F-56429541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6BE-08C5-455A-8925-05385F40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CC9-EB4E-4E10-AE82-CA9C960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5D2-0368-4096-8B9F-9A8C152D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1D8-6298-49A8-A8E1-F8293BFF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FC1-7C5D-4F56-AF02-22578A5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8CF-9397-4A48-AB87-35BFFC70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EF8-0E29-4F34-AC8A-E15C9DE4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2D12-29F7-406A-9E3C-812472E554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ing Aquatic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building Salmon Popula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968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ild upstream hatch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opulating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ild fish lad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 salmon around 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silt run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trict dam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7560" y="6278400"/>
            <a:ext cx="45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3-15 p. 2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" y="1424160"/>
            <a:ext cx="777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 and ecological impor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2509920"/>
            <a:ext cx="57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s of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0" y="3595680"/>
            <a:ext cx="898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sustaining aquatic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00" y="4681440"/>
            <a:ext cx="7347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sustaining fish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60" y="5767560"/>
            <a:ext cx="724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restoring wet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mportance of Aquatic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20" y="1817640"/>
            <a:ext cx="2800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al ree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3483000"/>
            <a:ext cx="25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uar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20" y="2600280"/>
            <a:ext cx="39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ocean fl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0" y="5180040"/>
            <a:ext cx="277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od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0" y="4361040"/>
            <a:ext cx="428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kes and st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5977080"/>
            <a:ext cx="469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dicines and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6480" t="0" r="13335" b="0"/>
          <a:stretch/>
        </p:blipFill>
        <p:spPr>
          <a:xfrm>
            <a:off x="4419720" y="1633680"/>
            <a:ext cx="4572000" cy="427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00880" y="5594400"/>
            <a:ext cx="15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3-2 p. 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Impacts on Aquatic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680" y="1836720"/>
            <a:ext cx="66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loss and endanger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2662200"/>
            <a:ext cx="774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habitat loss and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840" y="3587760"/>
            <a:ext cx="853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habitat loss and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6600" y="4446720"/>
            <a:ext cx="294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00" y="5326200"/>
            <a:ext cx="409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and Sustaining Marine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6480" y="1806480"/>
            <a:ext cx="807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endangered and threatene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240" y="2805120"/>
            <a:ext cx="5031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tional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5760" y="3805200"/>
            <a:ext cx="610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grated coast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3960" y="4805280"/>
            <a:ext cx="4513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onciliation e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6120" y="5805360"/>
            <a:ext cx="8319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le management of marine fish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naging and Sustaining the World’s Marine Fisher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2280" y="163188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ery reg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0960" y="231624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9240" y="4487760"/>
            <a:ext cx="459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catch re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6440" y="3098880"/>
            <a:ext cx="420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ed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480" y="5878440"/>
            <a:ext cx="448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nat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720" y="3782880"/>
            <a:ext cx="560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ume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9320" y="5219640"/>
            <a:ext cx="336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qua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760" y="5302080"/>
            <a:ext cx="3605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3-9 p. 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, Sustaining, and Restoring Wetland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60" y="1463760"/>
            <a:ext cx="33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gul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0" y="328284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tigation ban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2311560"/>
            <a:ext cx="504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s pro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0" y="4130640"/>
            <a:ext cx="52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s rest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19840"/>
            <a:ext cx="4964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rol of invas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0" y="6400800"/>
            <a:ext cx="524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2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949" t="0" r="23240" b="0"/>
          <a:stretch/>
        </p:blipFill>
        <p:spPr>
          <a:xfrm>
            <a:off x="5316480" y="1417680"/>
            <a:ext cx="3827520" cy="5143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1 p. 2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, Sustaining, and Restoring Rivers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00" y="1698480"/>
            <a:ext cx="273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00" y="2484360"/>
            <a:ext cx="3648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ruption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f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" y="3879720"/>
            <a:ext cx="332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ss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692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3 p. 2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5276880"/>
            <a:ext cx="406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vas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92400" y="1436760"/>
            <a:ext cx="5166000" cy="5421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Life Cycle of Wild Salm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98800" y="1433520"/>
            <a:ext cx="5121000" cy="541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37320" y="65530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4 p. 2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4:06Z</dcterms:modified>
  <cp:revision>52</cp:revision>
  <dc:subject/>
  <dc:title>PowerPoint Presentation</dc:title>
</cp:coreProperties>
</file>