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4CC-8D1E-4C03-B7C5-9AD8B4C8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5E3-AE41-42B4-8BE0-EDF0DE43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90B-9320-47E0-9410-90548CD7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C37-8D5E-4674-B3D4-79AEB1E0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079-037D-46FF-B094-39FAB769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BC1-63A6-4B55-8EE8-8BA29D9A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4B6-4DBE-4E6E-9F81-877FCBD0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BF6-3166-47DA-B7DD-D7E3DBF0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C5B-0B3F-49D3-AFAB-6CD95CD0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D08-8451-4D90-8651-2E1D79C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0D8-6ACE-47D7-B7D6-F9C413E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010-7F93-4DD4-9C87-A5D2EB7F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9F26-05DD-4485-B2E8-088897F9CC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ustaining Aquatic Biodiversit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building Salmon Popula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968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ild upstream hatch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opulating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ild fish lad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 salmon around 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silt run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trict dam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57560" y="6278400"/>
            <a:ext cx="45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3-15 p. 2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" y="1424160"/>
            <a:ext cx="777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conomic and ecological impor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2509920"/>
            <a:ext cx="579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ects of huma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0" y="3595680"/>
            <a:ext cx="898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sustaining aquatic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00" y="4681440"/>
            <a:ext cx="7347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sustaining fish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60" y="5767560"/>
            <a:ext cx="724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cting and restoring wet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mportance of Aquatic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20" y="1817640"/>
            <a:ext cx="2800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al ree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3483000"/>
            <a:ext cx="25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tuar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20" y="2600280"/>
            <a:ext cx="39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ocean fl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0" y="5180040"/>
            <a:ext cx="2775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od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0" y="4361040"/>
            <a:ext cx="428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kes and st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5977080"/>
            <a:ext cx="469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dicines and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6480" t="0" r="13335" b="0"/>
          <a:stretch/>
        </p:blipFill>
        <p:spPr>
          <a:xfrm>
            <a:off x="4419720" y="1633680"/>
            <a:ext cx="4572000" cy="427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00880" y="5594400"/>
            <a:ext cx="15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3-2 p. 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man Impacts on Aquatic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680" y="1836720"/>
            <a:ext cx="66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es loss and endanger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2662200"/>
            <a:ext cx="774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rine habitat loss and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840" y="3587760"/>
            <a:ext cx="853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reshwater habitat loss and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6600" y="4446720"/>
            <a:ext cx="294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er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00" y="5326200"/>
            <a:ext cx="409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nnative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 and Sustaining Marine Biodivers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6480" y="1806480"/>
            <a:ext cx="807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ct endangered and threatene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240" y="2805120"/>
            <a:ext cx="5031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tional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5760" y="3805200"/>
            <a:ext cx="610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grated coast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3960" y="4805280"/>
            <a:ext cx="4513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onciliation e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6120" y="5805360"/>
            <a:ext cx="8319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le management of marine fish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naging and Sustaining the World’s Marine Fisheri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2280" y="163188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ery reg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0960" y="2316240"/>
            <a:ext cx="5384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9240" y="4487760"/>
            <a:ext cx="4593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catch re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6440" y="3098880"/>
            <a:ext cx="420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tected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480" y="5878440"/>
            <a:ext cx="448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nat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720" y="3782880"/>
            <a:ext cx="560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ume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9320" y="5219640"/>
            <a:ext cx="336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qua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760" y="5302080"/>
            <a:ext cx="3605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3-9 p. 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, Sustaining, and Restoring Wetland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60" y="1463760"/>
            <a:ext cx="33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gul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0" y="328284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tigation ban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2311560"/>
            <a:ext cx="504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s pro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0" y="4130640"/>
            <a:ext cx="52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tlands rest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19840"/>
            <a:ext cx="4964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rol of invas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0" y="6400800"/>
            <a:ext cx="5248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Matt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. 2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949" t="0" r="23240" b="0"/>
          <a:stretch/>
        </p:blipFill>
        <p:spPr>
          <a:xfrm>
            <a:off x="5316480" y="1417680"/>
            <a:ext cx="3827520" cy="5143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1 p. 2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tecting, Sustaining, and Restoring Rivers 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00" y="1698480"/>
            <a:ext cx="273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00" y="2484360"/>
            <a:ext cx="3648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ruption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f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" y="3879720"/>
            <a:ext cx="332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ss of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692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3 p. 2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5276880"/>
            <a:ext cx="406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vasive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92400" y="1436760"/>
            <a:ext cx="5166000" cy="5421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Life Cycle of Wild Salm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98800" y="1433520"/>
            <a:ext cx="5121000" cy="541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37320" y="65530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3-14 p. 2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4:06Z</dcterms:modified>
  <cp:revision>52</cp:revision>
  <dc:subject/>
  <dc:title>PowerPoint Presentation</dc:title>
</cp:coreProperties>
</file>