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293-C00D-44C2-8445-6F448D3B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206-3448-4486-BDA0-02B22C2E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08A-3C4B-47C6-AC00-20ABD4CC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C8C-F763-4237-9321-ADAACCE2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19F-90EA-4F75-9042-D065863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2CE-6B6D-4AD5-A1A8-B803C7F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C61-D738-43FC-972C-9C5F9B60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029-3D1D-4574-A8B8-B7B1A455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07B-CF20-44B1-B28F-C4871030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AFE-DD8B-45FA-8E68-2057239A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6D5-26F6-4BBD-A184-B399BB7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72D-D4F1-4AD6-AEC8-DC2ACCF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59A7-DFB3-4A93-8DD2-EF611D0A90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Aquatic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building Salmon Popula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968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upstream hatc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pulating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fish lad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 salmon around 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silt run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trict dam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560" y="62784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3-15 p. 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424160"/>
            <a:ext cx="777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ecological 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50992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359568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aquatic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0" y="4681440"/>
            <a:ext cx="7347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fish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0" y="5767560"/>
            <a:ext cx="724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restoring wet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" y="1817640"/>
            <a:ext cx="280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al ree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3483000"/>
            <a:ext cx="25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ua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0" y="2600280"/>
            <a:ext cx="39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ocean fl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" y="5180040"/>
            <a:ext cx="277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od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" y="4361040"/>
            <a:ext cx="42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kes and st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5977080"/>
            <a:ext cx="469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cines and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6480" t="0" r="13335" b="0"/>
          <a:stretch/>
        </p:blipFill>
        <p:spPr>
          <a:xfrm>
            <a:off x="4419720" y="1633680"/>
            <a:ext cx="4572000" cy="427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00880" y="5594400"/>
            <a:ext cx="15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3-2 p. 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Impacts on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680" y="1836720"/>
            <a:ext cx="66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loss and endanger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2662200"/>
            <a:ext cx="774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840" y="3587760"/>
            <a:ext cx="853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600" y="4446720"/>
            <a:ext cx="294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00" y="532620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and Sustaining Marine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6480" y="1806480"/>
            <a:ext cx="807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endangered and threaten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240" y="2805120"/>
            <a:ext cx="5031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760" y="3805200"/>
            <a:ext cx="61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ed coast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3960" y="4805280"/>
            <a:ext cx="451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6120" y="5805360"/>
            <a:ext cx="831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le management of marine fis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the World’s Marine Fishe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280" y="163188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y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0960" y="231624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240" y="4487760"/>
            <a:ext cx="459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catch re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440" y="3098880"/>
            <a:ext cx="420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ed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480" y="5878440"/>
            <a:ext cx="448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3782880"/>
            <a:ext cx="560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ume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9320" y="5219640"/>
            <a:ext cx="336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a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760" y="5302080"/>
            <a:ext cx="3605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3-9 p. 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Wetland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" y="146376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gul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0" y="328284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tigation ba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231156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pro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0" y="413064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rest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19840"/>
            <a:ext cx="4964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of 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0" y="640080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949" t="0" r="23240" b="0"/>
          <a:stretch/>
        </p:blipFill>
        <p:spPr>
          <a:xfrm>
            <a:off x="5316480" y="1417680"/>
            <a:ext cx="3827520" cy="514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1 p. 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River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00" y="1698480"/>
            <a:ext cx="273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0" y="2484360"/>
            <a:ext cx="3648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f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3879720"/>
            <a:ext cx="332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ss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692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3 p. 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5276880"/>
            <a:ext cx="406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92400" y="1436760"/>
            <a:ext cx="5166000" cy="542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Cycle of Wild Salm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98800" y="1433520"/>
            <a:ext cx="512100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37320" y="65530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4 p. 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06Z</dcterms:modified>
  <cp:revision>52</cp:revision>
  <dc:subject/>
  <dc:title>PowerPoint Presentation</dc:title>
</cp:coreProperties>
</file>