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362C-A383-4E7C-B1B9-8C90E8B56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D217-75B9-4157-B6C9-A1426469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422A-251C-44EE-82A0-ED86FAE3C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FA9A-A3BA-44B5-8493-C9604505C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B664-DC55-4354-B9BD-4A5373E8F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C571-1E64-4D62-B0EC-947D4BDDD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28C2-28D5-4271-812B-6FFCB0663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0ED3-4169-45E5-9A26-3134D76BD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0EC7-9F0C-46B3-BD1B-6DD831E99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F0DB-2E87-44DC-966E-35385444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0434-AEC0-4EBA-90EF-042A0A37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3E1D-CDDA-427D-AE05-D9753F97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CE72A-91C2-4AE6-8ECF-81C13CB96C5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ustaining Aquatic Biodiversity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1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Rebuilding Salmon Population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36680" y="149688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uild upstream hatch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populating stre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uild fish lad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ransport salmon around d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duce silt runo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strict dam constr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57560" y="6278400"/>
            <a:ext cx="45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fer to Fig. 13-15 p. 27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00" y="1424160"/>
            <a:ext cx="7776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conomic and ecological import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160" y="2509920"/>
            <a:ext cx="5797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ffects of human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00" y="3595680"/>
            <a:ext cx="89859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otecting and sustaining aquatic divers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00" y="4681440"/>
            <a:ext cx="73479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otecting and sustaining fishe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60" y="5767560"/>
            <a:ext cx="7245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otecting and restoring wetla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The Importance of Aquatic Biodiversit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20" y="1817640"/>
            <a:ext cx="2800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ral reef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40" y="3483000"/>
            <a:ext cx="2573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stuari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20" y="2600280"/>
            <a:ext cx="3904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ep ocean flo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00" y="5180040"/>
            <a:ext cx="27759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ood it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20" y="4361040"/>
            <a:ext cx="4289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akes and strea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40" y="5977080"/>
            <a:ext cx="4694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edicines and dru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6480" t="0" r="13335" b="0"/>
          <a:stretch/>
        </p:blipFill>
        <p:spPr>
          <a:xfrm>
            <a:off x="4419720" y="1633680"/>
            <a:ext cx="4572000" cy="4276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400880" y="5594400"/>
            <a:ext cx="156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3-2 p. 25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Human Impacts on Aquatic Biodiversit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9680" y="1836720"/>
            <a:ext cx="6663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pecies loss and endanger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0040" y="2662200"/>
            <a:ext cx="7742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arine habitat loss and degrad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3840" y="3587760"/>
            <a:ext cx="85305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reshwater habitat loss and degrad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46600" y="4446720"/>
            <a:ext cx="2940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verfish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6800" y="5326200"/>
            <a:ext cx="4097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nnative spe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Protecting and Sustaining Marine Biodiversit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-6480" y="1806480"/>
            <a:ext cx="80748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tect endangered and threatened spe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-3240" y="2805120"/>
            <a:ext cx="50313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ernational agre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-5760" y="3805200"/>
            <a:ext cx="6107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egrated coastal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-3960" y="4805280"/>
            <a:ext cx="45133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conciliation ec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-6120" y="5805360"/>
            <a:ext cx="83199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ustainable management of marine fish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Managing and Sustaining the World’s Marine Fisheri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22280" y="1631880"/>
            <a:ext cx="4822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ishery regul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0960" y="2316240"/>
            <a:ext cx="5384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conomic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9240" y="4487760"/>
            <a:ext cx="4593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ycatch red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6440" y="3098880"/>
            <a:ext cx="4201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otected are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29480" y="5878440"/>
            <a:ext cx="4482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nnative spec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6720" y="3782880"/>
            <a:ext cx="5608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nsumer inform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9320" y="5219640"/>
            <a:ext cx="3365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quacul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26760" y="5302080"/>
            <a:ext cx="360504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efer to Fig. 13-9 p. 2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Protecting, Sustaining, and Restoring Wetland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160" y="1463760"/>
            <a:ext cx="3326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gulatio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20" y="3282840"/>
            <a:ext cx="4822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itigation bank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40" y="2311560"/>
            <a:ext cx="5046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etlands prot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80" y="4130640"/>
            <a:ext cx="5217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etlands rest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5019840"/>
            <a:ext cx="49640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ntrol of invasive spec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40" y="6400800"/>
            <a:ext cx="5248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e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ividuals Matter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p. 26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20949" t="0" r="23240" b="0"/>
          <a:stretch/>
        </p:blipFill>
        <p:spPr>
          <a:xfrm>
            <a:off x="5316480" y="1417680"/>
            <a:ext cx="3827520" cy="51433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588800" y="655308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3-11 p. 26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Protecting, Sustaining, and Restoring Rivers 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00" y="1698480"/>
            <a:ext cx="2733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llu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00" y="2484360"/>
            <a:ext cx="364896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sruption of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ater flow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40" y="3879720"/>
            <a:ext cx="332748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oss of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iodiversit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46920" y="6553080"/>
            <a:ext cx="1559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3-13 p. 26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00" y="5276880"/>
            <a:ext cx="4061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vasive spec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992400" y="1436760"/>
            <a:ext cx="5166000" cy="5421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Life Cycle of Wild Salmon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098800" y="1433520"/>
            <a:ext cx="5121000" cy="54151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537320" y="6553080"/>
            <a:ext cx="16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3-14 p. 2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Laura Murray</cp:lastModifiedBy>
  <dcterms:modified xsi:type="dcterms:W3CDTF">2004-10-07T17:24:06Z</dcterms:modified>
  <cp:revision>52</cp:revision>
  <dc:subject/>
  <dc:title>PowerPoint Presentation</dc:title>
</cp:coreProperties>
</file>