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3C00-A618-461F-A971-3F0068B0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A6F-34E4-415B-A38A-BC604ED1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AD3C-1775-4A4E-A400-513D2009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D0C1-74D2-4E85-8843-347433AE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6C8-BBAA-4EFA-BE68-CAD28869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F8C-5AB6-4F7D-9EFA-DC5D530C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D2FF-7CBD-4907-B8B8-3C51AEA9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B18-B291-453E-8763-73A547BA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C98-3196-446C-81F9-E0C16943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72C0-1841-4291-A261-DBDE8F9E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362-2531-49C3-B68D-9E1F61D1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8FC6-5854-45D1-912A-1AB86F66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9FBA-C1DF-46E9-A10E-893589E0524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staining Biodiversity: The Species Approac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24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uses of Premature Extinction of Wild Spec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801800"/>
            <a:ext cx="9144000" cy="5056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78800" y="6553080"/>
            <a:ext cx="146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2-6 p. 2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228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Importance of Wild Speci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building biodiversity is s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strumental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tic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-tour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ical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rinsic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Habitat Loss and Degrad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eatest threat to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PPO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bitat destr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vasive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pulation (humans)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verharv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reats from Nonnative Spec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880" y="1346040"/>
            <a:ext cx="1626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ri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6200" y="2206800"/>
            <a:ext cx="2833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les of non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tive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4440" y="4502160"/>
            <a:ext cx="29955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amp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. 23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0" y="5911920"/>
            <a:ext cx="28476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. 2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2040" y="0"/>
            <a:ext cx="2536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g. 12-12 p. 2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7440" y="3560760"/>
            <a:ext cx="2312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92400" y="1378080"/>
            <a:ext cx="6042240" cy="5308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72240" y="6416640"/>
            <a:ext cx="15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2-12 p. 2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Other Extinction Threat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5920" y="1533600"/>
            <a:ext cx="5061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nting and Poac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6640" y="2951280"/>
            <a:ext cx="611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dators and Pest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5560" y="4368960"/>
            <a:ext cx="74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otic Pets and Decorative 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640" y="5788080"/>
            <a:ext cx="6739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mate Change and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tecting Wild Species:  The Research and Legal Approach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019240"/>
            <a:ext cx="8559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rnational Treaties: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ITES and CB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395520"/>
            <a:ext cx="8742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3703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.S. National Laws: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cey Ac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dangered Species 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20" y="4973760"/>
            <a:ext cx="5098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bitat recovery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ndangered Species Ac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760" y="2311200"/>
            <a:ext cx="8229600" cy="377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ivate versus public poverty r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n-win compromi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aken or strengthen the Act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tecting Wild Species:  The Sanctuary Approach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80" y="2201760"/>
            <a:ext cx="771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dlife refuges and protected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106960"/>
            <a:ext cx="4747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Zoos and Aquari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0" y="3654360"/>
            <a:ext cx="8848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 banks, botanical gardens, and fa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conciliation Ecolog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120760"/>
            <a:ext cx="8964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stablishing and maintaining new habita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60" y="3227400"/>
            <a:ext cx="7017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ing good neighbors to wildli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00" y="4295880"/>
            <a:ext cx="8300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ward voluntary conservation eff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76640" y="5608800"/>
            <a:ext cx="44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e Case Study p. 2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onservation: What Can I Do?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363680"/>
            <a:ext cx="6056640" cy="5465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21560" y="6553080"/>
            <a:ext cx="15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2-16 p. 2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200" y="1500120"/>
            <a:ext cx="718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 effects on extinction r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9280" y="2448000"/>
            <a:ext cx="8873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nderstanding biodiversity and exti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8360" y="3486240"/>
            <a:ext cx="837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human activities endanger wildli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6640" y="4525920"/>
            <a:ext cx="480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venting exti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2560" y="5592600"/>
            <a:ext cx="498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onciliation ec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pecies Extin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" y="1606680"/>
            <a:ext cx="4116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cal exti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57440"/>
            <a:ext cx="513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ical exti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08560"/>
            <a:ext cx="505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logical exti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dangered and Threatened Spec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1120" y="1324080"/>
            <a:ext cx="4905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dangered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2200" y="2243160"/>
            <a:ext cx="7542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reatened (vulnerable)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92800" y="6553080"/>
            <a:ext cx="19562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om Fig. 12-3 p. 2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0" b="65422"/>
          <a:stretch/>
        </p:blipFill>
        <p:spPr>
          <a:xfrm>
            <a:off x="598320" y="3462480"/>
            <a:ext cx="7504200" cy="2315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74800" y="5273640"/>
            <a:ext cx="10476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lorida manate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8520" y="5273640"/>
            <a:ext cx="16862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orthern spotted owl (threatene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97640" y="528480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ray wol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09920" y="5284800"/>
            <a:ext cx="137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lorida pan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65760" y="527364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annerman's turaco (Africa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37000" y="5600880"/>
            <a:ext cx="224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4 Brooks/Cole-Thomson Lear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340080"/>
            <a:ext cx="9144000" cy="351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tinction 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0" y="1211400"/>
            <a:ext cx="8350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ackground (natural) rate of exti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60" y="2143080"/>
            <a:ext cx="2559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s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ti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86440" y="2136600"/>
            <a:ext cx="2775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tin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a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56640" y="6553080"/>
            <a:ext cx="12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5-9 p. 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haracteristics of Extinction Prone Spec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18320" y="6553080"/>
            <a:ext cx="15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2-4 p. 2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38280" y="1341360"/>
            <a:ext cx="4498920" cy="551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oblems Estimating Extinction Rat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66680"/>
            <a:ext cx="8432640" cy="31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tinction not easily documented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ny species remain unident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ttle is known about most identified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stimating Extinction Rat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es-area relation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pulation viability analysis (PV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imum viable population (MV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imum dynamic area (MD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uses of Depletion of Wild Spec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4040" y="1447920"/>
            <a:ext cx="6413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 population 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513240"/>
            <a:ext cx="852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dangered centers of bio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6880" y="2495520"/>
            <a:ext cx="8051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creasing per capita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8040" y="4613400"/>
            <a:ext cx="6792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de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9840" y="5678640"/>
            <a:ext cx="8540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read of opportunistic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23:17Z</dcterms:modified>
  <cp:revision>88</cp:revision>
  <dc:subject/>
  <dc:title>PowerPoint Presentation</dc:title>
</cp:coreProperties>
</file>