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077-4F63-4CD4-8ACF-A6C4A184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C49-2D78-417F-A108-F0C897D1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FFA-3DE6-4C72-8634-E4218E32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361-8DE6-4D3D-AD41-6977BE99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C7B-8783-4C25-88A6-10B61FBD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918-52F0-4F7E-85FE-A6BCEC23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5FA-92D4-4D86-9C66-FB2E8BA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4EC-0E47-49B1-A229-C64D5BC8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102-B57A-4689-8A02-09B70F15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4A9-0FD4-4E7A-9BBC-3CF13A54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364-4E1B-47A5-A16A-BB2A5445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C9E-847E-4F1D-9F88-1A79AFC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0E09-0C8F-4F74-93F6-2F057F3818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ing Biodiversity: The Species Approac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24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uses of Premature Extinction of Wil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80180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78800" y="6553080"/>
            <a:ext cx="14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2-6 p. 2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28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Importance of Wild Speci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building biodiversity is 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tic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-tour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Habitat Loss and Degrad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atest threat to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P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de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as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(humans)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harv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reats from Nonnative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880" y="1346040"/>
            <a:ext cx="162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6200" y="2206800"/>
            <a:ext cx="2833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s of non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440" y="4502160"/>
            <a:ext cx="29955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. 2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0" y="5911920"/>
            <a:ext cx="2847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. 2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0"/>
            <a:ext cx="2536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2-12 p. 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7440" y="3560760"/>
            <a:ext cx="2312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92400" y="1378080"/>
            <a:ext cx="6042240" cy="530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72240" y="6416640"/>
            <a:ext cx="15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2-12 p. 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Other Extinction Threa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920" y="1533600"/>
            <a:ext cx="506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nting and Poa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" y="2951280"/>
            <a:ext cx="611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s and Pest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560" y="4368960"/>
            <a:ext cx="74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otic Pets and Decorative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" y="5788080"/>
            <a:ext cx="673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te Change and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Wild Species:  The Research and Legal Approach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19240"/>
            <a:ext cx="8559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Treaties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ITES and C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95520"/>
            <a:ext cx="874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3703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.S. National Laws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cey Ac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dangered Species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0" y="4973760"/>
            <a:ext cx="509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recovery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ndangered Species Ac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2311200"/>
            <a:ext cx="8229600" cy="377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vate versus public poverty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n-win comprom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aken or strengthen the Ac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Wild Species:  The Sanctuary Approac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0" y="2201760"/>
            <a:ext cx="771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dlife refuges and protected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06960"/>
            <a:ext cx="4747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oos and Aquari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0" y="3654360"/>
            <a:ext cx="884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 banks, botanical gardens, and fa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onciliation Ecolo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120760"/>
            <a:ext cx="896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ablishing and maintaining new habit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227400"/>
            <a:ext cx="701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ing good neighbors to wild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4295880"/>
            <a:ext cx="830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ward voluntary conservation eff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6640" y="560880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Case Study p. 2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servation: What Can I Do?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363680"/>
            <a:ext cx="6056640" cy="5465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21560" y="655308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2-16 p. 2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200" y="1500120"/>
            <a:ext cx="71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effects on extinction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9280" y="2448000"/>
            <a:ext cx="88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derstanding biodiversity and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360" y="3486240"/>
            <a:ext cx="837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human activities endanger wild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640" y="4525920"/>
            <a:ext cx="480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ng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2560" y="5592600"/>
            <a:ext cx="498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onciliation ec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ecies Extin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" y="1606680"/>
            <a:ext cx="411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57440"/>
            <a:ext cx="513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08560"/>
            <a:ext cx="505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dangered and Threatene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1120" y="1324080"/>
            <a:ext cx="490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angered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200" y="2243160"/>
            <a:ext cx="754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atened (vulnerable)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0" y="6553080"/>
            <a:ext cx="1956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ig. 12-3 p. 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65422"/>
          <a:stretch/>
        </p:blipFill>
        <p:spPr>
          <a:xfrm>
            <a:off x="598320" y="3462480"/>
            <a:ext cx="7504200" cy="231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74800" y="5273640"/>
            <a:ext cx="1047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orida manat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8520" y="5273640"/>
            <a:ext cx="168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rthern spotted owl (threaten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97640" y="52848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ay wol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09920" y="528480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orida pan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65760" y="527364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nnerman's turaco (Afric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37000" y="5600880"/>
            <a:ext cx="224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4 Brooks/Cole-Thomson Lea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340080"/>
            <a:ext cx="9144000" cy="351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inction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0" y="1211400"/>
            <a:ext cx="835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ground (natural) rate of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0" y="2143080"/>
            <a:ext cx="2559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86440" y="2136600"/>
            <a:ext cx="2775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in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a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56640" y="655308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5-9 p. 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aracteristics of Extinction Prone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18320" y="6553080"/>
            <a:ext cx="15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2-4 p. 2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1341360"/>
            <a:ext cx="4498920" cy="551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blems Estimating Extinction Rat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66680"/>
            <a:ext cx="843264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tinction not easily documented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y species remain un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ttle is known about most identifie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timating Extinction Rat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-area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viability analysis (PV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viable population (MV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dynamic area (MD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uses of Depletion of Wil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4040" y="1447920"/>
            <a:ext cx="641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population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513240"/>
            <a:ext cx="852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angered centers of bio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6880" y="2495520"/>
            <a:ext cx="805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per capita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8040" y="4613400"/>
            <a:ext cx="679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9840" y="5678640"/>
            <a:ext cx="854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read of opportunistic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3:17Z</dcterms:modified>
  <cp:revision>88</cp:revision>
  <dc:subject/>
  <dc:title>PowerPoint Presentation</dc:title>
</cp:coreProperties>
</file>