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B95-8B1B-49D6-8E6D-CC1DD16D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EBC-56B2-41DC-BA42-16A614EF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CA5-0906-4FE3-BB8F-D991F37E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046-3A4E-49A3-8E5C-2683C1EF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683-F5C7-441E-B943-B0C1697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FAA-0E89-443F-BEC4-0E1E750A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51E-9960-43C7-B7DE-51453606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15C-7E32-4E49-8D4A-18F00E1D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4EF-8A85-4FAF-B07E-8726619C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BC1-4541-4289-B480-0FF1E0F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BBD-B4B1-45AC-9ACF-B2B80FF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F75-2999-48FE-96F7-A2D2F8F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ABB9-B8D9-4812-9BE5-2DC83E6CBC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staining Terrestrial Biodiversity:  The Ecosystem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38102" t="0" r="0" b="26913"/>
          <a:stretch/>
        </p:blipFill>
        <p:spPr>
          <a:xfrm>
            <a:off x="0" y="1716120"/>
            <a:ext cx="2368440" cy="209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6 p. 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US Public La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" y="1741320"/>
            <a:ext cx="838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and ecological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0" y="2922480"/>
            <a:ext cx="79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subsidies or tax breaks for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0" y="4021200"/>
            <a:ext cx="836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should get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mp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" y="52214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rs held responsible for 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0960" y="2209680"/>
            <a:ext cx="689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ld-growth (frontier)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320" y="333072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-growth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320" y="45356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 farms/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69280" y="1274760"/>
            <a:ext cx="823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logical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560" y="2862360"/>
            <a:ext cx="536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webs and energy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5680" y="3641760"/>
            <a:ext cx="507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soils from ero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3880" y="4381560"/>
            <a:ext cx="525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cal and regional cl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160" y="5197320"/>
            <a:ext cx="58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erous habitats and n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8600" y="5994360"/>
            <a:ext cx="337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ir pu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2120" y="2112840"/>
            <a:ext cx="410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66760" y="1325520"/>
            <a:ext cx="814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nomic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4120" y="2894040"/>
            <a:ext cx="232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el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8560" y="3611520"/>
            <a:ext cx="205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3560" y="4371840"/>
            <a:ext cx="183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0880" y="5046840"/>
            <a:ext cx="372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vestock gra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05480" y="5845320"/>
            <a:ext cx="654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 extraction and re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8880" y="2127240"/>
            <a:ext cx="382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Manage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8400" y="2189160"/>
            <a:ext cx="58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8720" y="2990880"/>
            <a:ext cx="6369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160" y="3786120"/>
            <a:ext cx="479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0040" y="4564080"/>
            <a:ext cx="566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5443560"/>
            <a:ext cx="336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ple-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600" y="143352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tat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nagement Strategies: Rotation Cyc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8115"/>
          <a:stretch/>
        </p:blipFill>
        <p:spPr>
          <a:xfrm>
            <a:off x="0" y="121140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8360" y="6515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8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oads Lead to Forest Degra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560" y="1173240"/>
            <a:ext cx="7225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creased erosion and runof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120" y="1932120"/>
            <a:ext cx="577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abitat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920" y="2690640"/>
            <a:ext cx="6808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athways for exotic spec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8560" y="3449520"/>
            <a:ext cx="5996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ccessibility to huma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8425"/>
          <a:stretch/>
        </p:blipFill>
        <p:spPr>
          <a:xfrm>
            <a:off x="0" y="4362480"/>
            <a:ext cx="4651200" cy="2495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0" t="0" r="0" b="28950"/>
          <a:stretch/>
        </p:blipFill>
        <p:spPr>
          <a:xfrm>
            <a:off x="4475160" y="4361040"/>
            <a:ext cx="4668840" cy="248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87440" y="4068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9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rvesting Tre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20" y="1400040"/>
            <a:ext cx="36399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lectiv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40" y="2330280"/>
            <a:ext cx="3124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igh-gra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20" y="3262320"/>
            <a:ext cx="4333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helterwood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0" y="4194000"/>
            <a:ext cx="3757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ed-tre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0" y="5126040"/>
            <a:ext cx="32072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lear-cutt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20" y="6058080"/>
            <a:ext cx="2966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trip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480440" y="6534000"/>
            <a:ext cx="1658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0e p. 2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479840" y="2368440"/>
            <a:ext cx="4664160" cy="3497400"/>
            <a:chOff x="4479840" y="2368440"/>
            <a:chExt cx="4664160" cy="349740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4479840" y="2368440"/>
              <a:ext cx="4662720" cy="34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489560" y="5335560"/>
              <a:ext cx="46544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Forestr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401840"/>
            <a:ext cx="4467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onger rota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840" y="238752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elective or strip cutt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840" y="337356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nimize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480" y="4359240"/>
            <a:ext cx="8681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mproved road building techniqu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840" y="5345280"/>
            <a:ext cx="694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ertify sustainable grow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7560" y="6338880"/>
            <a:ext cx="52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See Solutions, Fig. 11-13 p.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273320"/>
            <a:ext cx="3650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uman land 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" y="2004840"/>
            <a:ext cx="68875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Types and uses of US public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736720"/>
            <a:ext cx="6421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Forests and forest manag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60" y="3470400"/>
            <a:ext cx="5930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lications of defores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0" y="4202280"/>
            <a:ext cx="46821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anagement of pa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33800"/>
            <a:ext cx="7645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stablishment and management of nature preser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6184800"/>
            <a:ext cx="73141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ortance of ecological resto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sect and Pathogen Threats to U.S.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400" y="3392640"/>
            <a:ext cx="4453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ine shoot beet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3280" y="4289400"/>
            <a:ext cx="49550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eech bark disea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640" y="1662120"/>
            <a:ext cx="4726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dden oak deat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1120" y="2495520"/>
            <a:ext cx="577368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ite pine blister ru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040" y="5173560"/>
            <a:ext cx="6082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mlock woolly adelgi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1080" y="5996160"/>
            <a:ext cx="41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Fig. 11-14 p. 2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25900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2240" y="1376280"/>
            <a:ext cx="3517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rface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1376280"/>
            <a:ext cx="3341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rown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5 p. 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gging in U.S. National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60" y="2540160"/>
            <a:ext cx="37785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local job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160" y="5784840"/>
            <a:ext cx="473076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Hinders recreation inc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960" y="3597120"/>
            <a:ext cx="52660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only 3% of timb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280" y="4641840"/>
            <a:ext cx="4848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ncreases environmenta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dam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72280" y="1425600"/>
            <a:ext cx="3771720" cy="5432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88800" y="65721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6 p. 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opical Deforestation: Consequenc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960" y="1692360"/>
            <a:ext cx="4910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pid and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9080" y="279252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biodiver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0200" y="3873600"/>
            <a:ext cx="733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resources (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.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, medicine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920" y="4975200"/>
            <a:ext cx="675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ributes to global war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ical Deforestation: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0" y="6553080"/>
            <a:ext cx="15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8 p. 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8920" y="1230480"/>
            <a:ext cx="6051240" cy="562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Tropical Deforest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9000" y="5084640"/>
            <a:ext cx="86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ing poverty and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590920"/>
            <a:ext cx="682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le tropical 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280" y="1790640"/>
            <a:ext cx="76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courage protection of large tr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200" y="3402000"/>
            <a:ext cx="503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bt-for-nature sw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160" y="4286160"/>
            <a:ext cx="48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illegal cu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6760" y="5954760"/>
            <a:ext cx="41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19 p. 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National Park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3440" y="1584360"/>
            <a:ext cx="809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adequate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6320" y="2311560"/>
            <a:ext cx="80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ten too small to sustain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640" y="3795840"/>
            <a:ext cx="562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o many human vis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920" y="4465800"/>
            <a:ext cx="644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ffic jams and air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" y="5210280"/>
            <a:ext cx="540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 pay for park sta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800" y="3054240"/>
            <a:ext cx="658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ons by 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77080" y="6093000"/>
            <a:ext cx="556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refer to Fig. 11-29 p. 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tablishing, Designing, and Managing Nature Reserve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400" y="1760400"/>
            <a:ext cx="7533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ude moderate to large tracts of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640" y="2573280"/>
            <a:ext cx="8847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government, private sector and citiz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5920" y="5068800"/>
            <a:ext cx="806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most important areas (“hot spot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9160" y="3379680"/>
            <a:ext cx="3902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sphere rese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" y="4233960"/>
            <a:ext cx="639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ptive ecosyst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920" y="5919840"/>
            <a:ext cx="360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ldernes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160" y="1582560"/>
            <a:ext cx="329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to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0520" y="2413080"/>
            <a:ext cx="386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habil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000" y="4243320"/>
            <a:ext cx="357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lac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8560" y="5156280"/>
            <a:ext cx="703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ing artificial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5600" y="3865680"/>
            <a:ext cx="4350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000" y="3316320"/>
            <a:ext cx="352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edi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Restoration: Basic Princip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240" y="1582560"/>
            <a:ext cx="373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natu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1600" y="241308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reate lost nich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2000" y="4243320"/>
            <a:ext cx="634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nonnative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360" y="5156280"/>
            <a:ext cx="593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nnect small pat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000" y="3316320"/>
            <a:ext cx="5793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y on pioneer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In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2297160"/>
            <a:ext cx="73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rat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1520" y="1371600"/>
            <a:ext cx="544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ddle stage of su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360" y="312912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changes in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403560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ysically diverse 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200" y="497844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De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8160" y="2052720"/>
            <a:ext cx="739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1290600"/>
            <a:ext cx="711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reme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9440" y="286560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nse environmental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0640" y="3691080"/>
            <a:ext cx="629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e shortag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800" y="4489560"/>
            <a:ext cx="603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native species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240" y="5292720"/>
            <a:ext cx="6034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Activities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43280" y="868320"/>
            <a:ext cx="5294160" cy="598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08960" y="6553080"/>
            <a:ext cx="153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3 p. 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Biodiversit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200" y="1525680"/>
            <a:ext cx="528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60560" y="244620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49400" y="337032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istence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0560" y="431496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esthet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3160" y="534348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quest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 for Protecting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77000" y="6553080"/>
            <a:ext cx="1467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5 p. 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76680" y="885960"/>
            <a:ext cx="3736800" cy="597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 Biolog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800" y="14349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disciplinary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1800" y="2340000"/>
            <a:ext cx="51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31200" y="3263760"/>
            <a:ext cx="500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y “hot spo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4480" y="5183280"/>
            <a:ext cx="631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ed on Leopold’s eth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0880" y="4189320"/>
            <a:ext cx="621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pid Assessment Te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3664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ultiple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Forests; National Resource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67080"/>
            <a:ext cx="77468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oderately-restricted 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Wildlife Refu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9896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stricted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Park System; National Wilderness Preservation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4:00Z</dcterms:modified>
  <cp:revision>108</cp:revision>
  <dc:subject/>
  <dc:title>PowerPoint Presentation</dc:title>
</cp:coreProperties>
</file>