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001-44CC-475B-A800-C6BF9E36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BC-CB4D-41F9-9DD0-98F87CA3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4BC-4C26-4276-B6DD-FF35EAFE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211-B4C0-4445-A676-D65EAC5D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FBA-1B52-47C0-A918-D68F519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7F1-9BC9-433E-9181-0CB4EEA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34E-2607-4E7D-AC2F-FDDC660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4F5-B3A4-4338-8CDD-330094F8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F8B-08E4-4120-A24F-BBD70DF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C6D-5816-4CD4-AEB5-57A2F4EA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AF5-CFD4-425E-A5F3-9B6A14E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313-6856-41A8-B949-0220604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7C19-0974-4DC3-A02C-AF3A17B26F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ing Terrestrial Biodiversity:  The Ecosystem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38102" t="0" r="0" b="26913"/>
          <a:stretch/>
        </p:blipFill>
        <p:spPr>
          <a:xfrm>
            <a:off x="0" y="1716120"/>
            <a:ext cx="2368440" cy="209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6 p. 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US Public La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" y="1741320"/>
            <a:ext cx="838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and ecological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0" y="2922480"/>
            <a:ext cx="79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subsidies or tax breaks for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0" y="4021200"/>
            <a:ext cx="836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should get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" y="52214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rs held responsible for 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0960" y="2209680"/>
            <a:ext cx="689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ld-growth (frontier)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320" y="333072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-growth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320" y="45356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 farms/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69280" y="1274760"/>
            <a:ext cx="823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logical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560" y="2862360"/>
            <a:ext cx="536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webs and energy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5680" y="3641760"/>
            <a:ext cx="507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soils from er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3880" y="4381560"/>
            <a:ext cx="525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cal and regional cl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160" y="5197320"/>
            <a:ext cx="58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erous habitats and n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8600" y="599436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 pu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2120" y="2112840"/>
            <a:ext cx="410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66760" y="1325520"/>
            <a:ext cx="814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nomic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4120" y="2894040"/>
            <a:ext cx="232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8560" y="3611520"/>
            <a:ext cx="205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3560" y="4371840"/>
            <a:ext cx="183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0880" y="5046840"/>
            <a:ext cx="372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estock gra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05480" y="5845320"/>
            <a:ext cx="654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 extraction and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8880" y="2127240"/>
            <a:ext cx="382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Manage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8400" y="2189160"/>
            <a:ext cx="58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20" y="2990880"/>
            <a:ext cx="6369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160" y="3786120"/>
            <a:ext cx="479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040" y="4564080"/>
            <a:ext cx="566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5443560"/>
            <a:ext cx="336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ple-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600" y="143352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tat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agement Strategies: Rotation Cyc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8115"/>
          <a:stretch/>
        </p:blipFill>
        <p:spPr>
          <a:xfrm>
            <a:off x="0" y="12114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8360" y="6515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8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oads Lead to Forest Degra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560" y="1173240"/>
            <a:ext cx="7225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creased erosion and runof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120" y="1932120"/>
            <a:ext cx="577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abitat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920" y="2690640"/>
            <a:ext cx="6808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athways for exotic spec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8560" y="3449520"/>
            <a:ext cx="5996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ccessibility to huma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8425"/>
          <a:stretch/>
        </p:blipFill>
        <p:spPr>
          <a:xfrm>
            <a:off x="0" y="4362480"/>
            <a:ext cx="4651200" cy="2495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0" t="0" r="0" b="28950"/>
          <a:stretch/>
        </p:blipFill>
        <p:spPr>
          <a:xfrm>
            <a:off x="4475160" y="4361040"/>
            <a:ext cx="4668840" cy="24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87440" y="4068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9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rvesting Tre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20" y="1400040"/>
            <a:ext cx="36399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lectiv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0" y="2330280"/>
            <a:ext cx="3124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igh-gra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0" y="3262320"/>
            <a:ext cx="4333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helterwood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0" y="4194000"/>
            <a:ext cx="3757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ed-tre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0" y="5126040"/>
            <a:ext cx="32072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ear-cutt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20" y="6058080"/>
            <a:ext cx="2966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trip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480440" y="6534000"/>
            <a:ext cx="1658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0e p. 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79840" y="2368440"/>
            <a:ext cx="4664160" cy="3497400"/>
            <a:chOff x="4479840" y="2368440"/>
            <a:chExt cx="4664160" cy="34974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479840" y="2368440"/>
              <a:ext cx="466272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89560" y="5335560"/>
              <a:ext cx="46544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Forestr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01840"/>
            <a:ext cx="4467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onger rot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840" y="238752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lective or strip cutt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840" y="337356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nimize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480" y="4359240"/>
            <a:ext cx="8681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mproved road building techniqu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840" y="5345280"/>
            <a:ext cx="694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ertify sustainable grow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7560" y="633888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See Solutions, Fig. 11-13 p.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273320"/>
            <a:ext cx="3650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uman land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" y="2004840"/>
            <a:ext cx="68875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ypes and uses of US public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736720"/>
            <a:ext cx="6421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orests and forest manag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0" y="3470400"/>
            <a:ext cx="5930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lications of defores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4202280"/>
            <a:ext cx="4682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nagement of pa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33800"/>
            <a:ext cx="7645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stablishment and management of nature preser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6184800"/>
            <a:ext cx="73141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ortance of ecological rest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sect and Pathogen Threats to U.S.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400" y="3392640"/>
            <a:ext cx="4453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ine shoot beet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3280" y="4289400"/>
            <a:ext cx="4955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eech bark disea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640" y="1662120"/>
            <a:ext cx="4726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dden oak dea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1120" y="2495520"/>
            <a:ext cx="57736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ite pine blister ru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040" y="5173560"/>
            <a:ext cx="6082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mlock woolly adelgi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1080" y="5996160"/>
            <a:ext cx="41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Fig. 11-14 p. 2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5900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2240" y="1376280"/>
            <a:ext cx="3517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rface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1376280"/>
            <a:ext cx="3341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rown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5 p. 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gging in U.S. National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0" y="2540160"/>
            <a:ext cx="37785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local job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160" y="5784840"/>
            <a:ext cx="473076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Hinders recreation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960" y="3597120"/>
            <a:ext cx="52660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only 3% of timb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280" y="4641840"/>
            <a:ext cx="4848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ncreases environmenta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72280" y="1425600"/>
            <a:ext cx="3771720" cy="5432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88800" y="65721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6 p. 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opical Deforestation: Consequenc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960" y="1692360"/>
            <a:ext cx="4910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pid and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9080" y="279252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bio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0200" y="3873600"/>
            <a:ext cx="733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resources (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.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, medicine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" y="4975200"/>
            <a:ext cx="675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ributes to global war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ical Deforestation: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0" y="6553080"/>
            <a:ext cx="15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8 p.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8920" y="1230480"/>
            <a:ext cx="6051240" cy="562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Tropical Deforest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9000" y="5084640"/>
            <a:ext cx="86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ing poverty and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590920"/>
            <a:ext cx="682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le tropical 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280" y="1790640"/>
            <a:ext cx="76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courage protection of large tr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200" y="3402000"/>
            <a:ext cx="503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bt-for-nature sw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160" y="4286160"/>
            <a:ext cx="48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illegal cu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6760" y="5954760"/>
            <a:ext cx="41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19 p. 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National Park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3440" y="1584360"/>
            <a:ext cx="809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adequate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6320" y="2311560"/>
            <a:ext cx="80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ten too small to sustai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640" y="3795840"/>
            <a:ext cx="562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o many human vis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920" y="4465800"/>
            <a:ext cx="644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ffic jams and air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" y="5210280"/>
            <a:ext cx="540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 pay for park 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800" y="3054240"/>
            <a:ext cx="658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ons by 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77080" y="6093000"/>
            <a:ext cx="556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refer to Fig. 11-29 p. 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tablishing, Designing, and Managing Nature Reserve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400" y="1760400"/>
            <a:ext cx="7533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 moderate to large tracts of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640" y="2573280"/>
            <a:ext cx="8847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government, private sector and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920" y="5068800"/>
            <a:ext cx="806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most important areas (“hot spot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160" y="3379680"/>
            <a:ext cx="390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sphere rese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" y="4233960"/>
            <a:ext cx="639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ptive ecosyst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920" y="5919840"/>
            <a:ext cx="360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dernes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160" y="1582560"/>
            <a:ext cx="32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to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0520" y="2413080"/>
            <a:ext cx="386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habil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000" y="4243320"/>
            <a:ext cx="357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lac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560" y="5156280"/>
            <a:ext cx="703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artificial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5600" y="3865680"/>
            <a:ext cx="4350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000" y="3316320"/>
            <a:ext cx="352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edi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Restoration: Basic Princip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240" y="1582560"/>
            <a:ext cx="373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natu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1600" y="241308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reate lost nich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000" y="4243320"/>
            <a:ext cx="634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nonnative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360" y="5156280"/>
            <a:ext cx="593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nnect small pat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000" y="3316320"/>
            <a:ext cx="5793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y on pioneer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In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2297160"/>
            <a:ext cx="73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520" y="1371600"/>
            <a:ext cx="544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ddle stage of su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312912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changes in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403560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ly diverse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200" y="497844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De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8160" y="2052720"/>
            <a:ext cx="739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1290600"/>
            <a:ext cx="711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reme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9440" y="286560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nse environmenta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0640" y="3691080"/>
            <a:ext cx="629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e shortag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800" y="4489560"/>
            <a:ext cx="603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native species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240" y="5292720"/>
            <a:ext cx="603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Activities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868320"/>
            <a:ext cx="5294160" cy="598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08960" y="6553080"/>
            <a:ext cx="153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3 p. 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Biodiversit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0" y="1525680"/>
            <a:ext cx="528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60560" y="244620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337032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istenc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0560" y="431496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esthet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3160" y="534348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quest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 for Protecting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77000" y="6553080"/>
            <a:ext cx="1467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5 p. 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76680" y="885960"/>
            <a:ext cx="3736800" cy="59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 Biolog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800" y="14349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disciplinary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1800" y="2340000"/>
            <a:ext cx="51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1200" y="3263760"/>
            <a:ext cx="500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y “hot spo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4480" y="5183280"/>
            <a:ext cx="631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ed on Leopold’s eth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0880" y="4189320"/>
            <a:ext cx="621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pid Assessment Te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3664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ultiple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Forests; National Resource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67080"/>
            <a:ext cx="77468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oderately-restricted 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Wildlife Refu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9896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tricted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Park System; National Wilderness Preservation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4:00Z</dcterms:modified>
  <cp:revision>108</cp:revision>
  <dc:subject/>
  <dc:title>PowerPoint Presentation</dc:title>
</cp:coreProperties>
</file>