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695-00C3-4CA1-BD6A-8A1D5194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A31-2F12-4F25-9587-8961A247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F84-58AE-426C-99FF-899F670F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D19-1217-41DE-A813-98777167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2FF-75A2-4DFD-9C74-E6244267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DBA-E3C5-46A2-9F75-82ABAEDD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515-0CA1-44DC-B68F-D3DAC23E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0D4-0F1A-4D78-B3EB-F8CE265A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E54-7A69-40D2-B840-75460294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DFB-F189-4161-8E5E-B9DFDA9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CBB-9C02-46C3-A032-C4A5E643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F10-47E1-4D9E-B4BB-EEEC8468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CA0-0500-4917-B9D0-79CFB2B3A0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ying Population Ecology: The Human Popul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e Demographic Trans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1459080"/>
            <a:ext cx="9142920" cy="5347800"/>
            <a:chOff x="0" y="1459080"/>
            <a:chExt cx="9142920" cy="534780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996840" y="2387520"/>
              <a:ext cx="7532280" cy="34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516160" y="5632200"/>
              <a:ext cx="584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12560" y="2330280"/>
              <a:ext cx="6303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7554240" y="3962520"/>
              <a:ext cx="248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ive population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-1153080" y="3706920"/>
              <a:ext cx="283860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rth rate and 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umber per 1,000 per 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680" y="2419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680" y="2822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680" y="3225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680" y="36288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680" y="40320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4680" y="44352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48384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4680" y="52416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880" y="5644800"/>
              <a:ext cx="2934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027080" y="2020320"/>
              <a:ext cx="7390800" cy="583920"/>
              <a:chOff x="1027080" y="2020320"/>
              <a:chExt cx="7390800" cy="5839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027080" y="2261520"/>
                <a:ext cx="7390800" cy="342720"/>
                <a:chOff x="1027080" y="2261520"/>
                <a:chExt cx="7390800" cy="34272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10270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04264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37012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34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8417880" y="2261520"/>
                  <a:ext cx="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27080" y="2261520"/>
                  <a:ext cx="7390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V="1">
                <a:off x="15091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61728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85252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363800" y="2020320"/>
                <a:ext cx="0" cy="24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92000" y="1459080"/>
              <a:ext cx="14198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1160" y="1459080"/>
              <a:ext cx="164376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ans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2160" y="1459080"/>
              <a:ext cx="10922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91960" y="1459080"/>
              <a:ext cx="15310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tindust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6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2720" y="5881680"/>
              <a:ext cx="162540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Increasing Grow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700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Very hig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76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Decreas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43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0504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Ze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6920" y="5881680"/>
              <a:ext cx="1076760" cy="45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eg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growth ra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5360" y="3465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4640" y="38113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78720" y="5484600"/>
              <a:ext cx="175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728440" y="5487840"/>
              <a:ext cx="4820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0000" y="49161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3920" y="450684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ath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36760" y="6438600"/>
              <a:ext cx="714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039320" y="6630840"/>
              <a:ext cx="3098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9560" y="6630840"/>
              <a:ext cx="356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88800" y="11667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20 p. 1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Indi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60028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or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325680"/>
            <a:ext cx="609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eaucratic in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1600" y="4052880"/>
            <a:ext cx="521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 status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080" y="4778280"/>
            <a:ext cx="428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reme pov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800" y="5505480"/>
            <a:ext cx="41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ck of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82640"/>
            <a:ext cx="715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enerally disappointing resul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se Study:  Slowing Population Growth in Chin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1000" y="170640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incen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" y="2513160"/>
            <a:ext cx="449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ee medical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1160" y="3443400"/>
            <a:ext cx="549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ferential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8680" y="5265720"/>
            <a:ext cx="6598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ery intrusive and coerc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9200" y="438948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ly adminis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utting Global Population Growt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2280" y="1459080"/>
            <a:ext cx="348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85680" y="515448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360" y="2936880"/>
            <a:ext cx="547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vate the status of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2400" y="2222640"/>
            <a:ext cx="4161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rove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3720" y="3673440"/>
            <a:ext cx="39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rease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520" y="4395960"/>
            <a:ext cx="500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men in pare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04040" y="5897520"/>
            <a:ext cx="3025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6600" y="1949400"/>
            <a:ext cx="845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ctors affecting human population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880" y="4576680"/>
            <a:ext cx="6346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ing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520" y="3262320"/>
            <a:ext cx="627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population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actors Affecting Human   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5640" y="1668600"/>
            <a:ext cx="666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pulation chang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1800" y="3630600"/>
            <a:ext cx="5407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birth rate (B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880" y="4578480"/>
            <a:ext cx="554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ude death rate (D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0600" y="2527200"/>
            <a:ext cx="8727120" cy="825480"/>
            <a:chOff x="210600" y="2527200"/>
            <a:chExt cx="8727120" cy="825480"/>
          </a:xfrm>
        </p:grpSpPr>
        <p:sp>
          <p:nvSpPr>
            <p:cNvPr id="57" name=""/>
            <p:cNvSpPr/>
            <p:nvPr/>
          </p:nvSpPr>
          <p:spPr>
            <a:xfrm>
              <a:off x="210600" y="2527200"/>
              <a:ext cx="1604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36440" y="258912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5400" y="2711160"/>
              <a:ext cx="6412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(Births + Immigration) – (Deaths + Emigr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509920" y="568656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ure 10-3, p. 1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scribing Population Chang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ing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le of 7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lacement-level Fer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tal Fertility Rate (TF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Birth Rates  and Total Fertility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" y="1498680"/>
            <a:ext cx="822564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ildren in Labo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 of raising and educat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pens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 and employment for 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fant mortality 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erage marrying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birth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.S. Birth Rates: 1910-2004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7400" y="6553080"/>
            <a:ext cx="15112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8, p.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8720" y="2151000"/>
            <a:ext cx="8583840" cy="2146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6120" y="2163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6120" y="2379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6120" y="2597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120" y="2805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6120" y="2995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6120" y="3195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6120" y="34034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120" y="3610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120" y="380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6120" y="4014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1080" y="4195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1087200" y="30517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rths per thousan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4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216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360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83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98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040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8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4448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9084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28920" y="43639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22720" y="4348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7240" y="46944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00" y="38941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m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880" y="3983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75880" y="371160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World War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05120" y="39830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6880" y="398304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b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91440" y="398304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ho baby b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Affecting Death Rat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2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560" y="1736640"/>
            <a:ext cx="335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6640" y="2733840"/>
            <a:ext cx="5461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ant mortality rate (IM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4920" y="1457280"/>
            <a:ext cx="9225000" cy="5239440"/>
            <a:chOff x="-34920" y="1457280"/>
            <a:chExt cx="9225000" cy="5239440"/>
          </a:xfrm>
        </p:grpSpPr>
        <p:grpSp>
          <p:nvGrpSpPr>
            <p:cNvPr id="105" name=""/>
            <p:cNvGrpSpPr/>
            <p:nvPr/>
          </p:nvGrpSpPr>
          <p:grpSpPr>
            <a:xfrm>
              <a:off x="1587600" y="6359400"/>
              <a:ext cx="5977080" cy="337320"/>
              <a:chOff x="1587600" y="6359400"/>
              <a:chExt cx="5977080" cy="3373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587600" y="6426360"/>
                <a:ext cx="4611600" cy="220320"/>
                <a:chOff x="1587600" y="6426360"/>
                <a:chExt cx="4611600" cy="22032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">
                  <a:lum contrast="24000"/>
                </a:blip>
                <a:stretch/>
              </p:blipFill>
              <p:spPr>
                <a:xfrm>
                  <a:off x="1601640" y="6426360"/>
                  <a:ext cx="4597560" cy="22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1587600" y="6432480"/>
                  <a:ext cx="40608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0684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78360" y="6432480"/>
                  <a:ext cx="406440" cy="203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005920" y="6359400"/>
                <a:ext cx="11379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0-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50720" y="6359400"/>
                <a:ext cx="12506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15-4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95240" y="6359400"/>
                <a:ext cx="1369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ges 45-85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-34920" y="1457280"/>
              <a:ext cx="9225000" cy="4740840"/>
              <a:chOff x="-34920" y="1457280"/>
              <a:chExt cx="9225000" cy="47408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>
                <a:lum contrast="24000"/>
              </a:blip>
              <a:srcRect l="11139" t="0" r="10357" b="0"/>
              <a:stretch/>
            </p:blipFill>
            <p:spPr>
              <a:xfrm>
                <a:off x="5346720" y="1458720"/>
                <a:ext cx="1901880" cy="36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031040" y="5130720"/>
                <a:ext cx="150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apid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ig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udi Arab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3">
                <a:lum contrast="24000"/>
              </a:blip>
              <a:srcRect l="11119" t="0" r="13084" b="0"/>
              <a:stretch/>
            </p:blipFill>
            <p:spPr>
              <a:xfrm>
                <a:off x="7112160" y="1465200"/>
                <a:ext cx="2077920" cy="36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3768480" y="5130720"/>
                <a:ext cx="14166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low Grow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nited Sta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ustral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an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3880" y="187632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6480" y="1876320"/>
                <a:ext cx="8787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em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-34920" y="1457280"/>
                <a:ext cx="9081000" cy="4740840"/>
                <a:chOff x="-34920" y="1457280"/>
                <a:chExt cx="9081000" cy="47408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4">
                  <a:lum contrast="24000"/>
                </a:blip>
                <a:stretch/>
              </p:blipFill>
              <p:spPr>
                <a:xfrm>
                  <a:off x="-34920" y="1500120"/>
                  <a:ext cx="3639960" cy="359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5">
                  <a:lum contrast="24000"/>
                </a:blip>
                <a:stretch/>
              </p:blipFill>
              <p:spPr>
                <a:xfrm>
                  <a:off x="3362400" y="1457280"/>
                  <a:ext cx="2228760" cy="3639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5605920" y="5130720"/>
                  <a:ext cx="138312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Zero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p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A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ree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257600" y="5130720"/>
                  <a:ext cx="1788480" cy="1067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Negative Grow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erma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Bulga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Swed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Age Struc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0-14 p. 1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Influencing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opulation Siz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" y="1681200"/>
            <a:ext cx="283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040" y="249696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refug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760" y="3314880"/>
            <a:ext cx="411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ing bir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6320" y="4132440"/>
            <a:ext cx="420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mily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0280" y="4950000"/>
            <a:ext cx="606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owerment of w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760" y="5767560"/>
            <a:ext cx="766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wards and pena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1:46Z</dcterms:modified>
  <cp:revision>38</cp:revision>
  <dc:subject/>
  <dc:title>PowerPoint Presentation</dc:title>
</cp:coreProperties>
</file>