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FFF-301D-43FE-BDC9-D141D6C8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69A-37ED-4603-9FA5-8420079E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A2A-D101-47F3-A23E-C9179C0A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F47-F07D-47CC-89E5-C14C3C1F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968-36E7-48E0-8F25-53A826C8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C73-56E9-43EF-8D0B-FB8F9C14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623-D6CC-4457-9B07-4E5173AC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F22-EFF0-482F-A9E0-FA710BB3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8B2-BBAB-4354-AB0E-DC41DD90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966-FA2D-43C6-84E3-928AEC23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1FF-5EAF-4075-B2F2-2746AF57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0C4-5411-48AF-B511-8B62AD98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6ABB-7B09-4CF0-8ECF-1E58B2EF87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ying Population Ecology: The Human Popul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Demographic Transi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1459080"/>
            <a:ext cx="9142920" cy="5347800"/>
            <a:chOff x="0" y="1459080"/>
            <a:chExt cx="9142920" cy="534780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996840" y="2387520"/>
              <a:ext cx="7532280" cy="34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516160" y="5632200"/>
              <a:ext cx="584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12560" y="2330280"/>
              <a:ext cx="6303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7554240" y="3962520"/>
              <a:ext cx="248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ive population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-1153080" y="3706920"/>
              <a:ext cx="283860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rth rate and dea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number per 1,000 per ye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4680" y="24192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4680" y="28224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4680" y="32256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680" y="36288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680" y="40320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4680" y="44352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680" y="48384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4680" y="52416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880" y="5644800"/>
              <a:ext cx="2934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027080" y="2020320"/>
              <a:ext cx="7390800" cy="583920"/>
              <a:chOff x="1027080" y="2020320"/>
              <a:chExt cx="7390800" cy="5839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027080" y="2261520"/>
                <a:ext cx="7390800" cy="342720"/>
                <a:chOff x="1027080" y="2261520"/>
                <a:chExt cx="7390800" cy="342720"/>
              </a:xfrm>
            </p:grpSpPr>
            <p:sp>
              <p:nvSpPr>
                <p:cNvPr id="156" name=""/>
                <p:cNvSpPr/>
                <p:nvPr/>
              </p:nvSpPr>
              <p:spPr>
                <a:xfrm flipV="1">
                  <a:off x="10270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04264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37012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3478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84178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27080" y="2261520"/>
                  <a:ext cx="7390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 flipV="1">
                <a:off x="150912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361728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85252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736380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92000" y="1459080"/>
              <a:ext cx="14198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e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1160" y="1459080"/>
              <a:ext cx="164376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ans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2160" y="1459080"/>
              <a:ext cx="10922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91960" y="1459080"/>
              <a:ext cx="153108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st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3600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72720" y="5881680"/>
              <a:ext cx="162540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Increasing Grow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5700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Very hig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476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Decreas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432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0504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Ze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692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Neg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5360" y="34653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r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4640" y="38113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78720" y="5484600"/>
              <a:ext cx="175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2728440" y="5487840"/>
              <a:ext cx="48204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0000" y="49161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23920" y="4506840"/>
              <a:ext cx="11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a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36760" y="6438600"/>
              <a:ext cx="714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039320" y="6630840"/>
              <a:ext cx="3098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9560" y="6630840"/>
              <a:ext cx="356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588800" y="11667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20 p. 1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Slowing Population Growth in India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600280"/>
            <a:ext cx="372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or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325680"/>
            <a:ext cx="609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eaucratic in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1600" y="4052880"/>
            <a:ext cx="521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 status of w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9080" y="4778280"/>
            <a:ext cx="428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eme pov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800" y="5505480"/>
            <a:ext cx="41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ck of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682640"/>
            <a:ext cx="7154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Generally disappointing resul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Slowing Population Growth in China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1000" y="1706400"/>
            <a:ext cx="504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incen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" y="2513160"/>
            <a:ext cx="449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ee medical 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1160" y="3443400"/>
            <a:ext cx="5494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ferential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8680" y="5265720"/>
            <a:ext cx="6598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ery intrusive and coerc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9200" y="4389480"/>
            <a:ext cx="521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ly adminis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utting Global Population Grow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62280" y="1459080"/>
            <a:ext cx="3489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mily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85680" y="5154480"/>
            <a:ext cx="3358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0360" y="2936880"/>
            <a:ext cx="5473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vate the status of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32400" y="2222640"/>
            <a:ext cx="4161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rove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3720" y="3673440"/>
            <a:ext cx="39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rease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2520" y="4395960"/>
            <a:ext cx="5006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olve men in pare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04040" y="5897520"/>
            <a:ext cx="3025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6600" y="1949400"/>
            <a:ext cx="845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affecting human population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880" y="4576680"/>
            <a:ext cx="6346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ing population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520" y="3262320"/>
            <a:ext cx="627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population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actors Affecting Human   Population Siz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5640" y="1668600"/>
            <a:ext cx="666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pulation change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1800" y="3630600"/>
            <a:ext cx="540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ude birth rate (B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4880" y="4578480"/>
            <a:ext cx="554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ude death rate (D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10600" y="2527200"/>
            <a:ext cx="8727120" cy="825480"/>
            <a:chOff x="210600" y="2527200"/>
            <a:chExt cx="8727120" cy="825480"/>
          </a:xfrm>
        </p:grpSpPr>
        <p:sp>
          <p:nvSpPr>
            <p:cNvPr id="57" name=""/>
            <p:cNvSpPr/>
            <p:nvPr/>
          </p:nvSpPr>
          <p:spPr>
            <a:xfrm>
              <a:off x="210600" y="2527200"/>
              <a:ext cx="160416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h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36440" y="258912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25400" y="2711160"/>
              <a:ext cx="6412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(Births + Immigration) – (Deaths + Emigr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509920" y="5686560"/>
            <a:ext cx="43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ure 10-3, p. 1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scribing Population Chang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ubling 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ule of 70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r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lacement-level Fer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tal Fertility Rate (TF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Affecting Birth Rates  and Total Fertility Ra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" y="1498680"/>
            <a:ext cx="822564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ildren in Labor Fo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st of raising and educating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pension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ucation and employment for wo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fant mortality 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erage marrying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bor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birth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.S. Birth Rates: 1910-2004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7400" y="6553080"/>
            <a:ext cx="1511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8, p. 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8720" y="2151000"/>
            <a:ext cx="8583840" cy="2146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6120" y="2163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6120" y="2379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6120" y="2597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6120" y="2805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6120" y="2995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6120" y="3195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6120" y="34034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6120" y="3610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6120" y="3807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6120" y="4014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1080" y="4195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-1087200" y="30517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irths per thousan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44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216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360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838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98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040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84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444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9084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2892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22720" y="4348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67240" y="46944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9600" y="3894120"/>
            <a:ext cx="11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m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17880" y="3983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75880" y="3711600"/>
            <a:ext cx="158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World War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05120" y="39830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b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96880" y="398304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b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91440" y="39830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ho baby b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Affecting Death Ra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7560" y="1736640"/>
            <a:ext cx="3358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fe expect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6640" y="2733840"/>
            <a:ext cx="5461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ant mortality rate (IM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4920" y="1457280"/>
            <a:ext cx="9225000" cy="5239440"/>
            <a:chOff x="-34920" y="1457280"/>
            <a:chExt cx="9225000" cy="5239440"/>
          </a:xfrm>
        </p:grpSpPr>
        <p:grpSp>
          <p:nvGrpSpPr>
            <p:cNvPr id="105" name=""/>
            <p:cNvGrpSpPr/>
            <p:nvPr/>
          </p:nvGrpSpPr>
          <p:grpSpPr>
            <a:xfrm>
              <a:off x="1587600" y="6359400"/>
              <a:ext cx="5977080" cy="337320"/>
              <a:chOff x="1587600" y="6359400"/>
              <a:chExt cx="5977080" cy="3373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587600" y="6426360"/>
                <a:ext cx="4611600" cy="220320"/>
                <a:chOff x="1587600" y="6426360"/>
                <a:chExt cx="4611600" cy="22032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1">
                  <a:lum contrast="24000"/>
                </a:blip>
                <a:stretch/>
              </p:blipFill>
              <p:spPr>
                <a:xfrm>
                  <a:off x="1601640" y="6426360"/>
                  <a:ext cx="4597560" cy="22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>
                  <a:off x="1587600" y="6432480"/>
                  <a:ext cx="40608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606840" y="6432480"/>
                  <a:ext cx="40644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78360" y="6432480"/>
                  <a:ext cx="40644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2005920" y="6359400"/>
                <a:ext cx="11379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0-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50720" y="6359400"/>
                <a:ext cx="12506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15-4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95240" y="6359400"/>
                <a:ext cx="13694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45-85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-34920" y="1457280"/>
              <a:ext cx="9225000" cy="4740840"/>
              <a:chOff x="-34920" y="1457280"/>
              <a:chExt cx="9225000" cy="4740840"/>
            </a:xfrm>
          </p:grpSpPr>
          <p:pic>
            <p:nvPicPr>
              <p:cNvPr id="115" name="" descr=""/>
              <p:cNvPicPr/>
              <p:nvPr/>
            </p:nvPicPr>
            <p:blipFill>
              <a:blip r:embed="rId2">
                <a:lum contrast="24000"/>
              </a:blip>
              <a:srcRect l="11139" t="0" r="10357" b="0"/>
              <a:stretch/>
            </p:blipFill>
            <p:spPr>
              <a:xfrm>
                <a:off x="5346720" y="1458720"/>
                <a:ext cx="1901880" cy="363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031040" y="5130720"/>
                <a:ext cx="1506600" cy="1067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Rapid Grow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ig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audi Arab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" name="" descr=""/>
              <p:cNvPicPr/>
              <p:nvPr/>
            </p:nvPicPr>
            <p:blipFill>
              <a:blip r:embed="rId3">
                <a:lum contrast="24000"/>
              </a:blip>
              <a:srcRect l="11119" t="0" r="13084" b="0"/>
              <a:stretch/>
            </p:blipFill>
            <p:spPr>
              <a:xfrm>
                <a:off x="7112160" y="1465200"/>
                <a:ext cx="2077920" cy="36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3768480" y="5130720"/>
                <a:ext cx="1416600" cy="1067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low Grow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nited Sta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ustral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ana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03880" y="187632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66480" y="1876320"/>
                <a:ext cx="8787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em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-34920" y="1457280"/>
                <a:ext cx="9081000" cy="4740840"/>
                <a:chOff x="-34920" y="1457280"/>
                <a:chExt cx="9081000" cy="474084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4">
                  <a:lum contrast="24000"/>
                </a:blip>
                <a:stretch/>
              </p:blipFill>
              <p:spPr>
                <a:xfrm>
                  <a:off x="-34920" y="1500120"/>
                  <a:ext cx="3639960" cy="3597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5">
                  <a:lum contrast="24000"/>
                </a:blip>
                <a:stretch/>
              </p:blipFill>
              <p:spPr>
                <a:xfrm>
                  <a:off x="3362400" y="1457280"/>
                  <a:ext cx="2228760" cy="3639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>
                  <a:off x="5605920" y="5130720"/>
                  <a:ext cx="1383120" cy="10674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Zero Growt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Spa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A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Gree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257600" y="5130720"/>
                  <a:ext cx="1788480" cy="10674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Negative Growt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German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Bulga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Swed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Age Structu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14 p. 1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Influencing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pulation Siz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" y="1681200"/>
            <a:ext cx="283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7040" y="249696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refug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7760" y="3314880"/>
            <a:ext cx="4113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ing bir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6320" y="4132440"/>
            <a:ext cx="420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mily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0280" y="4950000"/>
            <a:ext cx="606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powerment of w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7760" y="5767560"/>
            <a:ext cx="766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rewards and penal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1:46Z</dcterms:modified>
  <cp:revision>38</cp:revision>
  <dc:subject/>
  <dc:title>PowerPoint Presentation</dc:title>
</cp:coreProperties>
</file>