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42C-E58D-41CF-980E-83C2C63B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93F-21E2-4622-8FEE-880A0383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8F2-06FD-4314-8586-7AA1EE78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644-3A37-4F34-BF2F-97B59C28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216-AD78-444D-AC21-8329D8B2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067-D352-4A5D-83A9-10569368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7DF-8527-4FA5-9789-F728E33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DBD-7837-4016-8017-38DC343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A61-8964-4CAB-8E13-FAC5B358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D87-033A-4957-ACBA-6F54947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9A4-E776-459F-8E86-72E9DDA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F69-DDB5-4AB1-AE82-1D6BF1A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E7C6-6CF4-4181-8F9C-34F42B65F1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16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86280" y="204840"/>
            <a:ext cx="5157720" cy="6406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7440" y="4218120"/>
            <a:ext cx="4413240" cy="26398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77240" y="6553080"/>
            <a:ext cx="11667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24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24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52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724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60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062240" y="3038400"/>
            <a:ext cx="5087880" cy="3821760"/>
            <a:chOff x="4062240" y="3038400"/>
            <a:chExt cx="5087880" cy="3821760"/>
          </a:xfrm>
        </p:grpSpPr>
        <p:sp>
          <p:nvSpPr>
            <p:cNvPr id="114" name=""/>
            <p:cNvSpPr/>
            <p:nvPr/>
          </p:nvSpPr>
          <p:spPr>
            <a:xfrm>
              <a:off x="4894200" y="6066000"/>
              <a:ext cx="36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062240" y="3038400"/>
              <a:ext cx="508176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887240" y="6553080"/>
              <a:ext cx="126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60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9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87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298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0 p. 1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716360" cy="31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90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49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72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0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44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89320" y="201600"/>
            <a:ext cx="4954680" cy="640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732800" y="655020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6, p.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08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0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36720" y="1192320"/>
            <a:ext cx="6407280" cy="520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70680" y="607392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2, p.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83000" y="1447920"/>
            <a:ext cx="6561000" cy="5070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6880" y="620388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4, p.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7985880" y="6553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 p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808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44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08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8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you</cp:lastModifiedBy>
  <dcterms:modified xsi:type="dcterms:W3CDTF">2004-10-11T06:05:33Z</dcterms:modified>
  <cp:revision>49</cp:revision>
  <dc:subject/>
  <dc:title>PowerPoint Presentation</dc:title>
</cp:coreProperties>
</file>