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F197-AEA4-4BC5-B2B8-D80DF294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5BE-733C-430C-B6B2-894AB822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B6F-C745-450C-93D1-F6DA6F40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E3E8-3427-4085-AA8A-B1732279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C7E-AAF9-48B2-A996-9020ABFA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CDD-231F-4F8F-832A-9C78DA2A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DB9-144D-44D6-BD37-8BC1D1AF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262-7F1A-4EC0-8FD7-DF202527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AC8-B99B-47DD-850C-2A646140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BEC-4836-4575-9886-A0629D90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F74-84BD-489D-88FF-E367896D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A90-7201-4E38-B7B0-E04BD294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0A8A-62D3-40F0-B7A5-53CFF52FCF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Problems, Their Causes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16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86280" y="204840"/>
            <a:ext cx="5157720" cy="6406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680" y="1763640"/>
            <a:ext cx="274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pe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1040" y="3513240"/>
            <a:ext cx="299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1400" y="5264280"/>
            <a:ext cx="39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7120" y="731880"/>
            <a:ext cx="2141640" cy="352728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97440" y="4218120"/>
            <a:ext cx="4413240" cy="263988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32600" y="1146240"/>
            <a:ext cx="3011400" cy="300492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77240" y="6553080"/>
            <a:ext cx="11667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-6 p.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5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21240" y="171144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1240" y="3382920"/>
            <a:ext cx="673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Degra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20520" y="5054760"/>
            <a:ext cx="5921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agedy of the Comm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Footpri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7240" y="6553080"/>
            <a:ext cx="1262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-7 p.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381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-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2320" y="1395360"/>
            <a:ext cx="453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1600" y="2368440"/>
            <a:ext cx="473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llic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1600" y="3343320"/>
            <a:ext cx="3479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Metallic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2320" y="4927680"/>
            <a:ext cx="192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1240" y="5902200"/>
            <a:ext cx="229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062240" y="3038400"/>
            <a:ext cx="5087880" cy="3821760"/>
            <a:chOff x="4062240" y="3038400"/>
            <a:chExt cx="5087880" cy="3821760"/>
          </a:xfrm>
        </p:grpSpPr>
        <p:sp>
          <p:nvSpPr>
            <p:cNvPr id="114" name=""/>
            <p:cNvSpPr/>
            <p:nvPr/>
          </p:nvSpPr>
          <p:spPr>
            <a:xfrm>
              <a:off x="4894200" y="6066000"/>
              <a:ext cx="367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Economic Deple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4062240" y="3038400"/>
              <a:ext cx="508176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887240" y="6553080"/>
              <a:ext cx="126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g. 1-8 p. 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7600" y="1554120"/>
            <a:ext cx="463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poll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7960" y="2576520"/>
            <a:ext cx="477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ects of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8680" y="3598920"/>
            <a:ext cx="187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7040" y="4621320"/>
            <a:ext cx="1786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7040" y="564372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28760" y="2284560"/>
            <a:ext cx="649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vention (In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29840" y="3956040"/>
            <a:ext cx="632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eanup (Out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and Resource Probl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0" y="2185920"/>
            <a:ext cx="4197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jor Problem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e Fig. 1-10 p. 1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4118040"/>
            <a:ext cx="438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ve Root Ca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427640" y="1557360"/>
            <a:ext cx="4716360" cy="315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3549" r="0" b="7622"/>
          <a:stretch/>
        </p:blipFill>
        <p:spPr>
          <a:xfrm>
            <a:off x="411120" y="1314360"/>
            <a:ext cx="8319960" cy="554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mpa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900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-13 p.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nterac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86080" y="65530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-14 p.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4937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Worldview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80" y="1693800"/>
            <a:ext cx="5721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etary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800" y="300672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9720" y="1901880"/>
            <a:ext cx="638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 and Sustain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00" y="3121200"/>
            <a:ext cx="682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 and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640" y="434016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0440" y="5559480"/>
            <a:ext cx="828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uses of Environment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Our Greatest Environmental Problem?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36680" y="1944720"/>
            <a:ext cx="8229600" cy="41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ver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 Shor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mat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diversity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lnutr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urrent Emphasis (Rea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tainability Emphasis (Proa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189320" y="201600"/>
            <a:ext cx="4954680" cy="640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732800" y="6550200"/>
            <a:ext cx="141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-16, p.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iving More Sustainabl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5280" y="1847880"/>
            <a:ext cx="235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7080" y="3154320"/>
            <a:ext cx="5637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Sc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6000" y="453852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3760" y="623736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36720" y="1192320"/>
            <a:ext cx="6407280" cy="5200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hat Keeps Us Alive? Capital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870680" y="607392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-2, p.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83000" y="1447920"/>
            <a:ext cx="6561000" cy="5070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2920" y="3803760"/>
            <a:ext cx="2225880" cy="7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ubling Time/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ule of 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560" y="2725560"/>
            <a:ext cx="19468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ponentia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86880" y="6203880"/>
            <a:ext cx="125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. 1-4, p.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11043" b="0"/>
          <a:stretch/>
        </p:blipFill>
        <p:spPr>
          <a:xfrm>
            <a:off x="1184400" y="1146240"/>
            <a:ext cx="6777000" cy="571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9" name=""/>
          <p:cNvSpPr/>
          <p:nvPr/>
        </p:nvSpPr>
        <p:spPr>
          <a:xfrm>
            <a:off x="7985880" y="65530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g. 1-1 p.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Popul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9240" y="2576520"/>
            <a:ext cx="741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Domestic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D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28080" y="3825720"/>
            <a:ext cx="418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Capita GN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Developme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1440" y="1739880"/>
            <a:ext cx="515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ed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1080" y="3036960"/>
            <a:ext cx="532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ing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280" y="4334040"/>
            <a:ext cx="82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sitive Asp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280" y="5632560"/>
            <a:ext cx="82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gative Asp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Globalization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3800" y="1868400"/>
            <a:ext cx="201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4880" y="3618000"/>
            <a:ext cx="285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4880" y="5367240"/>
            <a:ext cx="560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you</cp:lastModifiedBy>
  <dcterms:modified xsi:type="dcterms:W3CDTF">2004-10-11T06:05:33Z</dcterms:modified>
  <cp:revision>49</cp:revision>
  <dc:subject/>
  <dc:title>PowerPoint Presentation</dc:title>
</cp:coreProperties>
</file>