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BEA-0ED3-4876-BA3B-63413357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6CF-2A3A-430D-9808-3838A74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8CD-2E0B-4354-A322-917E1B2D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ACC-5974-4B7A-AF65-BD915ABB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6B7-56A9-4242-AA40-B4CA193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468-93E1-4CEA-B704-8F0078CF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108-B3EA-4963-BBE2-C3788891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EB5-2A99-432B-ABAA-25CE6DB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032-5743-46D5-BD44-485C85A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E7A-F95A-4067-8E14-9C214D0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35D-04BC-4261-BF57-4742262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640-82E5-43C8-A867-CD2B984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ED9-7B83-4E45-9161-8898E6CA08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16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86280" y="204840"/>
            <a:ext cx="5157720" cy="6406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7440" y="4218120"/>
            <a:ext cx="4413240" cy="26398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77240" y="6553080"/>
            <a:ext cx="1166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24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24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52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724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062240" y="3038400"/>
            <a:ext cx="5087880" cy="3821760"/>
            <a:chOff x="4062240" y="3038400"/>
            <a:chExt cx="5087880" cy="3821760"/>
          </a:xfrm>
        </p:grpSpPr>
        <p:sp>
          <p:nvSpPr>
            <p:cNvPr id="114" name=""/>
            <p:cNvSpPr/>
            <p:nvPr/>
          </p:nvSpPr>
          <p:spPr>
            <a:xfrm>
              <a:off x="4894200" y="6066000"/>
              <a:ext cx="36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062240" y="3038400"/>
              <a:ext cx="508176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887240" y="6553080"/>
              <a:ext cx="126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60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9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87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298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0 p. 1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31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90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49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44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89320" y="201600"/>
            <a:ext cx="49546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32800" y="655020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6, p.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08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0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36720" y="1192320"/>
            <a:ext cx="640728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70680" y="6073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2, p.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83000" y="1447920"/>
            <a:ext cx="6561000" cy="507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6880" y="62038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4, p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7985880" y="6553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 p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808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44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08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8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you</cp:lastModifiedBy>
  <dcterms:modified xsi:type="dcterms:W3CDTF">2004-10-11T06:05:33Z</dcterms:modified>
  <cp:revision>49</cp:revision>
  <dc:subject/>
  <dc:title>PowerPoint Presentation</dc:title>
</cp:coreProperties>
</file>