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712F-6E6D-48C6-8CC4-A4BEBCC20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68C2-13C1-4EF7-8BC2-9DBBFA888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E557-A757-4B38-AE5B-8AFD14617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182B-BF15-4637-82A5-B8F9C9C8E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A2D2-22D7-4ECA-B982-08E7ADF07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1CCD-FABC-4E7F-82CD-08425BDE2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0C68-1111-4312-92BC-4888E13A6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7611-02C2-49BB-8899-A75A5C3C7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9883-8746-4010-9931-4672A3A19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2315-8189-4FAD-8386-03BF5A0E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182F-AD8E-412A-9BA2-4112259C5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B5D1-531D-42EF-87C6-5A5B79354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FA18A-4642-49D3-A183-B3690909234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84360" y="2181240"/>
            <a:ext cx="696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22360" y="2387520"/>
            <a:ext cx="637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spcBef>
                <a:spcPts val="25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nvironmental Problems, Their Causes, and Sustainability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95160" y="2438280"/>
            <a:ext cx="595044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. Tyler Miller’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ving in the Enviro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4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Ed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hapte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986280" y="204840"/>
            <a:ext cx="5157720" cy="64069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0680" y="1763640"/>
            <a:ext cx="2745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erpetu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1040" y="3513240"/>
            <a:ext cx="2998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newa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31400" y="5264280"/>
            <a:ext cx="3929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on-renewa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67120" y="731880"/>
            <a:ext cx="2141640" cy="3527280"/>
          </a:xfrm>
          <a:prstGeom prst="ellipse">
            <a:avLst/>
          </a:prstGeom>
          <a:noFill/>
          <a:ln w="57240">
            <a:solidFill>
              <a:srgbClr val="ff99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97440" y="4218120"/>
            <a:ext cx="4413240" cy="2639880"/>
          </a:xfrm>
          <a:prstGeom prst="ellipse">
            <a:avLst/>
          </a:prstGeom>
          <a:noFill/>
          <a:ln w="57240">
            <a:solidFill>
              <a:srgbClr val="ff99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132600" y="1146240"/>
            <a:ext cx="3011400" cy="3004920"/>
          </a:xfrm>
          <a:prstGeom prst="ellipse">
            <a:avLst/>
          </a:prstGeom>
          <a:noFill/>
          <a:ln w="57240">
            <a:solidFill>
              <a:srgbClr val="ff99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977240" y="6553080"/>
            <a:ext cx="116676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-6 p. 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5" dur="1" fill="hold"/>
                                  <p:tgtEl>
                                    <p:spTgt spid="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Renewable Resourc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21240" y="1711440"/>
            <a:ext cx="4426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ustainable Yie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21240" y="3382920"/>
            <a:ext cx="6739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nvironmental Degrad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20520" y="5054760"/>
            <a:ext cx="5921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Tragedy of the Comm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cological Footprint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87240" y="6553080"/>
            <a:ext cx="1262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-7 p.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14624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1522440"/>
            <a:ext cx="9144000" cy="3811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Non-Renewable Resourc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02320" y="1395360"/>
            <a:ext cx="4537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nergy Re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01600" y="2368440"/>
            <a:ext cx="4735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etallic Re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01600" y="3343320"/>
            <a:ext cx="347976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on-Metallic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2320" y="4927680"/>
            <a:ext cx="1927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u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1240" y="5902200"/>
            <a:ext cx="2294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cyc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4062240" y="3038400"/>
            <a:ext cx="5087880" cy="3821760"/>
            <a:chOff x="4062240" y="3038400"/>
            <a:chExt cx="5087880" cy="3821760"/>
          </a:xfrm>
        </p:grpSpPr>
        <p:sp>
          <p:nvSpPr>
            <p:cNvPr id="114" name=""/>
            <p:cNvSpPr/>
            <p:nvPr/>
          </p:nvSpPr>
          <p:spPr>
            <a:xfrm>
              <a:off x="4894200" y="6066000"/>
              <a:ext cx="3675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Economic Deple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5" name="" descr=""/>
            <p:cNvPicPr/>
            <p:nvPr/>
          </p:nvPicPr>
          <p:blipFill>
            <a:blip r:embed="rId1"/>
            <a:stretch/>
          </p:blipFill>
          <p:spPr>
            <a:xfrm>
              <a:off x="4062240" y="3038400"/>
              <a:ext cx="5081760" cy="307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7887240" y="6553080"/>
              <a:ext cx="126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Fig. 1-8 p. 1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Pollu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37600" y="1554120"/>
            <a:ext cx="4639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is polluti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7960" y="2576520"/>
            <a:ext cx="4778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ffects of Pol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8680" y="3598920"/>
            <a:ext cx="1873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97040" y="4621320"/>
            <a:ext cx="1786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oi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97040" y="5643720"/>
            <a:ext cx="2661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onpoi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Dealing With Pollu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328760" y="2284560"/>
            <a:ext cx="6497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evention (Input Contro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29840" y="3956040"/>
            <a:ext cx="6326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eanup (Output Contro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nvironmental and Resource Problem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60" y="2185920"/>
            <a:ext cx="41976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ajor Problems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See Fig. 1-10 p. 13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60" y="4118040"/>
            <a:ext cx="4381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ive Root Cau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427640" y="1557360"/>
            <a:ext cx="4716360" cy="3155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rcRect l="0" t="3549" r="0" b="7622"/>
          <a:stretch/>
        </p:blipFill>
        <p:spPr>
          <a:xfrm>
            <a:off x="411120" y="1314360"/>
            <a:ext cx="8319960" cy="55436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nvironmental Impact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389000" y="655308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1-13 p. 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nvironmental Interaction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786080" y="655308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-14 p. 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1328760"/>
            <a:ext cx="9144000" cy="4937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nvironmental Worldview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41080" y="1693800"/>
            <a:ext cx="5721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lanetary Manag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41800" y="3006720"/>
            <a:ext cx="5835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nvironmental Wisd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Key Concep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9720" y="1901880"/>
            <a:ext cx="6387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rowth and Sustainabi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60800" y="3121200"/>
            <a:ext cx="6820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sources and Resource U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8640" y="4340160"/>
            <a:ext cx="2606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ol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0440" y="5559480"/>
            <a:ext cx="8289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auses of Environmental Probl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What is Our Greatest Environmental Problem?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36680" y="1944720"/>
            <a:ext cx="8229600" cy="414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s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verpop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ater Short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mate Cha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iodiversity Lo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ove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lnutr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Solutions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urrent Emphasis (Reacti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ustainability Emphasis (Proacti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189320" y="201600"/>
            <a:ext cx="4954680" cy="64087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7732800" y="6550200"/>
            <a:ext cx="1411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-16, p. 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Living More Sustainably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65280" y="1847880"/>
            <a:ext cx="2353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colo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67080" y="3154320"/>
            <a:ext cx="5637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nvironmental Sci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66000" y="4538520"/>
            <a:ext cx="4822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ustainable Socie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363760" y="6237360"/>
            <a:ext cx="18432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736720" y="1192320"/>
            <a:ext cx="6407280" cy="52005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What Keeps Us Alive? Capital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ol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atur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870680" y="6073920"/>
            <a:ext cx="127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1-2, p. 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583000" y="1447920"/>
            <a:ext cx="6561000" cy="50702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Population Growth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32920" y="3803760"/>
            <a:ext cx="2225880" cy="76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oubling Time/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ule of 7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0560" y="2725560"/>
            <a:ext cx="194688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xponentia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Grow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886880" y="6203880"/>
            <a:ext cx="125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1-4, p. 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0" t="0" r="11043" b="0"/>
          <a:stretch/>
        </p:blipFill>
        <p:spPr>
          <a:xfrm>
            <a:off x="1184400" y="1146240"/>
            <a:ext cx="6777000" cy="5713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69" name=""/>
          <p:cNvSpPr/>
          <p:nvPr/>
        </p:nvSpPr>
        <p:spPr>
          <a:xfrm>
            <a:off x="7985880" y="655308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-1 p.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World Popula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conomic Growth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49240" y="2576520"/>
            <a:ext cx="7410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ross Domestic Product (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GDP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28080" y="3825720"/>
            <a:ext cx="4181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er Capita GN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conomic Development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1440" y="1739880"/>
            <a:ext cx="5157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eveloped Count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1080" y="3036960"/>
            <a:ext cx="5328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eveloping Count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49280" y="4334040"/>
            <a:ext cx="82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ositive Aspe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9280" y="5632560"/>
            <a:ext cx="82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egative Aspe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Globalization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14624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13800" y="1868400"/>
            <a:ext cx="2010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oc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14880" y="3618000"/>
            <a:ext cx="2854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conom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4880" y="5367240"/>
            <a:ext cx="5605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nvironmental Effe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1:21:45Z</dcterms:created>
  <dc:creator>Richard Clements</dc:creator>
  <dc:description/>
  <dc:language>en-US</dc:language>
  <cp:lastModifiedBy>you</cp:lastModifiedBy>
  <dcterms:modified xsi:type="dcterms:W3CDTF">2004-10-11T06:05:33Z</dcterms:modified>
  <cp:revision>49</cp:revision>
  <dc:subject/>
  <dc:title>PowerPoint Presentation</dc:title>
</cp:coreProperties>
</file>