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94D-F322-4172-AE0A-B77E1827E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A5ED-B1DD-4826-BD06-0070AD88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1486-5541-45CC-975F-A8701378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DAA1-3227-4157-B32B-C251050C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8E8C-0E77-427D-AF4A-ECD38FA6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0390-3048-4574-8105-72DA7A348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8414-BD15-4361-A15D-FFC0EAAC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0DB-D05B-4EC3-84F0-F975008C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6AFE-0672-4158-9D47-154A0211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7EC-A675-46EB-A221-61B72C22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177-27E8-4F8D-AB5F-C5F514979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34E-4F72-4056-A7CA-480547E8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C533-8194-410B-B933-F5069AE5D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BA3-C863-41F8-8D3E-431FA264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E88-DCC4-4719-AFBE-A4ED8D6F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A4F-0D41-4846-86E6-7BEEAA5D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9E49-B5FC-4FD9-BFAF-D841B224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1544-376A-49A8-9231-ECF2E2B57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FF37-314D-4FE3-8B0B-DE163AC6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2994-6BF7-4404-B91C-6F82670A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A4C4-69A6-4657-AE16-59A20C7E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D329-54BE-4D54-8ABF-66F61A22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CFFB-C1A2-402E-8A73-1209FDAD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6C77-5504-4D51-97A3-47AA8B01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315-C5C5-4692-98DE-239EBB29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FC1-3838-4C3D-B4E6-FAB03E5A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FB4-28E3-42E3-BB5A-4C5A4F91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6294-3B93-4EEC-860F-64892FD6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08A-DDC9-4F10-B45A-21B434149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7AA5-65B2-40FC-B959-26F92AE4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D1C-CA52-43C7-9C5B-23C6BF9D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FE1-EC75-4389-AC21-E838644C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875C-A645-418F-92C8-D5FE396D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607E-19B9-44CB-B90B-FA6AF630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1E5D-9DDD-496E-8509-7CC81CE8D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6DF4-F497-4ED4-B3A5-27AE21719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E9EB-9388-4294-8FF1-1EFCF1E25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220-5E33-4235-8587-FE09DBF0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808C-1179-4A23-9FEC-5B9A13E2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8464-9323-40C7-8FDE-7883188D8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C074-F249-4E8E-9E3D-956A1892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595-8E39-40D2-9BC2-52FC2DE6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1475-2623-4BC9-838B-E9EC3908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8B3F-3FBC-4AEB-9177-FB5775733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11C3-622B-4CC0-82D9-27D7157D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47DF-1569-47AB-A882-C7F454D8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AD66-454F-4509-988F-FE37401E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6AAD-1C2B-44D4-83FB-F0F17010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DD3-A5E1-4F45-9FF3-E0F27576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51C2-A63C-4398-90CD-50C5E85C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B6B-9BC6-4B09-B489-B86A2245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5EA-FFA2-4282-8FA3-2D396DFB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ECD-028C-440E-9EF5-BD01A758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917-CC87-4FCB-9E86-3D66AE94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C497-5130-4F1E-9423-A6417A97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C7C-928B-4B09-97D5-3A13CBBB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242A-47F2-4CE0-BBA4-D15A2421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23B1-D5EA-4658-8702-398A88E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37A-1B6C-4E1B-851F-6077FD24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64B8-2696-4EB5-A4DE-D069821C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7655-711C-4D4B-AE38-1013D197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41A-B76B-47F1-8790-CD739650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99A7-D25B-4C37-B17E-BAA2DBB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0CFC-EAAB-4D7A-A152-A15CC996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646-7C09-4363-9830-370D342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774B-4278-4548-923F-9F653999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AF9A-385F-4D7E-88EA-91BE3616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109-0EE5-4128-9A37-0CCF94BE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F25-1D58-422A-92B9-624C3AC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1B8-EDA1-4A60-B4E3-CDFFEB52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AEA-2C65-4F26-A812-5E4D0F67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CA0-9F52-42FB-A682-BAA63616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12E-75D5-489C-AD6B-B2FB3AD2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3A8-3A04-4559-9070-03F474F1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5298-1B75-4008-955F-F417C8157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5E41-6E85-46B6-9852-165507B1624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D:/chapter37/section03/Resources/Movies/vahumanr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3&amp;fuseaction=home.gotoWebCode&amp;x=0&amp;y=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1&amp;fuseaction=home.gotoWebCode&amp;x=12&amp;y=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chapter37/section01/Resources/Movies/vahumanc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iology 10 Chapter 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irculatory and Respiratory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b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contraction begins in a small group of muscle cells in the right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s are called the sinoatrial node (SA node) 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cem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the atria contracts, blood flows into the ventricles; when the ventricles contract, blood exits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13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103400" y="32637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7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2975040" y="3335400"/>
            <a:ext cx="987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5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081080" y="4449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9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3"/>
          <p:cNvPicPr/>
          <p:nvPr/>
        </p:nvPicPr>
        <p:blipFill>
          <a:blip r:embed="rId4"/>
          <a:stretch/>
        </p:blipFill>
        <p:spPr>
          <a:xfrm>
            <a:off x="4629240" y="4513320"/>
            <a:ext cx="1406520" cy="1036440"/>
          </a:xfrm>
          <a:prstGeom prst="rect">
            <a:avLst/>
          </a:prstGeom>
          <a:ln w="0">
            <a:noFill/>
          </a:ln>
        </p:spPr>
      </p:pic>
      <p:sp>
        <p:nvSpPr>
          <p:cNvPr id="153" name="Line 12"/>
          <p:cNvSpPr/>
          <p:nvPr/>
        </p:nvSpPr>
        <p:spPr>
          <a:xfrm flipH="1" flipV="1">
            <a:off x="3004920" y="4714920"/>
            <a:ext cx="152388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or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 that blood leaves the heart from to transport oxygen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s blood flows through the circulatory system, it moves through three types of blood vessels- arteries, capillaries, and v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s that carry blood from the heart to the tissues of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mallest blood vessels; they have thin walls that allow for the transport of nutrients, gasses, and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lood vessels that returns deoxygenated blood to the heart; contain one-way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asures the force of the blood on the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wo numbers (systolic and diastolic pressures); 120/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bio_ch37_4076"/>
          <p:cNvPicPr/>
          <p:nvPr/>
        </p:nvPicPr>
        <p:blipFill>
          <a:blip r:embed="rId1"/>
          <a:stretch/>
        </p:blipFill>
        <p:spPr>
          <a:xfrm>
            <a:off x="1219320" y="2743200"/>
            <a:ext cx="6700680" cy="3319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500720" y="2863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258840" y="2889360"/>
            <a:ext cx="8636040" cy="3286080"/>
            <a:chOff x="258840" y="2889360"/>
            <a:chExt cx="8636040" cy="3286080"/>
          </a:xfrm>
        </p:grpSpPr>
        <p:sp>
          <p:nvSpPr>
            <p:cNvPr id="165" name="Text Box 7"/>
            <p:cNvSpPr/>
            <p:nvPr/>
          </p:nvSpPr>
          <p:spPr>
            <a:xfrm>
              <a:off x="258840" y="48830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910640" y="436212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98520" y="540360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726320" y="498456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39720" y="58989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7243920" y="555588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6418440" y="58734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80528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u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2519280" y="28893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208764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rio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Text Box 17"/>
          <p:cNvSpPr/>
          <p:nvPr/>
        </p:nvSpPr>
        <p:spPr>
          <a:xfrm>
            <a:off x="6189840" y="23814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249200" y="24192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5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orders of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heroscler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hen fatty deposits called plaques build on the walls of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bstruct the flow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gh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orces the heart to work harder; may cause a heart attack or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s composed of a small number of cells do not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and nutrients can diffuse across cell membr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organisms cannot rely on dif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y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82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f arteries become blocked, part of the heart may die from a lack of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clots get stuck in the blood vessels leading to parts of the brain; also caused by an artery bursting in the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yer of muscle in the heart that pumps blood through the circulatory system is called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card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A"/>
          <p:cNvPicPr/>
          <p:nvPr/>
        </p:nvPicPr>
        <p:blipFill>
          <a:blip r:embed="rId1"/>
          <a:stretch/>
        </p:blipFill>
        <p:spPr>
          <a:xfrm>
            <a:off x="22860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-poor blood from the body enters the heart through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66680" y="3733920"/>
            <a:ext cx="773136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A"/>
          <p:cNvPicPr/>
          <p:nvPr/>
        </p:nvPicPr>
        <p:blipFill>
          <a:blip r:embed="rId1"/>
          <a:stretch/>
        </p:blipFill>
        <p:spPr>
          <a:xfrm>
            <a:off x="380880" y="365760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herosclerosis is a condition in whi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cells die from a lack of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que builds up along the walls of the arter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pressure is too hi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art stops pump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2819520"/>
            <a:ext cx="7731360" cy="5331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1905120"/>
            <a:ext cx="8502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in that brings oxygen-poor blood from the upper part of the body to the right atrium i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4400" y="41911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6" descr="A"/>
          <p:cNvPicPr/>
          <p:nvPr/>
        </p:nvPicPr>
        <p:blipFill>
          <a:blip r:embed="rId1"/>
          <a:stretch/>
        </p:blipFill>
        <p:spPr>
          <a:xfrm>
            <a:off x="228600" y="41148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nective tissue that contains both dissolved substances and specialize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llects oxygen from the lungs, nutrients from the digestive tract, and waste products from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uman body contains 4 to 6 liters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45% ar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55% is blood plas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bout 90% water and 10% gases, salts, nutrients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sma prot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proteins are divided into three groups: albumins, globulins, and fibrino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bumins and globulins transport sub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brinogen clots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72880" y="144792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854360" y="57387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460840"/>
            <a:ext cx="82551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79280" y="5764320"/>
            <a:ext cx="17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038400" y="576108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laced in Centrifu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66200" y="335124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686720" y="38592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7677000" y="43815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680240" y="506556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4" descr="2"/>
          <p:cNvPicPr/>
          <p:nvPr/>
        </p:nvPicPr>
        <p:blipFill>
          <a:blip r:embed="rId1"/>
          <a:stretch/>
        </p:blipFill>
        <p:spPr>
          <a:xfrm>
            <a:off x="1992240" y="2616120"/>
            <a:ext cx="43131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3"/>
          <p:cNvPicPr/>
          <p:nvPr/>
        </p:nvPicPr>
        <p:blipFill>
          <a:blip r:embed="rId2"/>
          <a:stretch/>
        </p:blipFill>
        <p:spPr>
          <a:xfrm>
            <a:off x="517680" y="2422440"/>
            <a:ext cx="664920" cy="333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1"/>
          <p:cNvPicPr/>
          <p:nvPr/>
        </p:nvPicPr>
        <p:blipFill>
          <a:blip r:embed="rId3"/>
          <a:stretch/>
        </p:blipFill>
        <p:spPr>
          <a:xfrm>
            <a:off x="6816600" y="2444760"/>
            <a:ext cx="627120" cy="336060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7"/>
          <p:cNvSpPr/>
          <p:nvPr/>
        </p:nvSpPr>
        <p:spPr>
          <a:xfrm>
            <a:off x="7296120" y="4037040"/>
            <a:ext cx="446040" cy="54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7296120" y="4621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238880" y="5295960"/>
            <a:ext cx="49392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0" descr="GREENARROW"/>
          <p:cNvPicPr/>
          <p:nvPr/>
        </p:nvPicPr>
        <p:blipFill>
          <a:blip r:embed="rId4"/>
          <a:stretch/>
        </p:blipFill>
        <p:spPr>
          <a:xfrm>
            <a:off x="2536920" y="2635200"/>
            <a:ext cx="3303360" cy="642960"/>
          </a:xfrm>
          <a:prstGeom prst="rect">
            <a:avLst/>
          </a:prstGeom>
          <a:ln w="0">
            <a:noFill/>
          </a:ln>
        </p:spPr>
      </p:pic>
      <p:sp>
        <p:nvSpPr>
          <p:cNvPr id="226" name="Line 21"/>
          <p:cNvSpPr/>
          <p:nvPr/>
        </p:nvSpPr>
        <p:spPr>
          <a:xfrm>
            <a:off x="7224840" y="3552840"/>
            <a:ext cx="4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22" descr="BLUE"/>
          <p:cNvPicPr/>
          <p:nvPr/>
        </p:nvPicPr>
        <p:blipFill>
          <a:blip r:embed="rId5"/>
          <a:stretch/>
        </p:blipFill>
        <p:spPr>
          <a:xfrm>
            <a:off x="1357200" y="3316320"/>
            <a:ext cx="1171800" cy="9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BLUE"/>
          <p:cNvPicPr/>
          <p:nvPr/>
        </p:nvPicPr>
        <p:blipFill>
          <a:blip r:embed="rId6"/>
          <a:stretch/>
        </p:blipFill>
        <p:spPr>
          <a:xfrm>
            <a:off x="5608800" y="3301920"/>
            <a:ext cx="1171440" cy="957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4"/>
          <p:cNvSpPr/>
          <p:nvPr/>
        </p:nvSpPr>
        <p:spPr>
          <a:xfrm>
            <a:off x="6149880" y="5762520"/>
            <a:ext cx="22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Sample That Has Been Centrifu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uman circulatory system consists of the heart, a series of blood vessels, and the blood that flows through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mposed almost entirely of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bout the size of a f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closed in a protective sac of tissue called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icardi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llular portion of blood consists of red blood cells, white blood cells, an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 Blood Cells (R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erythr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ansport oxyge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ron-containing protein that binds to oxygen; make cells 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BC are produced in the red bone m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ve around 4 months (120 da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91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te blood cells (W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leuk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ttack foreign substances or org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n live for several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gocy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gulf and digest foreign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clotting is made possible by plasma proteins and cell fragments calle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latelets contact blood vessels; their surfaces become sticky; several group around a w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4" descr="bio_ch37_4080"/>
          <p:cNvPicPr/>
          <p:nvPr/>
        </p:nvPicPr>
        <p:blipFill>
          <a:blip r:embed="rId1"/>
          <a:stretch/>
        </p:blipFill>
        <p:spPr>
          <a:xfrm>
            <a:off x="838080" y="2362320"/>
            <a:ext cx="7382160" cy="2162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93720" y="459432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602160" y="4594320"/>
            <a:ext cx="215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459480" y="459432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54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atic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network of vessels called the lymphatic system collects the fluid that is lost by the blood and returns it to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uid that collects in capillaries and flows to larger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15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sma protein that responsible for blood clotting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ino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ul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glob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A"/>
          <p:cNvPicPr/>
          <p:nvPr/>
        </p:nvPicPr>
        <p:blipFill>
          <a:blip r:embed="rId1"/>
          <a:stretch/>
        </p:blipFill>
        <p:spPr>
          <a:xfrm>
            <a:off x="30492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ide the walls of the heart is a thick layer of muscle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ocar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tractions pump blood throug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heart contracts about 72 times a minute, pumping about 70 ml of blood with each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 blood cells that engulf and digest foreign cells are known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mb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99072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6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cells that do not have nuclei and are produced by the red bone marrow 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ymph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7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platelet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 red blood cells in carrying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 viruses and bacteri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the blood clotting proces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apillaries open so blood can flow freely throu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33526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7" descr="A"/>
          <p:cNvPicPr/>
          <p:nvPr/>
        </p:nvPicPr>
        <p:blipFill>
          <a:blip r:embed="rId1"/>
          <a:stretch/>
        </p:blipFill>
        <p:spPr>
          <a:xfrm>
            <a:off x="228600" y="32767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lymph nod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 bacteria and viruses that cause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e new red and white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f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14400" y="2438280"/>
            <a:ext cx="7731000" cy="4939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6" descr="A"/>
          <p:cNvPicPr/>
          <p:nvPr/>
        </p:nvPicPr>
        <p:blipFill>
          <a:blip r:embed="rId1"/>
          <a:stretch/>
        </p:blipFill>
        <p:spPr>
          <a:xfrm>
            <a:off x="228600" y="236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” is used in biology in two different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ular respiration: the release of energy from food w/ oxygen; makes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spiration: the process of exchanging oxygen and carbon diox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b of the respiratory system is to exchange oxygen and carbon diox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respiratory system consists of the nose, pharynx, larynx, trachea, bronchi, and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piration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7" descr="sb4083a04"/>
          <p:cNvPicPr/>
          <p:nvPr/>
        </p:nvPicPr>
        <p:blipFill>
          <a:blip r:embed="rId1"/>
          <a:stretch/>
        </p:blipFill>
        <p:spPr>
          <a:xfrm>
            <a:off x="2598840" y="1860480"/>
            <a:ext cx="3498840" cy="502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2354400" y="2906640"/>
            <a:ext cx="5317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0574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glott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681520" y="2209680"/>
            <a:ext cx="4381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5334120" y="27432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e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2354400" y="1846440"/>
            <a:ext cx="29052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4382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5673600" y="1530360"/>
            <a:ext cx="487440" cy="1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334120" y="20574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5657760" y="1884240"/>
            <a:ext cx="47628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334120" y="236232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5257800" y="304812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g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56386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u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325600" y="2324160"/>
            <a:ext cx="3812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20968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23"/>
          <p:cNvSpPr/>
          <p:nvPr/>
        </p:nvSpPr>
        <p:spPr>
          <a:xfrm flipH="1">
            <a:off x="3123720" y="2133720"/>
            <a:ext cx="21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4"/>
          <p:cNvSpPr/>
          <p:nvPr/>
        </p:nvSpPr>
        <p:spPr>
          <a:xfrm flipH="1">
            <a:off x="3124080" y="2590920"/>
            <a:ext cx="27936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5"/>
          <p:cNvSpPr/>
          <p:nvPr/>
        </p:nvSpPr>
        <p:spPr>
          <a:xfrm flipH="1">
            <a:off x="3276720" y="2895480"/>
            <a:ext cx="7999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6"/>
          <p:cNvSpPr/>
          <p:nvPr/>
        </p:nvSpPr>
        <p:spPr>
          <a:xfrm flipV="1">
            <a:off x="4038480" y="2286000"/>
            <a:ext cx="126864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7"/>
          <p:cNvSpPr/>
          <p:nvPr/>
        </p:nvSpPr>
        <p:spPr>
          <a:xfrm flipV="1">
            <a:off x="4114800" y="2514600"/>
            <a:ext cx="118116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4267080" y="2895480"/>
            <a:ext cx="10717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9"/>
          <p:cNvSpPr/>
          <p:nvPr/>
        </p:nvSpPr>
        <p:spPr>
          <a:xfrm flipV="1">
            <a:off x="4572000" y="3352680"/>
            <a:ext cx="76500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30"/>
          <p:cNvSpPr/>
          <p:nvPr/>
        </p:nvSpPr>
        <p:spPr>
          <a:xfrm flipV="1">
            <a:off x="4419720" y="3580920"/>
            <a:ext cx="119376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3526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6172200" y="3886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4952880" y="4114440"/>
            <a:ext cx="124488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5029200" y="4114440"/>
            <a:ext cx="119052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35"/>
          <p:cNvSpPr/>
          <p:nvPr/>
        </p:nvSpPr>
        <p:spPr>
          <a:xfrm flipH="1">
            <a:off x="4647960" y="6172200"/>
            <a:ext cx="16020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way of 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through the nose to a tube at the back of the mouth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thr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ves as a passageway for ai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from the pharynx to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he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windp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ch contain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cal ch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through the trachea into two passageway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bronchus leads to a 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 branch into bronchi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oles subdivide until they reach millions of tiny air sac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ve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veoli are clustered into group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resemble bunches of gra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alveoli are the location of 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pt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wall that divides the right side of the heart from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revents the mixing of oxygen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and oxygen-rich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n each side of the septum are two cha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r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upper cham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ceives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1" name="Picture 19" descr="p957-grapes"/>
          <p:cNvPicPr/>
          <p:nvPr/>
        </p:nvPicPr>
        <p:blipFill>
          <a:blip r:embed="rId1"/>
          <a:stretch/>
        </p:blipFill>
        <p:spPr>
          <a:xfrm>
            <a:off x="3048120" y="1828800"/>
            <a:ext cx="3508200" cy="5029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0"/>
          <p:cNvSpPr/>
          <p:nvPr/>
        </p:nvSpPr>
        <p:spPr>
          <a:xfrm>
            <a:off x="6043680" y="2003400"/>
            <a:ext cx="49356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970600" y="21938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2425680" y="3408480"/>
            <a:ext cx="8794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2057400" y="33973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4"/>
          <p:cNvSpPr/>
          <p:nvPr/>
        </p:nvSpPr>
        <p:spPr>
          <a:xfrm flipH="1">
            <a:off x="3622320" y="3170160"/>
            <a:ext cx="530280" cy="35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543640" y="2570040"/>
            <a:ext cx="711000" cy="1235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13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dissolves on the surface of the alveoli and then diffuses across capillaries into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rbon dioxide diffuses in the opposit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5" name="Picture 6" descr="GAS"/>
          <p:cNvPicPr/>
          <p:nvPr/>
        </p:nvPicPr>
        <p:blipFill>
          <a:blip r:embed="rId1"/>
          <a:stretch/>
        </p:blipFill>
        <p:spPr>
          <a:xfrm>
            <a:off x="2819520" y="1828800"/>
            <a:ext cx="3698640" cy="462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RED"/>
          <p:cNvPicPr/>
          <p:nvPr/>
        </p:nvPicPr>
        <p:blipFill>
          <a:blip r:embed="rId2"/>
          <a:stretch/>
        </p:blipFill>
        <p:spPr>
          <a:xfrm>
            <a:off x="3657600" y="2347920"/>
            <a:ext cx="176832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312408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4452480" y="5929200"/>
            <a:ext cx="75420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49756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Picture 4" descr="GAS"/>
          <p:cNvPicPr/>
          <p:nvPr/>
        </p:nvPicPr>
        <p:blipFill>
          <a:blip r:embed="rId1"/>
          <a:stretch/>
        </p:blipFill>
        <p:spPr>
          <a:xfrm>
            <a:off x="2743200" y="1828800"/>
            <a:ext cx="3699000" cy="4622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BLUE2"/>
          <p:cNvPicPr/>
          <p:nvPr/>
        </p:nvPicPr>
        <p:blipFill>
          <a:blip r:embed="rId2"/>
          <a:stretch/>
        </p:blipFill>
        <p:spPr>
          <a:xfrm>
            <a:off x="4373640" y="3645000"/>
            <a:ext cx="1506600" cy="1376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RED"/>
          <p:cNvPicPr/>
          <p:nvPr/>
        </p:nvPicPr>
        <p:blipFill>
          <a:blip r:embed="rId3"/>
          <a:stretch/>
        </p:blipFill>
        <p:spPr>
          <a:xfrm>
            <a:off x="3581280" y="2347920"/>
            <a:ext cx="17686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297180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H="1">
            <a:off x="4376880" y="5929200"/>
            <a:ext cx="7538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42124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506920" y="3200400"/>
            <a:ext cx="8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lungs are located inside the chest cavity.  At the bottom of the cavity i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inhale, the diaphragm con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exhale, the diaphragm rela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reathing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icture 13" descr="bio_ch37_4085"/>
          <p:cNvPicPr/>
          <p:nvPr/>
        </p:nvPicPr>
        <p:blipFill>
          <a:blip r:embed="rId1"/>
          <a:stretch/>
        </p:blipFill>
        <p:spPr>
          <a:xfrm>
            <a:off x="1447920" y="1981080"/>
            <a:ext cx="6591240" cy="3618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4"/>
          <p:cNvSpPr/>
          <p:nvPr/>
        </p:nvSpPr>
        <p:spPr>
          <a:xfrm>
            <a:off x="949320" y="2259000"/>
            <a:ext cx="6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808920" y="43038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746280" y="3452760"/>
            <a:ext cx="8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ri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97360" y="2182680"/>
            <a:ext cx="77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ex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745880" y="41259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670280" y="327492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desc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078280" y="56149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003000" y="5614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passes through the trachea into two large passageways in the chest cavity known as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veol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iglotti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066680" y="2895480"/>
            <a:ext cx="773136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the cilia lining the respiratory surfac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the amount of oxygen and carbon dioxide exchanged in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 the opening of the trachea when you swallow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air in and out of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eep trapped particles and mucus away from the lung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4400" y="5334120"/>
            <a:ext cx="7731000" cy="90144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A"/>
          <p:cNvPicPr/>
          <p:nvPr/>
        </p:nvPicPr>
        <p:blipFill>
          <a:blip r:embed="rId1"/>
          <a:stretch/>
        </p:blipFill>
        <p:spPr>
          <a:xfrm>
            <a:off x="228600" y="5486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ric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lower chambe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mps blood out of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art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rculatio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lmonary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right side of the heart pumps blood from the heart to the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stemic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left side of the heart pumps blood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 diffuses from the alveolus into the blood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poo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ri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more carbon dioxide than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less oxygen than is found in the bloo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838080" y="2895480"/>
            <a:ext cx="7731360" cy="7621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A"/>
          <p:cNvPicPr/>
          <p:nvPr/>
        </p:nvPicPr>
        <p:blipFill>
          <a:blip r:embed="rId1"/>
          <a:stretch/>
        </p:blipFill>
        <p:spPr>
          <a:xfrm>
            <a:off x="192240" y="299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bio_ch37_4072"/>
          <p:cNvPicPr/>
          <p:nvPr/>
        </p:nvPicPr>
        <p:blipFill>
          <a:blip r:embed="rId1"/>
          <a:stretch/>
        </p:blipFill>
        <p:spPr>
          <a:xfrm>
            <a:off x="2895480" y="1905120"/>
            <a:ext cx="3154320" cy="4228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2235240" y="1787400"/>
            <a:ext cx="4172040" cy="4680000"/>
            <a:chOff x="2235240" y="1787400"/>
            <a:chExt cx="4172040" cy="4680000"/>
          </a:xfrm>
        </p:grpSpPr>
        <p:sp>
          <p:nvSpPr>
            <p:cNvPr id="123" name="Text Box 6"/>
            <p:cNvSpPr/>
            <p:nvPr/>
          </p:nvSpPr>
          <p:spPr>
            <a:xfrm>
              <a:off x="2311560" y="178740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4978440" y="5825880"/>
              <a:ext cx="1428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2781360" y="484812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3060720" y="4136760"/>
              <a:ext cx="102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235240" y="4352760"/>
              <a:ext cx="112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40160" y="260028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102200" y="267624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915080" y="2612880"/>
              <a:ext cx="104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5295960" y="4340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flow through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enters through an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s the heart contracts, blood flows into the ventricles, and then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l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aps of connective tissue between the atria and ventricles that keep blood flowing in on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lood flow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9:20:39Z</dcterms:created>
  <dc:creator>Mark Coziahr</dc:creator>
  <dc:description/>
  <dc:language>en-US</dc:language>
  <cp:lastModifiedBy>iLLuSioN</cp:lastModifiedBy>
  <dcterms:modified xsi:type="dcterms:W3CDTF">2009-04-27T01:47:13Z</dcterms:modified>
  <cp:revision>105</cp:revision>
  <dc:subject/>
  <dc:title>Chapter 1 Notes</dc:title>
</cp:coreProperties>
</file>