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0227-3EBD-4D37-A9E5-D427DE7A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B91A-649B-4767-81C4-32A8F2F5C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03DE-DFFE-477C-8387-C98A5B9C3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6492-E772-4EBE-9E97-72D34987B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9990-48E5-4B76-B8F4-96A78567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A56A-CBDB-417B-B155-3DDCDC48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8675-0699-4DBE-B28F-05DF3DE9A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42B2-8B57-4586-8BE7-598D00FA7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CCF6-655D-4BD6-9B54-B46979C54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E72C-1730-42F6-8D12-D1AB2F6B8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9E40-F799-409F-A660-71802674E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F87C-4069-4963-B1DE-6638C91DB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0606-008E-4B74-8B47-27108F4A6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CDC8-C8F9-4A25-9EE2-130E24305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AC75-59C2-4EF8-B388-B46DEDA4B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1971-0357-4EDA-A8A6-2EE8955EA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BB5-8762-4558-976F-2B92A16D7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618F-F6EA-4B93-84B5-01D757537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75DC-7849-4241-9DF3-315278EA1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2800-7DF3-4F41-A4CA-9BCE2F88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3EA7-CBCC-431B-990D-BFC0DEAF9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471B-27E2-4C67-83EF-08B5912F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4FA5-8C08-45C1-BFB6-70DFF20E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DC01-DCEC-4DED-8E1E-ECD6833B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4232-25E5-44CB-A382-0FADBC28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9B48-9B14-45EB-A513-40E37113A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BCC5-9F10-41BD-ACA8-29997C3B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3A2D-4FC6-483C-BE4D-87E3E95F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A1B9-3A04-4056-898A-5155C37C0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5933-A355-431D-BF55-E04B06EF8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3E10-8F91-4476-B3D2-C8861B72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7A9C-922E-4F42-BB68-F4255001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9A26-6993-4431-AD64-10C02677E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3DAD-E5BA-4EFE-9F19-127562837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913D-E419-4E86-A59A-14FF11A9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3355-F979-4E25-A748-A9696F0B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2546-3DB2-4CEB-A634-7E8E01559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1EA6-99F9-448B-9D50-02904648D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F648-6B85-44CC-95F1-ACC78E8FE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80C2-8534-4CE4-A647-B4472735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5120-1A42-4CFA-B585-6B18BAC44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F76E-49F9-4280-BF63-9A5B0CA74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9DFA-EBB3-4C5C-A94D-B3B94E4B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D4FA-8F3A-44FB-94A9-43B91D38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51FB-1477-4B62-80DB-AD6519716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D21D-372D-4CCB-BF74-92069F450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ABF9-7179-4566-AD9B-008574574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3CAF-2F45-423F-9822-85BC9A158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F9BE-C648-47D6-9B98-609FC4E26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1D8A-B471-4186-A7C0-5F078641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8E4-1707-4FFA-8198-F29E9274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113-FE30-4F29-99C3-862A52C2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B8F-E70C-4E45-B197-2C99711F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375-B567-4EAB-A2D9-809EE04E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F5D9-3385-4190-82DC-A471F4F2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4915-FFD8-411C-91F5-9195A8F9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94E6-8248-4E2A-AB0A-17B952E6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226C-B23A-4376-93F5-CEABD60F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A21D-37A0-4CF5-B922-6982CAC6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2433-CFDB-42C7-8A2C-C21CD429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4AEF-EAC7-4477-A70B-738A979C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379-1E4E-4F7C-AC51-05BD63C4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F247-C172-471C-94BF-16CB9460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BE65-D80F-4BD3-84E0-630C6C1F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E139-C8E2-499E-9271-6A3B581A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DE05-21E4-425F-AF66-4A82B34A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AD44-09F1-46BC-89A8-920E14E6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210-232B-4B81-8635-6325F42B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D9A-9647-4A99-9F41-BA5D78D4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206-4E54-4C4C-95E7-055C8180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B88-AE71-4485-8674-F4121EED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57E-5588-4D4B-8214-BABE9B7F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25A-628E-486E-952A-C7288751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108-6AD6-4EF6-8AD0-A24D4ED5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17C7-9038-4827-B991-73EB3F5DF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5C3C-64B8-4032-AB1C-38B08943CB5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D:/chapter37/section03/Resources/Movies/vahumanr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3&amp;fuseaction=home.gotoWebCode&amp;x=0&amp;y=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school.com/webcodes10/index.cfm?wcprefix=cbp&amp;wcsuffix=0371&amp;fuseaction=home.gotoWebCode&amp;x=12&amp;y=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:/chapter37/section01/Resources/Movies/vahumanc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iology 10 Chapter 3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irculatory and Respiratory Syste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b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contraction begins in a small group of muscle cells in the right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s are called the sinoatrial node (SA node) 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cem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the atria contracts, blood flows into the ventricles; when the ventricles contract, blood exits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13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103400" y="326376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17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sp>
        <p:nvSpPr>
          <p:cNvPr id="143" name="Line 19"/>
          <p:cNvSpPr/>
          <p:nvPr/>
        </p:nvSpPr>
        <p:spPr>
          <a:xfrm>
            <a:off x="2975040" y="3335400"/>
            <a:ext cx="987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5" descr="HEART2"/>
          <p:cNvPicPr/>
          <p:nvPr/>
        </p:nvPicPr>
        <p:blipFill>
          <a:blip r:embed="rId1"/>
          <a:stretch/>
        </p:blipFill>
        <p:spPr>
          <a:xfrm>
            <a:off x="2878200" y="1878120"/>
            <a:ext cx="4181400" cy="4689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618240" y="2014560"/>
            <a:ext cx="8571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211800" y="3571920"/>
            <a:ext cx="27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081080" y="444960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9" descr="1"/>
          <p:cNvPicPr/>
          <p:nvPr/>
        </p:nvPicPr>
        <p:blipFill>
          <a:blip r:embed="rId2"/>
          <a:stretch/>
        </p:blipFill>
        <p:spPr>
          <a:xfrm>
            <a:off x="3770280" y="3833640"/>
            <a:ext cx="1049400" cy="97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2"/>
          <p:cNvPicPr/>
          <p:nvPr/>
        </p:nvPicPr>
        <p:blipFill>
          <a:blip r:embed="rId3"/>
          <a:stretch/>
        </p:blipFill>
        <p:spPr>
          <a:xfrm>
            <a:off x="3652920" y="4062240"/>
            <a:ext cx="900000" cy="157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3"/>
          <p:cNvPicPr/>
          <p:nvPr/>
        </p:nvPicPr>
        <p:blipFill>
          <a:blip r:embed="rId4"/>
          <a:stretch/>
        </p:blipFill>
        <p:spPr>
          <a:xfrm>
            <a:off x="4629240" y="4513320"/>
            <a:ext cx="1406520" cy="1036440"/>
          </a:xfrm>
          <a:prstGeom prst="rect">
            <a:avLst/>
          </a:prstGeom>
          <a:ln w="0">
            <a:noFill/>
          </a:ln>
        </p:spPr>
      </p:pic>
      <p:sp>
        <p:nvSpPr>
          <p:cNvPr id="153" name="Line 12"/>
          <p:cNvSpPr/>
          <p:nvPr/>
        </p:nvSpPr>
        <p:spPr>
          <a:xfrm flipH="1" flipV="1">
            <a:off x="3004920" y="4714920"/>
            <a:ext cx="152388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5342040" y="3902040"/>
            <a:ext cx="1434960" cy="1320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or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 that blood leaves the heart from to transport oxygen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s blood flows through the circulatory system, it moves through three types of blood vessels- arteries, capillaries, and v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te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arge vessels that carry blood from the heart to the tissues of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llar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mallest blood vessels; they have thin walls that allow for the transport of nutrients, gasses, and wa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lood vessels that returns deoxygenated blood to the heart; contain one-way va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asures the force of the blood on the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wo numbers (systolic and diastolic pressures); 120/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4" descr="bio_ch37_4076"/>
          <p:cNvPicPr/>
          <p:nvPr/>
        </p:nvPicPr>
        <p:blipFill>
          <a:blip r:embed="rId1"/>
          <a:stretch/>
        </p:blipFill>
        <p:spPr>
          <a:xfrm>
            <a:off x="1219320" y="2743200"/>
            <a:ext cx="6700680" cy="3319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4500720" y="28638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258840" y="2889360"/>
            <a:ext cx="8636040" cy="3286080"/>
            <a:chOff x="258840" y="2889360"/>
            <a:chExt cx="8636040" cy="3286080"/>
          </a:xfrm>
        </p:grpSpPr>
        <p:sp>
          <p:nvSpPr>
            <p:cNvPr id="165" name="Text Box 7"/>
            <p:cNvSpPr/>
            <p:nvPr/>
          </p:nvSpPr>
          <p:spPr>
            <a:xfrm>
              <a:off x="258840" y="488304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910640" y="436212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98520" y="540360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726320" y="498456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39720" y="58989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7243920" y="555588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6418440" y="587340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v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480528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nu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2519280" y="288936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theliu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2087640" y="34603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rio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Text Box 17"/>
          <p:cNvSpPr/>
          <p:nvPr/>
        </p:nvSpPr>
        <p:spPr>
          <a:xfrm>
            <a:off x="6189840" y="23814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249200" y="24192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70106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4582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sorders of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herosclero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when fatty deposits called plaques build on the walls of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bstruct the flow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igh 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orces the heart to work harder; may cause a heart attack or 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sms composed of a small number of cells do not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and nutrients can diffuse across cell membra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organisms cannot rely on diff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y need a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382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art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f arteries become blocked, part of the heart may die from a lack of 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clots get stuck in the blood vessels leading to parts of the brain; also caused by an artery bursting in the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yer of muscle in the heart that pumps blood through the circulatory system is called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card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7" descr="A"/>
          <p:cNvPicPr/>
          <p:nvPr/>
        </p:nvPicPr>
        <p:blipFill>
          <a:blip r:embed="rId1"/>
          <a:stretch/>
        </p:blipFill>
        <p:spPr>
          <a:xfrm>
            <a:off x="22860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-poor blood from the body enters the heart through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triu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ventricl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066680" y="3733920"/>
            <a:ext cx="773136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6" descr="A"/>
          <p:cNvPicPr/>
          <p:nvPr/>
        </p:nvPicPr>
        <p:blipFill>
          <a:blip r:embed="rId1"/>
          <a:stretch/>
        </p:blipFill>
        <p:spPr>
          <a:xfrm>
            <a:off x="380880" y="365760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herosclerosis is a condition in whi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cells die from a lack of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que builds up along the walls of the arter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pressure is too hi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art stops pump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66680" y="2819520"/>
            <a:ext cx="7731360" cy="53316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4920" y="1905120"/>
            <a:ext cx="8502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ein that brings oxygen-poor blood from the upper part of the body to the right atrium is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monary v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ior vena c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14400" y="41911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6" descr="A"/>
          <p:cNvPicPr/>
          <p:nvPr/>
        </p:nvPicPr>
        <p:blipFill>
          <a:blip r:embed="rId1"/>
          <a:stretch/>
        </p:blipFill>
        <p:spPr>
          <a:xfrm>
            <a:off x="228600" y="41148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nective tissue that contains both dissolved substances and specialize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llects oxygen from the lungs, nutrients from the digestive tract, and waste products from t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uman body contains 4 to 6 liters of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45% are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55% is blood plas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sm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bout 90% water and 10% gases, salts, nutrients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sma prote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ma proteins are divided into three groups: albumins, globulins, and fibrino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bumins and globulins transport sub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ibrinogen clots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72880" y="1447920"/>
            <a:ext cx="8642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854360" y="573876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5460840"/>
            <a:ext cx="82551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79280" y="5764320"/>
            <a:ext cx="17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Blood S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038400" y="5761080"/>
            <a:ext cx="18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Placed in Centrifu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66200" y="335124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7686720" y="38592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le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7677000" y="438156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7680240" y="506556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4" descr="2"/>
          <p:cNvPicPr/>
          <p:nvPr/>
        </p:nvPicPr>
        <p:blipFill>
          <a:blip r:embed="rId1"/>
          <a:stretch/>
        </p:blipFill>
        <p:spPr>
          <a:xfrm>
            <a:off x="1992240" y="2616120"/>
            <a:ext cx="4313160" cy="307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3"/>
          <p:cNvPicPr/>
          <p:nvPr/>
        </p:nvPicPr>
        <p:blipFill>
          <a:blip r:embed="rId2"/>
          <a:stretch/>
        </p:blipFill>
        <p:spPr>
          <a:xfrm>
            <a:off x="517680" y="2422440"/>
            <a:ext cx="664920" cy="333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1"/>
          <p:cNvPicPr/>
          <p:nvPr/>
        </p:nvPicPr>
        <p:blipFill>
          <a:blip r:embed="rId3"/>
          <a:stretch/>
        </p:blipFill>
        <p:spPr>
          <a:xfrm>
            <a:off x="6816600" y="2444760"/>
            <a:ext cx="627120" cy="336060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17"/>
          <p:cNvSpPr/>
          <p:nvPr/>
        </p:nvSpPr>
        <p:spPr>
          <a:xfrm>
            <a:off x="7296120" y="4037040"/>
            <a:ext cx="446040" cy="54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7296120" y="462132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7238880" y="5295960"/>
            <a:ext cx="493920" cy="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0" descr="GREENARROW"/>
          <p:cNvPicPr/>
          <p:nvPr/>
        </p:nvPicPr>
        <p:blipFill>
          <a:blip r:embed="rId4"/>
          <a:stretch/>
        </p:blipFill>
        <p:spPr>
          <a:xfrm>
            <a:off x="2536920" y="2635200"/>
            <a:ext cx="3303360" cy="642960"/>
          </a:xfrm>
          <a:prstGeom prst="rect">
            <a:avLst/>
          </a:prstGeom>
          <a:ln w="0">
            <a:noFill/>
          </a:ln>
        </p:spPr>
      </p:pic>
      <p:sp>
        <p:nvSpPr>
          <p:cNvPr id="226" name="Line 21"/>
          <p:cNvSpPr/>
          <p:nvPr/>
        </p:nvSpPr>
        <p:spPr>
          <a:xfrm>
            <a:off x="7224840" y="3552840"/>
            <a:ext cx="463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22" descr="BLUE"/>
          <p:cNvPicPr/>
          <p:nvPr/>
        </p:nvPicPr>
        <p:blipFill>
          <a:blip r:embed="rId5"/>
          <a:stretch/>
        </p:blipFill>
        <p:spPr>
          <a:xfrm>
            <a:off x="1357200" y="3316320"/>
            <a:ext cx="1171800" cy="95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BLUE"/>
          <p:cNvPicPr/>
          <p:nvPr/>
        </p:nvPicPr>
        <p:blipFill>
          <a:blip r:embed="rId6"/>
          <a:stretch/>
        </p:blipFill>
        <p:spPr>
          <a:xfrm>
            <a:off x="5608800" y="3301920"/>
            <a:ext cx="1171440" cy="957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4"/>
          <p:cNvSpPr/>
          <p:nvPr/>
        </p:nvSpPr>
        <p:spPr>
          <a:xfrm>
            <a:off x="6149880" y="5762520"/>
            <a:ext cx="22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 Sample That Has Been Centrifug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uman circulatory system consists of the heart, a series of blood vessels, and the blood that flows through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mposed almost entirely of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bout the size of a f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nclosed in a protective sac of tissue called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icardiu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ellular portion of blood consists of red blood cells, white blood cells, an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d Blood Cells (R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erythr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ransport oxyge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moglob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iron-containing protein that binds to oxygen; make cells 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BC are produced in the red bone mar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ive around 4 months (120 da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91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hite blood cells (W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so called leukoc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ttack foreign substances or org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n live for several mon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gocy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gulf and digest foreign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clotting is made possible by plasma proteins and cell fragments called plate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latelets contact blood vessels; their surfaces become sticky; several group around a w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Picture 4" descr="bio_ch37_4080"/>
          <p:cNvPicPr/>
          <p:nvPr/>
        </p:nvPicPr>
        <p:blipFill>
          <a:blip r:embed="rId1"/>
          <a:stretch/>
        </p:blipFill>
        <p:spPr>
          <a:xfrm>
            <a:off x="838080" y="2362320"/>
            <a:ext cx="7382160" cy="2162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93720" y="4594320"/>
            <a:ext cx="20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 in Capillary W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injur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602160" y="4594320"/>
            <a:ext cx="2152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mping of Plate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clump at the site and release thromboplastin. Thromboplastin converts prothrombin into thrombin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459480" y="4594320"/>
            <a:ext cx="212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t For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mbin converts fibrinogen into fibrin, which causes a clot. The clot prevents further loss of blood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543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atic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network of vessels called the lymphatic system collects the fluid that is lost by the blood and returns it to 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ymp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uid that collects in capillaries and flows to larger vess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2 Blood and the Lymphatic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3152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sma protein that responsible for blood clotting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bum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rino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uli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moglob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90720" y="327672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6" descr="A"/>
          <p:cNvPicPr/>
          <p:nvPr/>
        </p:nvPicPr>
        <p:blipFill>
          <a:blip r:embed="rId1"/>
          <a:stretch/>
        </p:blipFill>
        <p:spPr>
          <a:xfrm>
            <a:off x="304920" y="3200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side the walls of the heart is a thick layer of muscle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yocar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tractions pump blood throug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irculatory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heart contracts about 72 times a minute, pumping about 70 ml of blood with each con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te blood cells that engulf and digest foreign cells are known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mb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99072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6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cells that do not have nuclei and are produced by the red bone marrow 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ymph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let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gocyt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28954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7" descr="A"/>
          <p:cNvPicPr/>
          <p:nvPr/>
        </p:nvPicPr>
        <p:blipFill>
          <a:blip r:embed="rId1"/>
          <a:stretch/>
        </p:blipFill>
        <p:spPr>
          <a:xfrm>
            <a:off x="228600" y="28195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platelet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st red blood cells in carrying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 viruses and bacteri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e the blood clotting proces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capillaries open so blood can flow freely throug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33526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7" descr="A"/>
          <p:cNvPicPr/>
          <p:nvPr/>
        </p:nvPicPr>
        <p:blipFill>
          <a:blip r:embed="rId1"/>
          <a:stretch/>
        </p:blipFill>
        <p:spPr>
          <a:xfrm>
            <a:off x="228600" y="32767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lymph nod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p bacteria and viruses that cause dis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antibodie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e new red and white blood cell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fa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914400" y="2438280"/>
            <a:ext cx="7731000" cy="4939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6" descr="A"/>
          <p:cNvPicPr/>
          <p:nvPr/>
        </p:nvPicPr>
        <p:blipFill>
          <a:blip r:embed="rId1"/>
          <a:stretch/>
        </p:blipFill>
        <p:spPr>
          <a:xfrm>
            <a:off x="228600" y="236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iration” is used in biology in two different w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llular respiration: the release of energy from food w/ oxygen; makes A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espiration: the process of exchanging oxygen and carbon dioxi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ob of the respiratory system is to exchange oxygen and carbon diox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he respiratory system consists of the nose, pharynx, larynx, trachea, bronchi, and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espiration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7" descr="sb4083a04"/>
          <p:cNvPicPr/>
          <p:nvPr/>
        </p:nvPicPr>
        <p:blipFill>
          <a:blip r:embed="rId1"/>
          <a:stretch/>
        </p:blipFill>
        <p:spPr>
          <a:xfrm>
            <a:off x="2598840" y="1860480"/>
            <a:ext cx="3498840" cy="5029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2354400" y="2906640"/>
            <a:ext cx="5317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057400" y="289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glott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5681520" y="2209680"/>
            <a:ext cx="43812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5334120" y="27432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he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2354400" y="1846440"/>
            <a:ext cx="29052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438280" y="190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5673600" y="1530360"/>
            <a:ext cx="487440" cy="1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5334120" y="205740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5657760" y="1884240"/>
            <a:ext cx="47628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5334120" y="236232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y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5257800" y="304812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g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56386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u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2325600" y="2324160"/>
            <a:ext cx="38124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220968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23"/>
          <p:cNvSpPr/>
          <p:nvPr/>
        </p:nvSpPr>
        <p:spPr>
          <a:xfrm flipH="1">
            <a:off x="3123720" y="2133720"/>
            <a:ext cx="21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24"/>
          <p:cNvSpPr/>
          <p:nvPr/>
        </p:nvSpPr>
        <p:spPr>
          <a:xfrm flipH="1">
            <a:off x="3124080" y="2590920"/>
            <a:ext cx="27936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25"/>
          <p:cNvSpPr/>
          <p:nvPr/>
        </p:nvSpPr>
        <p:spPr>
          <a:xfrm flipH="1">
            <a:off x="3276720" y="2895480"/>
            <a:ext cx="79992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26"/>
          <p:cNvSpPr/>
          <p:nvPr/>
        </p:nvSpPr>
        <p:spPr>
          <a:xfrm flipV="1">
            <a:off x="4038480" y="2286000"/>
            <a:ext cx="126864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27"/>
          <p:cNvSpPr/>
          <p:nvPr/>
        </p:nvSpPr>
        <p:spPr>
          <a:xfrm flipV="1">
            <a:off x="4114800" y="2514600"/>
            <a:ext cx="118116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4267080" y="2895480"/>
            <a:ext cx="107172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9"/>
          <p:cNvSpPr/>
          <p:nvPr/>
        </p:nvSpPr>
        <p:spPr>
          <a:xfrm flipV="1">
            <a:off x="4572000" y="3352680"/>
            <a:ext cx="765000" cy="7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30"/>
          <p:cNvSpPr/>
          <p:nvPr/>
        </p:nvSpPr>
        <p:spPr>
          <a:xfrm flipV="1">
            <a:off x="4419720" y="3580920"/>
            <a:ext cx="119376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33526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6172200" y="3886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4952880" y="4114440"/>
            <a:ext cx="124488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5029200" y="4114440"/>
            <a:ext cx="119052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35"/>
          <p:cNvSpPr/>
          <p:nvPr/>
        </p:nvSpPr>
        <p:spPr>
          <a:xfrm flipH="1">
            <a:off x="4647960" y="6172200"/>
            <a:ext cx="16020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thway of  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through the nose to a tube at the back of the mouth calle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thr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rves as a passageway for air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moves from the pharynx to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che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r windp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ryn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ich contain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ocal ch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ir passes through the trachea into two passageway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onch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ach bronchus leads to a 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 branch into bronchi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bronchioles subdivide until they reach millions of tiny air sacs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ve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lveoli are clustered into group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resemble bunches of gra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alveoli are the location of 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pt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wall that divides the right side of the heart from the left s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revents the mixing of oxygen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r and oxygen-rich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n each side of the septum are two cha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ri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upper chamb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ceives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1" name="Picture 19" descr="p957-grapes"/>
          <p:cNvPicPr/>
          <p:nvPr/>
        </p:nvPicPr>
        <p:blipFill>
          <a:blip r:embed="rId1"/>
          <a:stretch/>
        </p:blipFill>
        <p:spPr>
          <a:xfrm>
            <a:off x="3048120" y="1828800"/>
            <a:ext cx="3508200" cy="5029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0"/>
          <p:cNvSpPr/>
          <p:nvPr/>
        </p:nvSpPr>
        <p:spPr>
          <a:xfrm>
            <a:off x="6043680" y="2003400"/>
            <a:ext cx="49356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5970600" y="21938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2425680" y="3408480"/>
            <a:ext cx="8794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2057400" y="33973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nchio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24"/>
          <p:cNvSpPr/>
          <p:nvPr/>
        </p:nvSpPr>
        <p:spPr>
          <a:xfrm flipH="1">
            <a:off x="3622320" y="3170160"/>
            <a:ext cx="530280" cy="35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543640" y="2570040"/>
            <a:ext cx="711000" cy="1235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913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a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oxygen dissolves on the surface of the alveoli and then diffuses across capillaries into the bl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arbon dioxide diffuses in the opposit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5" name="Picture 6" descr="GAS"/>
          <p:cNvPicPr/>
          <p:nvPr/>
        </p:nvPicPr>
        <p:blipFill>
          <a:blip r:embed="rId1"/>
          <a:stretch/>
        </p:blipFill>
        <p:spPr>
          <a:xfrm>
            <a:off x="2819520" y="1828800"/>
            <a:ext cx="3698640" cy="462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RED"/>
          <p:cNvPicPr/>
          <p:nvPr/>
        </p:nvPicPr>
        <p:blipFill>
          <a:blip r:embed="rId2"/>
          <a:stretch/>
        </p:blipFill>
        <p:spPr>
          <a:xfrm>
            <a:off x="3657600" y="2347920"/>
            <a:ext cx="1768320" cy="1143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312408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4452480" y="5929200"/>
            <a:ext cx="75420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549756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1" name="Picture 4" descr="GAS"/>
          <p:cNvPicPr/>
          <p:nvPr/>
        </p:nvPicPr>
        <p:blipFill>
          <a:blip r:embed="rId1"/>
          <a:stretch/>
        </p:blipFill>
        <p:spPr>
          <a:xfrm>
            <a:off x="2743200" y="1828800"/>
            <a:ext cx="3699000" cy="4622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BLUE2"/>
          <p:cNvPicPr/>
          <p:nvPr/>
        </p:nvPicPr>
        <p:blipFill>
          <a:blip r:embed="rId2"/>
          <a:stretch/>
        </p:blipFill>
        <p:spPr>
          <a:xfrm>
            <a:off x="4373640" y="3645000"/>
            <a:ext cx="1506600" cy="1376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RED"/>
          <p:cNvPicPr/>
          <p:nvPr/>
        </p:nvPicPr>
        <p:blipFill>
          <a:blip r:embed="rId3"/>
          <a:stretch/>
        </p:blipFill>
        <p:spPr>
          <a:xfrm>
            <a:off x="3581280" y="2347920"/>
            <a:ext cx="1768680" cy="1143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2971800" y="640080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8"/>
          <p:cNvSpPr/>
          <p:nvPr/>
        </p:nvSpPr>
        <p:spPr>
          <a:xfrm flipH="1">
            <a:off x="4376880" y="5929200"/>
            <a:ext cx="75384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421240" y="2147760"/>
            <a:ext cx="190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506920" y="3200400"/>
            <a:ext cx="8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lungs are located inside the chest cavity.  At the bottom of the cavity is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inhale, the diaphragm con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en you exhale, the diaphragm rela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reathing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3The Respir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1" name="Picture 13" descr="bio_ch37_4085"/>
          <p:cNvPicPr/>
          <p:nvPr/>
        </p:nvPicPr>
        <p:blipFill>
          <a:blip r:embed="rId1"/>
          <a:stretch/>
        </p:blipFill>
        <p:spPr>
          <a:xfrm>
            <a:off x="1447920" y="1981080"/>
            <a:ext cx="6591240" cy="3618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4"/>
          <p:cNvSpPr/>
          <p:nvPr/>
        </p:nvSpPr>
        <p:spPr>
          <a:xfrm>
            <a:off x="949320" y="2259000"/>
            <a:ext cx="67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808920" y="430380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746280" y="3452760"/>
            <a:ext cx="8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ri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797360" y="2182680"/>
            <a:ext cx="77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exhal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745880" y="412596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4670280" y="3274920"/>
            <a:ext cx="8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 cage desc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2078280" y="56149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003000" y="56149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80880" y="1905120"/>
            <a:ext cx="85028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passes through the trachea into two large passageways in the chest cavity known as t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veol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iglotti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1066680" y="2895480"/>
            <a:ext cx="773136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7" descr="A"/>
          <p:cNvPicPr/>
          <p:nvPr/>
        </p:nvPicPr>
        <p:blipFill>
          <a:blip r:embed="rId1"/>
          <a:stretch/>
        </p:blipFill>
        <p:spPr>
          <a:xfrm>
            <a:off x="380880" y="2819520"/>
            <a:ext cx="5828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0492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of the cilia lining the respiratory surfaces i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the amount of oxygen and carbon dioxide exchanged in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 the opening of the trachea when you swallow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air in and out of the lung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eep trapped particles and mucus away from the lung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914400" y="5334120"/>
            <a:ext cx="7731000" cy="90144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Picture 6" descr="A"/>
          <p:cNvPicPr/>
          <p:nvPr/>
        </p:nvPicPr>
        <p:blipFill>
          <a:blip r:embed="rId1"/>
          <a:stretch/>
        </p:blipFill>
        <p:spPr>
          <a:xfrm>
            <a:off x="228600" y="54864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ric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the lower chambe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mps blood out of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eart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irculation through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lmonary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right side of the heart pumps blood from the heart to the lu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stemic circ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he left side of the heart pumps blood to the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ection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28600" y="1905120"/>
            <a:ext cx="8502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gen diffuses from the alveolus into the blood bec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poo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od entering the capillaries of the lungs is oxygen-ric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more carbon dioxide than oxyge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 entering the lungs has less oxygen than is found in the bloo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838080" y="2895480"/>
            <a:ext cx="7731360" cy="7621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A"/>
          <p:cNvPicPr/>
          <p:nvPr/>
        </p:nvPicPr>
        <p:blipFill>
          <a:blip r:embed="rId1"/>
          <a:stretch/>
        </p:blipFill>
        <p:spPr>
          <a:xfrm>
            <a:off x="192240" y="299232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913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bio_ch37_4072"/>
          <p:cNvPicPr/>
          <p:nvPr/>
        </p:nvPicPr>
        <p:blipFill>
          <a:blip r:embed="rId1"/>
          <a:stretch/>
        </p:blipFill>
        <p:spPr>
          <a:xfrm>
            <a:off x="2895480" y="1905120"/>
            <a:ext cx="3154320" cy="4228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2235240" y="1787400"/>
            <a:ext cx="4172040" cy="4680000"/>
            <a:chOff x="2235240" y="1787400"/>
            <a:chExt cx="4172040" cy="4680000"/>
          </a:xfrm>
        </p:grpSpPr>
        <p:sp>
          <p:nvSpPr>
            <p:cNvPr id="123" name="Text Box 6"/>
            <p:cNvSpPr/>
            <p:nvPr/>
          </p:nvSpPr>
          <p:spPr>
            <a:xfrm>
              <a:off x="2311560" y="1787400"/>
              <a:ext cx="142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head and arm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4978440" y="5825880"/>
              <a:ext cx="1428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abdominal organs and leg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2781360" y="4848120"/>
              <a:ext cx="93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3060720" y="4136760"/>
              <a:ext cx="102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vei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235240" y="4352760"/>
              <a:ext cx="112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righ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2540160" y="260028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ior vena ca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4102200" y="267624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r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4915080" y="2612880"/>
              <a:ext cx="104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arter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5295960" y="4340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left lu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37-1 The Circulatory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ood flow through the he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od enters through an a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s the heart contracts, blood flows into the ventricles, and then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lv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laps of connective tissue between the atria and ventricles that keep blood flowing in one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lood flow mov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9:20:39Z</dcterms:created>
  <dc:creator>Mark Coziahr</dc:creator>
  <dc:description/>
  <dc:language>en-US</dc:language>
  <cp:lastModifiedBy>iLLuSioN</cp:lastModifiedBy>
  <dcterms:modified xsi:type="dcterms:W3CDTF">2009-04-27T01:47:13Z</dcterms:modified>
  <cp:revision>105</cp:revision>
  <dc:subject/>
  <dc:title>Chapter 1 Notes</dc:title>
</cp:coreProperties>
</file>