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371D-E5DA-4E6C-B1EE-8C766249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9747-A0A8-4716-ABC1-171C19440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9C69-94BD-48F1-B568-39A500C6D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98BD-6337-4640-BA39-1963C4C2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A975-7608-4A22-94F8-0E727045B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AD2A-CD2F-4950-A864-BF202D39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6E0A-9B96-44EA-A5DE-8224FFCF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59B-4484-469D-944D-582DB9302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1EB0-E0C9-462B-9A00-A0DFA2D3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3174-0A0D-4210-B479-8920E057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134A-9C21-42A1-9FB4-44994BBCE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EFF0-3DF4-4A5C-B3C7-CD4551DB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E417-2B94-43FB-83CF-F567F9A6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2EAE-004F-41D9-ABCE-5B8D8FA66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DE3-9D2D-4784-8388-E4F65EC8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B09-A659-4DCD-B5C0-219B2C15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BDB-195C-4921-A68B-784219C8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CDA8-4BC4-4A9E-8004-E55B1FA1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9849-893C-4597-B1CB-DAB142F1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4C43-C2B0-4880-977F-AE988D51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225-0B92-4D90-AB2C-52C247BB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C2AC-F054-406D-A816-C04C45E1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79F-65EA-4D0F-AE8D-D7EFDE346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C8E2-1F77-4543-905E-132AAE52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23C-3EFB-4708-A7CB-90C75BF5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D12-C677-4A69-B2C5-26B73947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D0F7-754E-45BC-93B5-7CCB193F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A7E3-3E80-4324-B22D-8D190DD6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ACA9-8F7D-467E-B61D-BFEE9806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3276-1E68-408D-98AC-6BF90BB6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5BC1-DCFC-46C7-AD29-09C9100F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C0E-EBFD-4ED9-8687-A0E83032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57C-5301-4AF5-93C2-2B793E21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3E7-3C43-439D-BBB9-F4B6CDEF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651-66EE-4A36-B64B-12C147A3A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1BA-DBB0-4F8A-9E3D-9E86A8F1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E98C-54CA-4FD1-AD38-6B9F9EB1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8721-B0B8-4358-B4D3-DDDF7DD3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672-CDAF-4C01-B5B4-949D9667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800B-4CF9-41CF-AD43-D385DDB4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9DF-CD9D-4D95-92BD-34A4FA76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D3BF-FBD7-4F78-B3EE-938C8D11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10F-26D7-4EC3-8068-F32A8E50E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9E1B-742C-4B36-8EE8-5B0B6816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3EC-9CFF-4D6C-97BF-45A16D1F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E556-25D8-4803-A350-81FC4F00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A1B-562C-4576-8702-EC43FDBF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729-6230-4A05-8B65-19F1C269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A29-7B3C-479B-A5CF-0B96F632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76F4-348F-4CE3-B189-BD24AE5BE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B58-39A5-403A-884C-F183F32E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A79-6E13-4CFC-9952-F689A424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571-92E2-473C-8FAE-6C746A1A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F1A-54A2-4BC4-A4F0-2563C143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1D91-CE6E-42D9-A50A-B2CF82CB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CCB7-3953-4C96-BC3C-E8D5D06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570D-AE24-4C47-8D35-94CAECDF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F63-77E4-4191-80D5-FAA83E8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EE68-2790-487C-B4FB-0D90AB38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F0E-D06D-4D0D-9E68-BD73916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7FA0-F23B-4EF9-8796-FABF6B2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C30-D48D-46FD-A0C6-2CA5CA2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5A48-0329-4D13-BE5F-DC087D5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F32-F945-4EC5-92E6-3A756BA3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24BA-A292-4855-B93C-DFE6CC3A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A0FA-47DC-4CA2-A340-91CDB87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3D0E-8A56-4D29-9FCD-CDFEC7B0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206-B9AE-4A81-8CC8-8BC84322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83F-89B4-4E4E-B90E-C1A1284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ABB-95F1-4A73-9F7D-23C1BC56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96A-37AE-4C15-A1BB-DB5E825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98A-8300-4603-9FBD-D85EE48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3C9-13BC-4B77-ACA9-9FAE822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CA0-2CF0-49EA-A8EE-E88CDE8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C61F-09E4-471D-A47E-373F5A109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FAD-C7AC-4ADB-BFB8-9020368B9D8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D:/chapter37/section03/Resources/Movies/vahumanr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3&amp;fuseaction=home.gotoWebCode&amp;x=0&amp;y=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1&amp;fuseaction=home.gotoWebCode&amp;x=12&amp;y=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chapter37/section01/Resources/Movies/vahumanc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iology 10 Chapter 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irculatory and Respiratory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b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contraction begins in a small group of muscle cells in the right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s are called the sinoatrial node (SA node) 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em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the atria contracts, blood flows into the ventricles; when the ventricles contract, blood exits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13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103400" y="32637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7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2975040" y="3335400"/>
            <a:ext cx="987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5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081080" y="4449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9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3"/>
          <p:cNvPicPr/>
          <p:nvPr/>
        </p:nvPicPr>
        <p:blipFill>
          <a:blip r:embed="rId4"/>
          <a:stretch/>
        </p:blipFill>
        <p:spPr>
          <a:xfrm>
            <a:off x="4629240" y="4513320"/>
            <a:ext cx="1406520" cy="1036440"/>
          </a:xfrm>
          <a:prstGeom prst="rect">
            <a:avLst/>
          </a:prstGeom>
          <a:ln w="0">
            <a:noFill/>
          </a:ln>
        </p:spPr>
      </p:pic>
      <p:sp>
        <p:nvSpPr>
          <p:cNvPr id="153" name="Line 12"/>
          <p:cNvSpPr/>
          <p:nvPr/>
        </p:nvSpPr>
        <p:spPr>
          <a:xfrm flipH="1" flipV="1">
            <a:off x="3004920" y="4714920"/>
            <a:ext cx="152388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or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 that blood leaves the heart from to transport oxygen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s blood flows through the circulatory system, it moves through three types of blood vessels- arteries, capillaries, and v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s that carry blood from the heart to the tissues of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mallest blood vessels; they have thin walls that allow for the transport of nutrients, gasses, and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lood vessels that returns deoxygenated blood to the heart; contain one-way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es the force of the blood on the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wo numbers (systolic and diastolic pressures); 120/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bio_ch37_4076"/>
          <p:cNvPicPr/>
          <p:nvPr/>
        </p:nvPicPr>
        <p:blipFill>
          <a:blip r:embed="rId1"/>
          <a:stretch/>
        </p:blipFill>
        <p:spPr>
          <a:xfrm>
            <a:off x="1219320" y="2743200"/>
            <a:ext cx="6700680" cy="3319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500720" y="2863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258840" y="2889360"/>
            <a:ext cx="8636040" cy="3286080"/>
            <a:chOff x="258840" y="2889360"/>
            <a:chExt cx="8636040" cy="3286080"/>
          </a:xfrm>
        </p:grpSpPr>
        <p:sp>
          <p:nvSpPr>
            <p:cNvPr id="165" name="Text Box 7"/>
            <p:cNvSpPr/>
            <p:nvPr/>
          </p:nvSpPr>
          <p:spPr>
            <a:xfrm>
              <a:off x="258840" y="48830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910640" y="436212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98520" y="540360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726320" y="498456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39720" y="58989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243920" y="555588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418440" y="58734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80528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u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519280" y="28893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208764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rio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Text Box 17"/>
          <p:cNvSpPr/>
          <p:nvPr/>
        </p:nvSpPr>
        <p:spPr>
          <a:xfrm>
            <a:off x="6189840" y="23814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49200" y="24192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5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orders of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hen fatty deposits called plaques build on the walls of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bstruct the flow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ces the heart to work harder; may cause a heart attack or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s composed of a small number of cells do not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and nutrients can diffuse across cell membr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organisms cannot rely on dif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y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82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f arteries become blocked, part of the heart may die from a lack of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clots get stuck in the blood vessels leading to parts of the brain; also caused by an artery bursting in 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yer of muscle in the heart that pumps blood through the circulatory system is called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card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A"/>
          <p:cNvPicPr/>
          <p:nvPr/>
        </p:nvPicPr>
        <p:blipFill>
          <a:blip r:embed="rId1"/>
          <a:stretch/>
        </p:blipFill>
        <p:spPr>
          <a:xfrm>
            <a:off x="22860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-poor blood from the body enters the heart through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66680" y="3733920"/>
            <a:ext cx="773136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A"/>
          <p:cNvPicPr/>
          <p:nvPr/>
        </p:nvPicPr>
        <p:blipFill>
          <a:blip r:embed="rId1"/>
          <a:stretch/>
        </p:blipFill>
        <p:spPr>
          <a:xfrm>
            <a:off x="380880" y="365760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herosclerosis is a condition in whi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cells die from a lack of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que builds up along the walls of the arter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pressure is too hi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rt stops pump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2819520"/>
            <a:ext cx="7731360" cy="5331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1905120"/>
            <a:ext cx="8502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in that brings oxygen-poor blood from the upper part of the body to the right atrium i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41911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6" descr="A"/>
          <p:cNvPicPr/>
          <p:nvPr/>
        </p:nvPicPr>
        <p:blipFill>
          <a:blip r:embed="rId1"/>
          <a:stretch/>
        </p:blipFill>
        <p:spPr>
          <a:xfrm>
            <a:off x="228600" y="41148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nective tissue that contains both dissolved substances and specialize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llects oxygen from the lungs, nutrients from the digestive tract, and waste products from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uman body contains 4 to 6 liters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5% ar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55% is blood plas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out 90% water and 10% gases, salts, nutrients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sma prot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proteins are divided into three groups: albumins, globulins, and fibrin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bumins and globulins transport sub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brinogen clots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" y="144792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854360" y="57387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460840"/>
            <a:ext cx="82551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79280" y="5764320"/>
            <a:ext cx="17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038400" y="576108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laced in Centrifu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66200" y="335124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686720" y="38592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677000" y="4381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680240" y="50655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4" descr="2"/>
          <p:cNvPicPr/>
          <p:nvPr/>
        </p:nvPicPr>
        <p:blipFill>
          <a:blip r:embed="rId1"/>
          <a:stretch/>
        </p:blipFill>
        <p:spPr>
          <a:xfrm>
            <a:off x="1992240" y="2616120"/>
            <a:ext cx="43131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3"/>
          <p:cNvPicPr/>
          <p:nvPr/>
        </p:nvPicPr>
        <p:blipFill>
          <a:blip r:embed="rId2"/>
          <a:stretch/>
        </p:blipFill>
        <p:spPr>
          <a:xfrm>
            <a:off x="517680" y="2422440"/>
            <a:ext cx="664920" cy="333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1"/>
          <p:cNvPicPr/>
          <p:nvPr/>
        </p:nvPicPr>
        <p:blipFill>
          <a:blip r:embed="rId3"/>
          <a:stretch/>
        </p:blipFill>
        <p:spPr>
          <a:xfrm>
            <a:off x="6816600" y="2444760"/>
            <a:ext cx="627120" cy="3360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7"/>
          <p:cNvSpPr/>
          <p:nvPr/>
        </p:nvSpPr>
        <p:spPr>
          <a:xfrm>
            <a:off x="7296120" y="4037040"/>
            <a:ext cx="446040" cy="54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296120" y="4621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238880" y="5295960"/>
            <a:ext cx="49392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0" descr="GREENARROW"/>
          <p:cNvPicPr/>
          <p:nvPr/>
        </p:nvPicPr>
        <p:blipFill>
          <a:blip r:embed="rId4"/>
          <a:stretch/>
        </p:blipFill>
        <p:spPr>
          <a:xfrm>
            <a:off x="2536920" y="2635200"/>
            <a:ext cx="3303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Line 21"/>
          <p:cNvSpPr/>
          <p:nvPr/>
        </p:nvSpPr>
        <p:spPr>
          <a:xfrm>
            <a:off x="7224840" y="355284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22" descr="BLUE"/>
          <p:cNvPicPr/>
          <p:nvPr/>
        </p:nvPicPr>
        <p:blipFill>
          <a:blip r:embed="rId5"/>
          <a:stretch/>
        </p:blipFill>
        <p:spPr>
          <a:xfrm>
            <a:off x="1357200" y="3316320"/>
            <a:ext cx="1171800" cy="9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BLUE"/>
          <p:cNvPicPr/>
          <p:nvPr/>
        </p:nvPicPr>
        <p:blipFill>
          <a:blip r:embed="rId6"/>
          <a:stretch/>
        </p:blipFill>
        <p:spPr>
          <a:xfrm>
            <a:off x="5608800" y="3301920"/>
            <a:ext cx="1171440" cy="957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4"/>
          <p:cNvSpPr/>
          <p:nvPr/>
        </p:nvSpPr>
        <p:spPr>
          <a:xfrm>
            <a:off x="6149880" y="5762520"/>
            <a:ext cx="22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Sample That Has Been Centrifu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uman circulatory system consists of the heart, a series of blood vessels, and the blood that flows through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mposed almost entirely of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bout the size of a f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closed in a protective sac of tissue called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icar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llular portion of blood consists of red blood cells, white blood cells, an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 Blood Cells (R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erythr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ansport oxyge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ron-containing protein that binds to oxygen; make cells 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BC are produced in the red bone m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ve around 4 months (120 da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91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te blood cells (W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leuk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ack foreign substances or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n live for several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gocy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gulf and digest foreign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clotting is made possible by plasma proteins and cell fragments calle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latelets contact blood vessels; their surfaces become sticky; several group around a w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4" descr="bio_ch37_4080"/>
          <p:cNvPicPr/>
          <p:nvPr/>
        </p:nvPicPr>
        <p:blipFill>
          <a:blip r:embed="rId1"/>
          <a:stretch/>
        </p:blipFill>
        <p:spPr>
          <a:xfrm>
            <a:off x="838080" y="2362320"/>
            <a:ext cx="7382160" cy="21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93720" y="459432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602160" y="4594320"/>
            <a:ext cx="215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459480" y="459432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54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atic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network of vessels called the lymphatic system collects the fluid that is lost by the blood and returns it to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uid that collects in capillaries and flows to larger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15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sma protein that responsible for blood clotting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ino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ul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glob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A"/>
          <p:cNvPicPr/>
          <p:nvPr/>
        </p:nvPicPr>
        <p:blipFill>
          <a:blip r:embed="rId1"/>
          <a:stretch/>
        </p:blipFill>
        <p:spPr>
          <a:xfrm>
            <a:off x="30492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ide the walls of the heart is a thick layer of muscle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ocar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tractions pump blood throug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heart contracts about 72 times a minute, pumping about 70 ml of blood with each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lood cells that engulf and digest foreign cells are known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mb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99072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6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cells that do not have nuclei and are produced by the red bone marrow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mph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7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platelet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 red blood cells in carrying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 viruses and bacter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the blood clotting proces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apillaries open so blood can flow freely throu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33526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7" descr="A"/>
          <p:cNvPicPr/>
          <p:nvPr/>
        </p:nvPicPr>
        <p:blipFill>
          <a:blip r:embed="rId1"/>
          <a:stretch/>
        </p:blipFill>
        <p:spPr>
          <a:xfrm>
            <a:off x="228600" y="32767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lymph nod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 bacteria and viruses that cause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e new red and white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f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14400" y="2438280"/>
            <a:ext cx="7731000" cy="4939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6" descr="A"/>
          <p:cNvPicPr/>
          <p:nvPr/>
        </p:nvPicPr>
        <p:blipFill>
          <a:blip r:embed="rId1"/>
          <a:stretch/>
        </p:blipFill>
        <p:spPr>
          <a:xfrm>
            <a:off x="228600" y="236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” is used in biology in two different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ular respiration: the release of energy from food w/ oxygen; makes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iration: the process of exchanging oxygen and carbon diox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b of the respiratory system is to exchange oxygen and carbon diox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respiratory system consists of the nose, pharynx, larynx, trachea, bronchi, and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piration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7" descr="sb4083a04"/>
          <p:cNvPicPr/>
          <p:nvPr/>
        </p:nvPicPr>
        <p:blipFill>
          <a:blip r:embed="rId1"/>
          <a:stretch/>
        </p:blipFill>
        <p:spPr>
          <a:xfrm>
            <a:off x="2598840" y="1860480"/>
            <a:ext cx="3498840" cy="502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354400" y="2906640"/>
            <a:ext cx="5317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74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glott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681520" y="2209680"/>
            <a:ext cx="4381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334120" y="27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e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54400" y="1846440"/>
            <a:ext cx="29052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4382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73600" y="1530360"/>
            <a:ext cx="48744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34120" y="20574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5657760" y="1884240"/>
            <a:ext cx="47628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334120" y="236232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5257800" y="304812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g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6386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u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325600" y="2324160"/>
            <a:ext cx="38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20968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23"/>
          <p:cNvSpPr/>
          <p:nvPr/>
        </p:nvSpPr>
        <p:spPr>
          <a:xfrm flipH="1">
            <a:off x="3123720" y="2133720"/>
            <a:ext cx="21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4"/>
          <p:cNvSpPr/>
          <p:nvPr/>
        </p:nvSpPr>
        <p:spPr>
          <a:xfrm flipH="1">
            <a:off x="3124080" y="2590920"/>
            <a:ext cx="27936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5"/>
          <p:cNvSpPr/>
          <p:nvPr/>
        </p:nvSpPr>
        <p:spPr>
          <a:xfrm flipH="1">
            <a:off x="3276720" y="2895480"/>
            <a:ext cx="7999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 flipV="1">
            <a:off x="4038480" y="2286000"/>
            <a:ext cx="126864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7"/>
          <p:cNvSpPr/>
          <p:nvPr/>
        </p:nvSpPr>
        <p:spPr>
          <a:xfrm flipV="1">
            <a:off x="4114800" y="2514600"/>
            <a:ext cx="11811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4267080" y="2895480"/>
            <a:ext cx="10717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9"/>
          <p:cNvSpPr/>
          <p:nvPr/>
        </p:nvSpPr>
        <p:spPr>
          <a:xfrm flipV="1">
            <a:off x="4572000" y="3352680"/>
            <a:ext cx="76500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4419720" y="3580920"/>
            <a:ext cx="119376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3526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6172200" y="3886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4952880" y="4114440"/>
            <a:ext cx="124488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5029200" y="4114440"/>
            <a:ext cx="11905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35"/>
          <p:cNvSpPr/>
          <p:nvPr/>
        </p:nvSpPr>
        <p:spPr>
          <a:xfrm flipH="1">
            <a:off x="4647960" y="6172200"/>
            <a:ext cx="16020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way of 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through the nose to a tube at the back of the mouth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thr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ves as a passageway for ai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from the pharynx to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he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windp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ch contain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cal ch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through the trachea into two passageway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bronchus leads to a 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 branch into bronchi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oles subdivide until they reach millions of tiny air sac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ve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veoli are clustered into group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resemble bunches of gra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alveoli are the location of 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t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wall that divides the right side of the heart from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vents the mixing of oxygen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and oxygen-rich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n each side of the septum are two cha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r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upper cham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ceives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1" name="Picture 19" descr="p957-grapes"/>
          <p:cNvPicPr/>
          <p:nvPr/>
        </p:nvPicPr>
        <p:blipFill>
          <a:blip r:embed="rId1"/>
          <a:stretch/>
        </p:blipFill>
        <p:spPr>
          <a:xfrm>
            <a:off x="3048120" y="1828800"/>
            <a:ext cx="3508200" cy="5029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0"/>
          <p:cNvSpPr/>
          <p:nvPr/>
        </p:nvSpPr>
        <p:spPr>
          <a:xfrm>
            <a:off x="6043680" y="2003400"/>
            <a:ext cx="49356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970600" y="21938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425680" y="3408480"/>
            <a:ext cx="8794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2057400" y="33973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3622320" y="3170160"/>
            <a:ext cx="530280" cy="35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543640" y="2570040"/>
            <a:ext cx="711000" cy="1235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13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dissolves on the surface of the alveoli and then diffuses across capillaries into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rbon dioxide diffuses in the opposit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Picture 6" descr="GAS"/>
          <p:cNvPicPr/>
          <p:nvPr/>
        </p:nvPicPr>
        <p:blipFill>
          <a:blip r:embed="rId1"/>
          <a:stretch/>
        </p:blipFill>
        <p:spPr>
          <a:xfrm>
            <a:off x="2819520" y="1828800"/>
            <a:ext cx="3698640" cy="462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RED"/>
          <p:cNvPicPr/>
          <p:nvPr/>
        </p:nvPicPr>
        <p:blipFill>
          <a:blip r:embed="rId2"/>
          <a:stretch/>
        </p:blipFill>
        <p:spPr>
          <a:xfrm>
            <a:off x="3657600" y="2347920"/>
            <a:ext cx="176832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312408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4452480" y="5929200"/>
            <a:ext cx="75420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49756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Picture 4" descr="GAS"/>
          <p:cNvPicPr/>
          <p:nvPr/>
        </p:nvPicPr>
        <p:blipFill>
          <a:blip r:embed="rId1"/>
          <a:stretch/>
        </p:blipFill>
        <p:spPr>
          <a:xfrm>
            <a:off x="2743200" y="1828800"/>
            <a:ext cx="3699000" cy="4622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BLUE2"/>
          <p:cNvPicPr/>
          <p:nvPr/>
        </p:nvPicPr>
        <p:blipFill>
          <a:blip r:embed="rId2"/>
          <a:stretch/>
        </p:blipFill>
        <p:spPr>
          <a:xfrm>
            <a:off x="4373640" y="3645000"/>
            <a:ext cx="1506600" cy="1376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RED"/>
          <p:cNvPicPr/>
          <p:nvPr/>
        </p:nvPicPr>
        <p:blipFill>
          <a:blip r:embed="rId3"/>
          <a:stretch/>
        </p:blipFill>
        <p:spPr>
          <a:xfrm>
            <a:off x="3581280" y="2347920"/>
            <a:ext cx="17686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97180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H="1">
            <a:off x="4376880" y="5929200"/>
            <a:ext cx="7538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2124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506920" y="3200400"/>
            <a:ext cx="8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lungs are located inside the chest cavity.  At the bottom of the cavity i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inhale, the diaphrag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exhale, the diaphragm rela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reathing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3" descr="bio_ch37_4085"/>
          <p:cNvPicPr/>
          <p:nvPr/>
        </p:nvPicPr>
        <p:blipFill>
          <a:blip r:embed="rId1"/>
          <a:stretch/>
        </p:blipFill>
        <p:spPr>
          <a:xfrm>
            <a:off x="1447920" y="1981080"/>
            <a:ext cx="6591240" cy="361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4"/>
          <p:cNvSpPr/>
          <p:nvPr/>
        </p:nvSpPr>
        <p:spPr>
          <a:xfrm>
            <a:off x="949320" y="2259000"/>
            <a:ext cx="6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808920" y="43038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746280" y="345276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ri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97360" y="2182680"/>
            <a:ext cx="77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ex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745880" y="4125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70280" y="327492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desc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078280" y="5614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003000" y="5614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passes through the trachea into two large passageways in the chest cavity known as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veol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iglotti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6680" y="2895480"/>
            <a:ext cx="773136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the cilia lining the respiratory surfac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amount of oxygen and carbon dioxide exchanged in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 the opening of the trachea when you swallow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air in and out of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eep trapped particles and mucus away from the lung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4400" y="5334120"/>
            <a:ext cx="7731000" cy="90144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A"/>
          <p:cNvPicPr/>
          <p:nvPr/>
        </p:nvPicPr>
        <p:blipFill>
          <a:blip r:embed="rId1"/>
          <a:stretch/>
        </p:blipFill>
        <p:spPr>
          <a:xfrm>
            <a:off x="228600" y="5486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ric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lower chambe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mps blood out of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art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rculatio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monary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right side of the heart pumps blood from the heart to the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ic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left side of the heart pumps blood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 diffuses from the alveolus into the bloo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poo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ri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more carbon dioxide than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less oxygen than is found in the bloo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38080" y="2895480"/>
            <a:ext cx="7731360" cy="7621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A"/>
          <p:cNvPicPr/>
          <p:nvPr/>
        </p:nvPicPr>
        <p:blipFill>
          <a:blip r:embed="rId1"/>
          <a:stretch/>
        </p:blipFill>
        <p:spPr>
          <a:xfrm>
            <a:off x="192240" y="299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bio_ch37_4072"/>
          <p:cNvPicPr/>
          <p:nvPr/>
        </p:nvPicPr>
        <p:blipFill>
          <a:blip r:embed="rId1"/>
          <a:stretch/>
        </p:blipFill>
        <p:spPr>
          <a:xfrm>
            <a:off x="2895480" y="1905120"/>
            <a:ext cx="3154320" cy="4228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2235240" y="1787400"/>
            <a:ext cx="4172040" cy="4680000"/>
            <a:chOff x="2235240" y="1787400"/>
            <a:chExt cx="4172040" cy="4680000"/>
          </a:xfrm>
        </p:grpSpPr>
        <p:sp>
          <p:nvSpPr>
            <p:cNvPr id="123" name="Text Box 6"/>
            <p:cNvSpPr/>
            <p:nvPr/>
          </p:nvSpPr>
          <p:spPr>
            <a:xfrm>
              <a:off x="2311560" y="178740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4978440" y="5825880"/>
              <a:ext cx="142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2781360" y="484812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60720" y="4136760"/>
              <a:ext cx="102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35240" y="435276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40160" y="260028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102200" y="267624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915080" y="2612880"/>
              <a:ext cx="104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5295960" y="4340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flow through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enters through an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s the heart contracts, blood flows into the ventricles, and then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aps of connective tissue between the atria and ventricles that keep blood flowing in on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lood flow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9:20:39Z</dcterms:created>
  <dc:creator>Mark Coziahr</dc:creator>
  <dc:description/>
  <dc:language>en-US</dc:language>
  <cp:lastModifiedBy>iLLuSioN</cp:lastModifiedBy>
  <dcterms:modified xsi:type="dcterms:W3CDTF">2009-04-27T01:47:13Z</dcterms:modified>
  <cp:revision>105</cp:revision>
  <dc:subject/>
  <dc:title>Chapter 1 Notes</dc:title>
</cp:coreProperties>
</file>