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5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C1E2-B533-4C1D-B177-FE423DEFC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2DAF-2AC7-41EA-B0EA-149FEE424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256E-8662-4338-8D51-C1C84345E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D03D-A806-4FC7-848C-7305D8F90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91E0-FC2B-435C-9B21-87470BE57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F9AF-0838-4FFF-968A-4B96F25A3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D82C-27D4-4979-B20E-71585F570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75B6-AFEA-4B61-BD33-EE398F36F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D11A-F656-420E-840E-BC80290F0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69DA-495E-4E79-8AB0-6287CA988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13A0-B276-4050-B013-B55CC89E5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7B81-39CE-4A8B-BD47-4D6A25533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7ADA-59E4-47E6-96D3-A726AB00F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EA87-5EA4-4DA9-AFE1-F258C1F14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C27A-43E5-4970-A086-69EFE392B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E03E-C501-4823-8491-0255847A8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3254-EEC6-407C-BADA-AE1511F90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F863-937A-4924-88B5-760B0E2CA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17A8-DA89-4A4C-AFB7-C295B8236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4676-2621-49C5-B295-60A65744F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43CA-B85A-4DC2-820B-B7D0255F4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54CA-154E-432D-A1DC-9DFD424BC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4E99-4D2D-48FA-B8C0-EAE85FA40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A72D-289B-48A1-85D1-1CECDDF97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4961-2D40-4413-B10E-CA7F104BA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F38F-7356-4FB4-AF7C-A71270A76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6035-8CD2-49FC-8C8A-B01C4A299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66A8-AE64-4932-9835-42EC4049A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2C44-D2EE-474C-9732-82BA9E412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727F-0190-4036-80C7-49EA52497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9CBB-8A4E-4D3C-B31B-2312FF107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D8B3-FF5E-4632-9ABC-FA57D3ABE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4181-FAD6-464F-9FDF-8741CAA29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1EE3-92B2-4F06-BED9-814F7BA73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6D82-B53F-413C-A563-504F0F792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D8CA-A15A-4424-811D-ABA9BAE1E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FC8E-5A27-4E5D-A872-9055CEE4D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29E2-67F3-4399-8A66-9FD62D193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E201-9474-49DE-A6C3-A32858258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0327-B1E9-4832-8EF2-722D72AAA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6310-6DB4-4CE6-91ED-CF8FFE67F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6D37-15EF-4E1D-A2A1-EE1BE93A2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183A-CA3A-49DA-801B-1F6FDA84D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219D-22C7-430E-A39F-12921758E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CCC6-2C9C-4743-92F0-1B721F44A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BF66-8C56-4C36-840D-94DBBEDDC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626F-71D9-45F1-ADB5-9CE4E7BFC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ED7F-AED0-439D-8FD0-6B1531C7A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90B0-0540-4C6C-915D-4F0EFC6D5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A13D-1454-477D-9208-556616F97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542-3EFA-4CA1-B1B4-8A20E155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E7E-62DA-4ED3-B5A7-0B97216A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9E0-50D4-4117-A44A-78C51F8D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90D-3818-4196-AD9B-ED59B921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7184-B7A8-45BD-B902-9E59B64D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F0AF-5B51-4E07-97CE-25A32BB5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6D66-59A6-409D-A37A-D8C3B963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E36E-5D25-4956-A2FE-5FADC158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26A0-82E7-42AE-BE9B-6166E332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43C2-A722-4F04-8112-78142AB0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37FB-D659-4D38-9810-780B47D3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1B1A-6E66-4797-9AC6-0432113D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BBE9-830C-4855-A6BE-A78B5CB4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0B94-D743-4131-834E-BD09E933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7D4C-2204-4BA4-A75D-2BD06925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0061-5315-4EA7-84DA-529E0833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B2CA-865C-41BB-B3E7-28175E32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61A-6B34-4D42-910D-0C018A83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593A-D4B8-4FC2-AC71-7D0F6282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B78-2BBB-4E0B-AE6B-67D0D3FB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324-D0C8-4900-8949-60449D80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C85-D55E-41A3-9A96-BEAAD046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FFB-065B-4AAF-B5E3-BB7F0E6D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054-85E4-473C-8FDB-C0033D97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763F-148F-4DB7-A363-4BE753BAD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21AD-54CB-46D3-A01E-97D3F8F73C1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D:/chapter37/section03/Resources/Movies/vahumanr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phschool.com/webcodes10/index.cfm?wcprefix=cbp&amp;wcsuffix=0373&amp;fuseaction=home.gotoWebCode&amp;x=0&amp;y=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school.com/webcodes10/index.cfm?wcprefix=cbp&amp;wcsuffix=0371&amp;fuseaction=home.gotoWebCode&amp;x=12&amp;y=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D:/chapter37/section01/Resources/Movies/vahumanc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Biology 10 Chapter 3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irculatory and Respiratory System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eartbe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ach contraction begins in a small group of muscle cells in the right a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ells are called the sinoatrial node (SA node) or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cema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en the atria contracts, blood flows into the ventricles; when the ventricles contract, blood exits 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13" descr="HEART2"/>
          <p:cNvPicPr/>
          <p:nvPr/>
        </p:nvPicPr>
        <p:blipFill>
          <a:blip r:embed="rId1"/>
          <a:stretch/>
        </p:blipFill>
        <p:spPr>
          <a:xfrm>
            <a:off x="2878200" y="1878120"/>
            <a:ext cx="4181400" cy="46893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6618240" y="2014560"/>
            <a:ext cx="857160" cy="4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1103400" y="326376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oatrial (SA)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6211800" y="3571920"/>
            <a:ext cx="27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ucting f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17" descr="1"/>
          <p:cNvPicPr/>
          <p:nvPr/>
        </p:nvPicPr>
        <p:blipFill>
          <a:blip r:embed="rId2"/>
          <a:stretch/>
        </p:blipFill>
        <p:spPr>
          <a:xfrm>
            <a:off x="3770280" y="3833640"/>
            <a:ext cx="1049400" cy="97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2"/>
          <p:cNvPicPr/>
          <p:nvPr/>
        </p:nvPicPr>
        <p:blipFill>
          <a:blip r:embed="rId3"/>
          <a:stretch/>
        </p:blipFill>
        <p:spPr>
          <a:xfrm>
            <a:off x="3652920" y="4062240"/>
            <a:ext cx="900000" cy="1575000"/>
          </a:xfrm>
          <a:prstGeom prst="rect">
            <a:avLst/>
          </a:prstGeom>
          <a:ln w="0">
            <a:noFill/>
          </a:ln>
        </p:spPr>
      </p:pic>
      <p:sp>
        <p:nvSpPr>
          <p:cNvPr id="143" name="Line 19"/>
          <p:cNvSpPr/>
          <p:nvPr/>
        </p:nvSpPr>
        <p:spPr>
          <a:xfrm>
            <a:off x="2975040" y="3335400"/>
            <a:ext cx="9874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Freeform 20"/>
          <p:cNvSpPr/>
          <p:nvPr/>
        </p:nvSpPr>
        <p:spPr>
          <a:xfrm>
            <a:off x="5342040" y="3902040"/>
            <a:ext cx="1434960" cy="1320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5" descr="HEART2"/>
          <p:cNvPicPr/>
          <p:nvPr/>
        </p:nvPicPr>
        <p:blipFill>
          <a:blip r:embed="rId1"/>
          <a:stretch/>
        </p:blipFill>
        <p:spPr>
          <a:xfrm>
            <a:off x="2878200" y="1878120"/>
            <a:ext cx="4181400" cy="4689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6618240" y="2014560"/>
            <a:ext cx="857160" cy="4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211800" y="3571920"/>
            <a:ext cx="27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ucting f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081080" y="444960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rioventricular (AV)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9" descr="1"/>
          <p:cNvPicPr/>
          <p:nvPr/>
        </p:nvPicPr>
        <p:blipFill>
          <a:blip r:embed="rId2"/>
          <a:stretch/>
        </p:blipFill>
        <p:spPr>
          <a:xfrm>
            <a:off x="3770280" y="3833640"/>
            <a:ext cx="1049400" cy="978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2"/>
          <p:cNvPicPr/>
          <p:nvPr/>
        </p:nvPicPr>
        <p:blipFill>
          <a:blip r:embed="rId3"/>
          <a:stretch/>
        </p:blipFill>
        <p:spPr>
          <a:xfrm>
            <a:off x="3652920" y="4062240"/>
            <a:ext cx="900000" cy="157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3"/>
          <p:cNvPicPr/>
          <p:nvPr/>
        </p:nvPicPr>
        <p:blipFill>
          <a:blip r:embed="rId4"/>
          <a:stretch/>
        </p:blipFill>
        <p:spPr>
          <a:xfrm>
            <a:off x="4629240" y="4513320"/>
            <a:ext cx="1406520" cy="1036440"/>
          </a:xfrm>
          <a:prstGeom prst="rect">
            <a:avLst/>
          </a:prstGeom>
          <a:ln w="0">
            <a:noFill/>
          </a:ln>
        </p:spPr>
      </p:pic>
      <p:sp>
        <p:nvSpPr>
          <p:cNvPr id="153" name="Line 12"/>
          <p:cNvSpPr/>
          <p:nvPr/>
        </p:nvSpPr>
        <p:spPr>
          <a:xfrm flipH="1" flipV="1">
            <a:off x="3004920" y="4714920"/>
            <a:ext cx="1523880" cy="20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Freeform 13"/>
          <p:cNvSpPr/>
          <p:nvPr/>
        </p:nvSpPr>
        <p:spPr>
          <a:xfrm>
            <a:off x="5342040" y="3902040"/>
            <a:ext cx="1434960" cy="1320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Vess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ort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arge vessel that blood leaves the heart from to transport oxygen to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s blood flows through the circulatory system, it moves through three types of blood vessels- arteries, capillaries, and ve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rter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arge vessels that carry blood from the heart to the tissues of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illar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mallest blood vessels; they have thin walls that allow for the transport of nutrients, gasses, and wa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i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blood vessels that returns deoxygenated blood to the heart; contain one-way val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measures the force of the blood on the art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wo numbers (systolic and diastolic pressures); 120/8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4" descr="bio_ch37_4076"/>
          <p:cNvPicPr/>
          <p:nvPr/>
        </p:nvPicPr>
        <p:blipFill>
          <a:blip r:embed="rId1"/>
          <a:stretch/>
        </p:blipFill>
        <p:spPr>
          <a:xfrm>
            <a:off x="1219320" y="2743200"/>
            <a:ext cx="6700680" cy="3319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4500720" y="28638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Group 6"/>
          <p:cNvGrpSpPr/>
          <p:nvPr/>
        </p:nvGrpSpPr>
        <p:grpSpPr>
          <a:xfrm>
            <a:off x="258840" y="2889360"/>
            <a:ext cx="8636040" cy="3286080"/>
            <a:chOff x="258840" y="2889360"/>
            <a:chExt cx="8636040" cy="3286080"/>
          </a:xfrm>
        </p:grpSpPr>
        <p:sp>
          <p:nvSpPr>
            <p:cNvPr id="165" name="Text Box 7"/>
            <p:cNvSpPr/>
            <p:nvPr/>
          </p:nvSpPr>
          <p:spPr>
            <a:xfrm>
              <a:off x="258840" y="488304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nective tissu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7910640" y="436212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nective tissu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398520" y="540360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ooth musc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726320" y="498456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ooth musc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39720" y="589896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thelium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7243920" y="555588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thelium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6418440" y="587340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v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4805280" y="34603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nu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Text Box 15"/>
            <p:cNvSpPr/>
            <p:nvPr/>
          </p:nvSpPr>
          <p:spPr>
            <a:xfrm>
              <a:off x="2519280" y="288936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thelium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Text Box 16"/>
            <p:cNvSpPr/>
            <p:nvPr/>
          </p:nvSpPr>
          <p:spPr>
            <a:xfrm>
              <a:off x="2087640" y="34603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terio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5" name="Text Box 17"/>
          <p:cNvSpPr/>
          <p:nvPr/>
        </p:nvSpPr>
        <p:spPr>
          <a:xfrm>
            <a:off x="6189840" y="23814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1249200" y="24192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701064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84582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isorders of the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heroscleros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when fatty deposits called plaques build on the walls of art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bstruct the flow of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igh blood 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forces the heart to work harder; may cause a heart attack or stro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sms composed of a small number of cells do not need a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xygen and nutrients can diffuse across cell membra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r organisms cannot rely on diff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y need a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3822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eart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f arteries become blocked, part of the heart may die from a lack of oxy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tro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blood clots get stuck in the blood vessels leading to parts of the brain; also caused by an artery bursting in the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ayer of muscle in the heart that pumps blood through the circulatory system is called th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ocard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r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ricl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a c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990720" y="327672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7" descr="A"/>
          <p:cNvPicPr/>
          <p:nvPr/>
        </p:nvPicPr>
        <p:blipFill>
          <a:blip r:embed="rId1"/>
          <a:stretch/>
        </p:blipFill>
        <p:spPr>
          <a:xfrm>
            <a:off x="228600" y="32004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80880" y="1905120"/>
            <a:ext cx="85028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ygen-poor blood from the body enters the heart through t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 atr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 ventricl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tr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ventricl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1066680" y="3733920"/>
            <a:ext cx="773136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6" descr="A"/>
          <p:cNvPicPr/>
          <p:nvPr/>
        </p:nvPicPr>
        <p:blipFill>
          <a:blip r:embed="rId1"/>
          <a:stretch/>
        </p:blipFill>
        <p:spPr>
          <a:xfrm>
            <a:off x="380880" y="3657600"/>
            <a:ext cx="5828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80880" y="1905120"/>
            <a:ext cx="85028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herosclerosis is a condition in whic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cells die from a lack of oxy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que builds up along the walls of the arteri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pressure is too hig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eart stops pumping bl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066680" y="2819520"/>
            <a:ext cx="7731360" cy="53316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7" descr="A"/>
          <p:cNvPicPr/>
          <p:nvPr/>
        </p:nvPicPr>
        <p:blipFill>
          <a:blip r:embed="rId1"/>
          <a:stretch/>
        </p:blipFill>
        <p:spPr>
          <a:xfrm>
            <a:off x="380880" y="2819520"/>
            <a:ext cx="5828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04920" y="1905120"/>
            <a:ext cx="8502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ein that brings oxygen-poor blood from the upper part of the body to the right atrium is t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monary v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ior vena c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ior vena c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914400" y="419112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6" descr="A"/>
          <p:cNvPicPr/>
          <p:nvPr/>
        </p:nvPicPr>
        <p:blipFill>
          <a:blip r:embed="rId1"/>
          <a:stretch/>
        </p:blipFill>
        <p:spPr>
          <a:xfrm>
            <a:off x="228600" y="41148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nnective tissue that contains both dissolved substances and specialized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llects oxygen from the lungs, nutrients from the digestive tract, and waste products from t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uman body contains 4 to 6 liters of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45% are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55% is blood plas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lasm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bout 90% water and 10% gases, salts, nutrients,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lasma prote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sma proteins are divided into three groups: albumins, globulins, and fibrino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bumins and globulins transport subst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fibrinogen clots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72880" y="1447920"/>
            <a:ext cx="86425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854360" y="5738760"/>
            <a:ext cx="99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5460840"/>
            <a:ext cx="825516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79280" y="5764320"/>
            <a:ext cx="17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 Blood Sa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038400" y="5761080"/>
            <a:ext cx="18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Placed in Centrifu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7666200" y="335124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m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7686720" y="38592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ele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7677000" y="4381560"/>
            <a:ext cx="16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7680240" y="5065560"/>
            <a:ext cx="14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14" descr="2"/>
          <p:cNvPicPr/>
          <p:nvPr/>
        </p:nvPicPr>
        <p:blipFill>
          <a:blip r:embed="rId1"/>
          <a:stretch/>
        </p:blipFill>
        <p:spPr>
          <a:xfrm>
            <a:off x="1992240" y="2616120"/>
            <a:ext cx="4313160" cy="3076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3"/>
          <p:cNvPicPr/>
          <p:nvPr/>
        </p:nvPicPr>
        <p:blipFill>
          <a:blip r:embed="rId2"/>
          <a:stretch/>
        </p:blipFill>
        <p:spPr>
          <a:xfrm>
            <a:off x="517680" y="2422440"/>
            <a:ext cx="664920" cy="3332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1"/>
          <p:cNvPicPr/>
          <p:nvPr/>
        </p:nvPicPr>
        <p:blipFill>
          <a:blip r:embed="rId3"/>
          <a:stretch/>
        </p:blipFill>
        <p:spPr>
          <a:xfrm>
            <a:off x="6816600" y="2444760"/>
            <a:ext cx="627120" cy="3360600"/>
          </a:xfrm>
          <a:prstGeom prst="rect">
            <a:avLst/>
          </a:prstGeom>
          <a:ln w="0">
            <a:noFill/>
          </a:ln>
        </p:spPr>
      </p:pic>
      <p:sp>
        <p:nvSpPr>
          <p:cNvPr id="222" name="Freeform 17"/>
          <p:cNvSpPr/>
          <p:nvPr/>
        </p:nvSpPr>
        <p:spPr>
          <a:xfrm>
            <a:off x="7296120" y="4037040"/>
            <a:ext cx="446040" cy="54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7296120" y="4621320"/>
            <a:ext cx="39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7238880" y="5295960"/>
            <a:ext cx="493920" cy="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20" descr="GREENARROW"/>
          <p:cNvPicPr/>
          <p:nvPr/>
        </p:nvPicPr>
        <p:blipFill>
          <a:blip r:embed="rId4"/>
          <a:stretch/>
        </p:blipFill>
        <p:spPr>
          <a:xfrm>
            <a:off x="2536920" y="2635200"/>
            <a:ext cx="3303360" cy="642960"/>
          </a:xfrm>
          <a:prstGeom prst="rect">
            <a:avLst/>
          </a:prstGeom>
          <a:ln w="0">
            <a:noFill/>
          </a:ln>
        </p:spPr>
      </p:pic>
      <p:sp>
        <p:nvSpPr>
          <p:cNvPr id="226" name="Line 21"/>
          <p:cNvSpPr/>
          <p:nvPr/>
        </p:nvSpPr>
        <p:spPr>
          <a:xfrm>
            <a:off x="7224840" y="3552840"/>
            <a:ext cx="463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Picture 22" descr="BLUE"/>
          <p:cNvPicPr/>
          <p:nvPr/>
        </p:nvPicPr>
        <p:blipFill>
          <a:blip r:embed="rId5"/>
          <a:stretch/>
        </p:blipFill>
        <p:spPr>
          <a:xfrm>
            <a:off x="1357200" y="3316320"/>
            <a:ext cx="1171800" cy="957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3" descr="BLUE"/>
          <p:cNvPicPr/>
          <p:nvPr/>
        </p:nvPicPr>
        <p:blipFill>
          <a:blip r:embed="rId6"/>
          <a:stretch/>
        </p:blipFill>
        <p:spPr>
          <a:xfrm>
            <a:off x="5608800" y="3301920"/>
            <a:ext cx="1171440" cy="9572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4"/>
          <p:cNvSpPr/>
          <p:nvPr/>
        </p:nvSpPr>
        <p:spPr>
          <a:xfrm>
            <a:off x="6149880" y="5762520"/>
            <a:ext cx="223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od Sample That Has Been Centrifug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he human circulatory system consists of the heart, a series of blood vessels, and the blood that flows through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mposed almost entirely of mus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bout the size of a f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nclosed in a protective sac of tissue called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icardiu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lood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ellular portion of blood consists of red blood cells, white blood cells, and plate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d Blood Cells (RB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so called erythroc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ransport oxygen through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moglob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iron-containing protein that binds to oxygen; make cells 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RBC are produced in the red bone mar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ive around 4 months (120 day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391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hite blood cells (WB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so called leukoc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ttack foreign substances or org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an live for several mon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gocy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ngulf and digest foreign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clotting is made possible by plasma proteins and cell fragments called plate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platelets contact blood vessels; their surfaces become sticky; several group around a w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1" name="Picture 4" descr="bio_ch37_4080"/>
          <p:cNvPicPr/>
          <p:nvPr/>
        </p:nvPicPr>
        <p:blipFill>
          <a:blip r:embed="rId1"/>
          <a:stretch/>
        </p:blipFill>
        <p:spPr>
          <a:xfrm>
            <a:off x="838080" y="2362320"/>
            <a:ext cx="7382160" cy="21621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93720" y="4594320"/>
            <a:ext cx="203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 in Capillary W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 injur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3602160" y="4594320"/>
            <a:ext cx="2152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umping of Plate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clump at the site and release thromboplastin. Thromboplastin converts prothrombin into thrombin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6459480" y="4594320"/>
            <a:ext cx="2127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t For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mbin converts fibrinogen into fibrin, which causes a clot. The clot prevents further loss of blood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543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ymphatic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network of vessels called the lymphatic system collects the fluid that is lost by the blood and returns it to the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ymp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luid that collects in capillaries and flows to larger vess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3152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sma protein that responsible for blood clotting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bumi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rino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uli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moglob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990720" y="327672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6" descr="A"/>
          <p:cNvPicPr/>
          <p:nvPr/>
        </p:nvPicPr>
        <p:blipFill>
          <a:blip r:embed="rId1"/>
          <a:stretch/>
        </p:blipFill>
        <p:spPr>
          <a:xfrm>
            <a:off x="304920" y="32004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nside the walls of the heart is a thick layer of muscle called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yocard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ntractions pump blood through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heart contracts about 72 times a minute, pumping about 70 ml of blood with each con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te blood cells that engulf and digest foreign cells are known 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g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elet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bodi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mb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990720" y="28954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6" descr="A"/>
          <p:cNvPicPr/>
          <p:nvPr/>
        </p:nvPicPr>
        <p:blipFill>
          <a:blip r:embed="rId1"/>
          <a:stretch/>
        </p:blipFill>
        <p:spPr>
          <a:xfrm>
            <a:off x="228600" y="28195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od cells that do not have nuclei and are produced by the red bone marrow 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 blood cell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ymph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elet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g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28954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7" descr="A"/>
          <p:cNvPicPr/>
          <p:nvPr/>
        </p:nvPicPr>
        <p:blipFill>
          <a:blip r:embed="rId1"/>
          <a:stretch/>
        </p:blipFill>
        <p:spPr>
          <a:xfrm>
            <a:off x="228600" y="28195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22860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ction of platelets i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st red blood cells in carrying oxy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 viruses and bacteria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e the blood clotting proces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capillaries open so blood can flow freely throug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914400" y="33526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Picture 7" descr="A"/>
          <p:cNvPicPr/>
          <p:nvPr/>
        </p:nvPicPr>
        <p:blipFill>
          <a:blip r:embed="rId1"/>
          <a:stretch/>
        </p:blipFill>
        <p:spPr>
          <a:xfrm>
            <a:off x="228600" y="32767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22860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ction of lymph nodes i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p bacteria and viruses that cause dis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antibodi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e new red and white blood cell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fa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914400" y="2438280"/>
            <a:ext cx="7731000" cy="4939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6" descr="A"/>
          <p:cNvPicPr/>
          <p:nvPr/>
        </p:nvPicPr>
        <p:blipFill>
          <a:blip r:embed="rId1"/>
          <a:stretch/>
        </p:blipFill>
        <p:spPr>
          <a:xfrm>
            <a:off x="228600" y="23623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iration” is used in biology in two different w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ellular respiration: the release of energy from food w/ oxygen; makes A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respiration: the process of exchanging oxygen and carbon dioxi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job of the respiratory system is to exchange oxygen and carbon diox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he respiratory system consists of the nose, pharynx, larynx, trachea, bronchi, and lu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Respiration mov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6" name="Picture 7" descr="sb4083a04"/>
          <p:cNvPicPr/>
          <p:nvPr/>
        </p:nvPicPr>
        <p:blipFill>
          <a:blip r:embed="rId1"/>
          <a:stretch/>
        </p:blipFill>
        <p:spPr>
          <a:xfrm>
            <a:off x="2598840" y="1860480"/>
            <a:ext cx="3498840" cy="50292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8"/>
          <p:cNvSpPr/>
          <p:nvPr/>
        </p:nvSpPr>
        <p:spPr>
          <a:xfrm>
            <a:off x="2354400" y="2906640"/>
            <a:ext cx="531720" cy="16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2057400" y="28954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glott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5681520" y="2209680"/>
            <a:ext cx="438120" cy="16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5334120" y="2743200"/>
            <a:ext cx="11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he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2354400" y="1846440"/>
            <a:ext cx="29052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2438280" y="1905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s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5673600" y="1530360"/>
            <a:ext cx="487440" cy="19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5334120" y="205740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y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16"/>
          <p:cNvSpPr/>
          <p:nvPr/>
        </p:nvSpPr>
        <p:spPr>
          <a:xfrm>
            <a:off x="5657760" y="1884240"/>
            <a:ext cx="47628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5334120" y="236232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y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5257800" y="304812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ng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5638680" y="3352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nchu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2325600" y="2324160"/>
            <a:ext cx="381240" cy="14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220968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23"/>
          <p:cNvSpPr/>
          <p:nvPr/>
        </p:nvSpPr>
        <p:spPr>
          <a:xfrm flipH="1">
            <a:off x="3123720" y="2133720"/>
            <a:ext cx="211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24"/>
          <p:cNvSpPr/>
          <p:nvPr/>
        </p:nvSpPr>
        <p:spPr>
          <a:xfrm flipH="1">
            <a:off x="3124080" y="2590920"/>
            <a:ext cx="27936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25"/>
          <p:cNvSpPr/>
          <p:nvPr/>
        </p:nvSpPr>
        <p:spPr>
          <a:xfrm flipH="1">
            <a:off x="3276720" y="2895480"/>
            <a:ext cx="79992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26"/>
          <p:cNvSpPr/>
          <p:nvPr/>
        </p:nvSpPr>
        <p:spPr>
          <a:xfrm flipV="1">
            <a:off x="4038480" y="2286000"/>
            <a:ext cx="126864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27"/>
          <p:cNvSpPr/>
          <p:nvPr/>
        </p:nvSpPr>
        <p:spPr>
          <a:xfrm flipV="1">
            <a:off x="4114800" y="2514600"/>
            <a:ext cx="1181160" cy="66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28"/>
          <p:cNvSpPr/>
          <p:nvPr/>
        </p:nvSpPr>
        <p:spPr>
          <a:xfrm flipV="1">
            <a:off x="4267080" y="2895480"/>
            <a:ext cx="107172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29"/>
          <p:cNvSpPr/>
          <p:nvPr/>
        </p:nvSpPr>
        <p:spPr>
          <a:xfrm flipV="1">
            <a:off x="4572000" y="3352680"/>
            <a:ext cx="765000" cy="7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Line 30"/>
          <p:cNvSpPr/>
          <p:nvPr/>
        </p:nvSpPr>
        <p:spPr>
          <a:xfrm flipV="1">
            <a:off x="4419720" y="3580920"/>
            <a:ext cx="1193760" cy="11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31"/>
          <p:cNvSpPr/>
          <p:nvPr/>
        </p:nvSpPr>
        <p:spPr>
          <a:xfrm>
            <a:off x="3352680" y="6248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32"/>
          <p:cNvSpPr/>
          <p:nvPr/>
        </p:nvSpPr>
        <p:spPr>
          <a:xfrm>
            <a:off x="6172200" y="38862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nchiol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4952880" y="4114440"/>
            <a:ext cx="124488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5029200" y="4114440"/>
            <a:ext cx="1190520" cy="80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35"/>
          <p:cNvSpPr/>
          <p:nvPr/>
        </p:nvSpPr>
        <p:spPr>
          <a:xfrm flipH="1">
            <a:off x="4647960" y="6172200"/>
            <a:ext cx="16020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athway of  a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moves through the nose to a tube at the back of the mouth called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yn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or thro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erves as a passageway for air a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moves from the pharynx to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ache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or windp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passe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ryn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ich contain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ocal ch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passes through the trachea into two passageways call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ronch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ach bronchus leads to a l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bronchi branch into bronchi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bronchioles subdivide until they reach millions of tiny air sacs call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veo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veoli are clustered into group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resemble bunches of gra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alveoli are the location of gas ex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pt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wall that divides the right side of the heart from the left s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prevents the mixing of oxygen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or and oxygen-rich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n each side of the septum are two cha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ri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upper chamb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receives the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1" name="Picture 19" descr="p957-grapes"/>
          <p:cNvPicPr/>
          <p:nvPr/>
        </p:nvPicPr>
        <p:blipFill>
          <a:blip r:embed="rId1"/>
          <a:stretch/>
        </p:blipFill>
        <p:spPr>
          <a:xfrm>
            <a:off x="3048120" y="1828800"/>
            <a:ext cx="3508200" cy="50292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20"/>
          <p:cNvSpPr/>
          <p:nvPr/>
        </p:nvSpPr>
        <p:spPr>
          <a:xfrm>
            <a:off x="6043680" y="2003400"/>
            <a:ext cx="49356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5970600" y="219384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veol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2425680" y="3408480"/>
            <a:ext cx="8794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2057400" y="33973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nchiol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24"/>
          <p:cNvSpPr/>
          <p:nvPr/>
        </p:nvSpPr>
        <p:spPr>
          <a:xfrm flipH="1">
            <a:off x="3622320" y="3170160"/>
            <a:ext cx="530280" cy="35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Freeform 25"/>
          <p:cNvSpPr/>
          <p:nvPr/>
        </p:nvSpPr>
        <p:spPr>
          <a:xfrm>
            <a:off x="5543640" y="2570040"/>
            <a:ext cx="711000" cy="12351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79132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as Ex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xygen dissolves on the surface of the alveoli and then diffuses across capillaries into the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arbon dioxide diffuses in the opposite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5" name="Picture 6" descr="GAS"/>
          <p:cNvPicPr/>
          <p:nvPr/>
        </p:nvPicPr>
        <p:blipFill>
          <a:blip r:embed="rId1"/>
          <a:stretch/>
        </p:blipFill>
        <p:spPr>
          <a:xfrm>
            <a:off x="2819520" y="1828800"/>
            <a:ext cx="3698640" cy="462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RED"/>
          <p:cNvPicPr/>
          <p:nvPr/>
        </p:nvPicPr>
        <p:blipFill>
          <a:blip r:embed="rId2"/>
          <a:stretch/>
        </p:blipFill>
        <p:spPr>
          <a:xfrm>
            <a:off x="3657600" y="2347920"/>
            <a:ext cx="1768320" cy="1143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3124080" y="640080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9"/>
          <p:cNvSpPr/>
          <p:nvPr/>
        </p:nvSpPr>
        <p:spPr>
          <a:xfrm flipH="1">
            <a:off x="4452480" y="5929200"/>
            <a:ext cx="75420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5497560" y="2147760"/>
            <a:ext cx="190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1" name="Picture 4" descr="GAS"/>
          <p:cNvPicPr/>
          <p:nvPr/>
        </p:nvPicPr>
        <p:blipFill>
          <a:blip r:embed="rId1"/>
          <a:stretch/>
        </p:blipFill>
        <p:spPr>
          <a:xfrm>
            <a:off x="2743200" y="1828800"/>
            <a:ext cx="3699000" cy="46227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BLUE2"/>
          <p:cNvPicPr/>
          <p:nvPr/>
        </p:nvPicPr>
        <p:blipFill>
          <a:blip r:embed="rId2"/>
          <a:stretch/>
        </p:blipFill>
        <p:spPr>
          <a:xfrm>
            <a:off x="4373640" y="3645000"/>
            <a:ext cx="1506600" cy="1376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RED"/>
          <p:cNvPicPr/>
          <p:nvPr/>
        </p:nvPicPr>
        <p:blipFill>
          <a:blip r:embed="rId3"/>
          <a:stretch/>
        </p:blipFill>
        <p:spPr>
          <a:xfrm>
            <a:off x="3581280" y="2347920"/>
            <a:ext cx="1768680" cy="1143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2971800" y="640080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8"/>
          <p:cNvSpPr/>
          <p:nvPr/>
        </p:nvSpPr>
        <p:spPr>
          <a:xfrm flipH="1">
            <a:off x="4376880" y="5929200"/>
            <a:ext cx="75384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5421240" y="2147760"/>
            <a:ext cx="190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506920" y="3200400"/>
            <a:ext cx="87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rea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lungs are located inside the chest cavity.  At the bottom of the cavity is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aphrag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en you inhale, the diaphragm contra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en you exhale, the diaphragm rela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Breathing an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1" name="Picture 13" descr="bio_ch37_4085"/>
          <p:cNvPicPr/>
          <p:nvPr/>
        </p:nvPicPr>
        <p:blipFill>
          <a:blip r:embed="rId1"/>
          <a:stretch/>
        </p:blipFill>
        <p:spPr>
          <a:xfrm>
            <a:off x="1447920" y="1981080"/>
            <a:ext cx="6591240" cy="3618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4"/>
          <p:cNvSpPr/>
          <p:nvPr/>
        </p:nvSpPr>
        <p:spPr>
          <a:xfrm>
            <a:off x="949320" y="2259000"/>
            <a:ext cx="67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hal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808920" y="430380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746280" y="3452760"/>
            <a:ext cx="8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 cage ri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4797360" y="2182680"/>
            <a:ext cx="77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exhal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4745880" y="412596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19"/>
          <p:cNvSpPr/>
          <p:nvPr/>
        </p:nvSpPr>
        <p:spPr>
          <a:xfrm>
            <a:off x="4670280" y="3274920"/>
            <a:ext cx="85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 cage desc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2078280" y="561492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21"/>
          <p:cNvSpPr/>
          <p:nvPr/>
        </p:nvSpPr>
        <p:spPr>
          <a:xfrm>
            <a:off x="6003000" y="561492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380880" y="1905120"/>
            <a:ext cx="85028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 passes through the trachea into two large passageways in the chest cavity known as th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veol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piglotti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io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1066680" y="2895480"/>
            <a:ext cx="773136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" name="Picture 7" descr="A"/>
          <p:cNvPicPr/>
          <p:nvPr/>
        </p:nvPicPr>
        <p:blipFill>
          <a:blip r:embed="rId1"/>
          <a:stretch/>
        </p:blipFill>
        <p:spPr>
          <a:xfrm>
            <a:off x="380880" y="2819520"/>
            <a:ext cx="5828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ction of the cilia lining the respiratory surfaces i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the amount of oxygen and carbon dioxide exchanged in the lung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 the opening of the trachea when you swallow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air in and out of the lung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eep trapped particles and mucus away from the lung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914400" y="5334120"/>
            <a:ext cx="7731000" cy="90144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Picture 6" descr="A"/>
          <p:cNvPicPr/>
          <p:nvPr/>
        </p:nvPicPr>
        <p:blipFill>
          <a:blip r:embed="rId1"/>
          <a:stretch/>
        </p:blipFill>
        <p:spPr>
          <a:xfrm>
            <a:off x="228600" y="54864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3455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ntric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the lower chamber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mps blood out of 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eart an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irculation through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ulmonary circul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he right side of the heart pumps blood from the heart to the lu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ystemic circul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he left side of the heart pumps blood to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22860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ygen diffuses from the alveolus into the blood bec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entering the capillaries of the lungs is oxygen-poor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entering the capillaries of the lungs is oxygen-ric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r entering the lungs has more carbon dioxide than oxy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r entering the lungs has less oxygen than is found in the blood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838080" y="2895480"/>
            <a:ext cx="7731360" cy="7621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A"/>
          <p:cNvPicPr/>
          <p:nvPr/>
        </p:nvPicPr>
        <p:blipFill>
          <a:blip r:embed="rId1"/>
          <a:stretch/>
        </p:blipFill>
        <p:spPr>
          <a:xfrm>
            <a:off x="192240" y="29923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79132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bio_ch37_4072"/>
          <p:cNvPicPr/>
          <p:nvPr/>
        </p:nvPicPr>
        <p:blipFill>
          <a:blip r:embed="rId1"/>
          <a:stretch/>
        </p:blipFill>
        <p:spPr>
          <a:xfrm>
            <a:off x="2895480" y="1905120"/>
            <a:ext cx="3154320" cy="422892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5"/>
          <p:cNvGrpSpPr/>
          <p:nvPr/>
        </p:nvGrpSpPr>
        <p:grpSpPr>
          <a:xfrm>
            <a:off x="2235240" y="1787400"/>
            <a:ext cx="4172040" cy="4680000"/>
            <a:chOff x="2235240" y="1787400"/>
            <a:chExt cx="4172040" cy="4680000"/>
          </a:xfrm>
        </p:grpSpPr>
        <p:sp>
          <p:nvSpPr>
            <p:cNvPr id="123" name="Text Box 6"/>
            <p:cNvSpPr/>
            <p:nvPr/>
          </p:nvSpPr>
          <p:spPr>
            <a:xfrm>
              <a:off x="2311560" y="1787400"/>
              <a:ext cx="142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head and arm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4978440" y="5825880"/>
              <a:ext cx="1428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abdominal organs and leg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2781360" y="4848120"/>
              <a:ext cx="933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erior vena cav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3060720" y="4136760"/>
              <a:ext cx="102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lmonary vei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2235240" y="4352760"/>
              <a:ext cx="1123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right lu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2540160" y="260028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erior vena cav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12"/>
            <p:cNvSpPr/>
            <p:nvPr/>
          </p:nvSpPr>
          <p:spPr>
            <a:xfrm>
              <a:off x="4102200" y="267624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ort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13"/>
            <p:cNvSpPr/>
            <p:nvPr/>
          </p:nvSpPr>
          <p:spPr>
            <a:xfrm>
              <a:off x="4915080" y="2612880"/>
              <a:ext cx="1047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lmonary arter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14"/>
            <p:cNvSpPr/>
            <p:nvPr/>
          </p:nvSpPr>
          <p:spPr>
            <a:xfrm>
              <a:off x="5295960" y="434016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left lu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flow through 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blood enters through an a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s the heart contracts, blood flows into the ventricles, and then 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lv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laps of connective tissue between the atria and ventricles that keep blood flowing in one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Blood flow mov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09:20:39Z</dcterms:created>
  <dc:creator>Mark Coziahr</dc:creator>
  <dc:description/>
  <dc:language>en-US</dc:language>
  <cp:lastModifiedBy>iLLuSioN</cp:lastModifiedBy>
  <dcterms:modified xsi:type="dcterms:W3CDTF">2009-04-27T01:47:13Z</dcterms:modified>
  <cp:revision>105</cp:revision>
  <dc:subject/>
  <dc:title>Chapter 1 Notes</dc:title>
</cp:coreProperties>
</file>