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5D26-6D76-4834-84B8-895D904E3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DFCD-5D14-4210-B0B1-DFEB8DF94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F84D-88B7-48DF-98BD-448A86D91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92C8-260A-4F93-9DD0-DDCBBC5F8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9F2F-09B5-4F81-9190-A48F5E9CF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8ADC-BBB3-4DD2-A625-D9EAB9DD5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C6D1-6212-4DBB-85AA-5ED0C5B02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6618-79AD-4124-9554-5FD10C37C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98FF-91FB-4043-90D1-31B261BBB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217D-1073-478E-BDBA-B2C2711E4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F974-E056-4BB8-9428-47D5028DE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5D47-01A3-4AD9-BF75-C8CD9B36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E55C3-8076-4B03-9F0E-ACA2716448B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84360" y="2181240"/>
            <a:ext cx="696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22360" y="2387520"/>
            <a:ext cx="637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spcBef>
                <a:spcPts val="25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nvironmental Problems, Their Causes, and Sustainability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95880" y="2438280"/>
            <a:ext cx="595044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. Tyler Miller’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ving in the Enviro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4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Ed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hapte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0680" y="1763640"/>
            <a:ext cx="2745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erpetu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1040" y="3513240"/>
            <a:ext cx="2998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newa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1400" y="5264280"/>
            <a:ext cx="3929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on-renewa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rcRect l="17917" t="0" r="18657" b="0"/>
          <a:stretch/>
        </p:blipFill>
        <p:spPr>
          <a:xfrm>
            <a:off x="4017960" y="0"/>
            <a:ext cx="5126040" cy="67406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93" name=""/>
          <p:cNvSpPr/>
          <p:nvPr/>
        </p:nvSpPr>
        <p:spPr>
          <a:xfrm>
            <a:off x="3867120" y="731880"/>
            <a:ext cx="2141640" cy="3527280"/>
          </a:xfrm>
          <a:prstGeom prst="ellipse">
            <a:avLst/>
          </a:prstGeom>
          <a:noFill/>
          <a:ln w="57240">
            <a:solidFill>
              <a:srgbClr val="ff99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17880" y="4167360"/>
            <a:ext cx="4492800" cy="2690640"/>
          </a:xfrm>
          <a:prstGeom prst="ellipse">
            <a:avLst/>
          </a:prstGeom>
          <a:noFill/>
          <a:ln w="57240">
            <a:solidFill>
              <a:srgbClr val="ff99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132600" y="1146240"/>
            <a:ext cx="3011400" cy="3004920"/>
          </a:xfrm>
          <a:prstGeom prst="ellipse">
            <a:avLst/>
          </a:prstGeom>
          <a:noFill/>
          <a:ln w="57240">
            <a:solidFill>
              <a:srgbClr val="ff99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16120" y="6313320"/>
            <a:ext cx="2298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Fig. 1-6 p.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5" dur="1" fill="hold"/>
                                  <p:tgtEl>
                                    <p:spTgt spid="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Renewable Resourc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21960" y="1711440"/>
            <a:ext cx="4426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ustainable Yie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21960" y="3382920"/>
            <a:ext cx="6739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nvironmental Degrad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21600" y="5054760"/>
            <a:ext cx="5921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Tragedy of the Comm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cological Footprint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-1080" y="6389640"/>
            <a:ext cx="20293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Fig. 1-7 p.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14624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143000" y="1450800"/>
            <a:ext cx="6858000" cy="4832280"/>
            <a:chOff x="1143000" y="1450800"/>
            <a:chExt cx="6858000" cy="4832280"/>
          </a:xfrm>
        </p:grpSpPr>
        <p:pic>
          <p:nvPicPr>
            <p:cNvPr id="106" name="" descr=""/>
            <p:cNvPicPr/>
            <p:nvPr/>
          </p:nvPicPr>
          <p:blipFill>
            <a:blip r:embed="rId1"/>
            <a:srcRect l="0" t="21885" r="0" b="30157"/>
            <a:stretch/>
          </p:blipFill>
          <p:spPr>
            <a:xfrm>
              <a:off x="1143000" y="1450800"/>
              <a:ext cx="6858000" cy="246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2"/>
            <a:srcRect l="0" t="23428" r="0" b="28950"/>
            <a:stretch/>
          </p:blipFill>
          <p:spPr>
            <a:xfrm>
              <a:off x="1143000" y="3833640"/>
              <a:ext cx="6858000" cy="2449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Non-Renewable Resourc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02320" y="1395360"/>
            <a:ext cx="4537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nergy Re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2320" y="2368440"/>
            <a:ext cx="4735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etallic Re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2320" y="3343320"/>
            <a:ext cx="347976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on-Metallic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02320" y="4927680"/>
            <a:ext cx="1927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u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01240" y="5902200"/>
            <a:ext cx="2294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cyc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4319640" y="2997360"/>
            <a:ext cx="4824360" cy="3762360"/>
            <a:chOff x="4319640" y="2997360"/>
            <a:chExt cx="4824360" cy="3762360"/>
          </a:xfrm>
        </p:grpSpPr>
        <p:sp>
          <p:nvSpPr>
            <p:cNvPr id="116" name=""/>
            <p:cNvSpPr/>
            <p:nvPr/>
          </p:nvSpPr>
          <p:spPr>
            <a:xfrm>
              <a:off x="4894200" y="5751720"/>
              <a:ext cx="367524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Economic Deple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ff"/>
                  </a:solidFill>
                  <a:latin typeface="Arial"/>
                </a:rPr>
                <a:t>Fig. 1-8 p. 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7" name="" descr=""/>
            <p:cNvPicPr/>
            <p:nvPr/>
          </p:nvPicPr>
          <p:blipFill>
            <a:blip r:embed="rId1"/>
            <a:srcRect l="0" t="11696" r="764" b="13213"/>
            <a:stretch/>
          </p:blipFill>
          <p:spPr>
            <a:xfrm>
              <a:off x="4319640" y="2997360"/>
              <a:ext cx="4824360" cy="27385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</p:spTree>
  </p:cSld>
  <p:transition>
    <p:zoom dir="out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Pollu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39040" y="1554120"/>
            <a:ext cx="4639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is polluti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9760" y="2576520"/>
            <a:ext cx="4778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ffects of Pol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38680" y="3598920"/>
            <a:ext cx="1873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97040" y="4621320"/>
            <a:ext cx="1786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oi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98120" y="5643720"/>
            <a:ext cx="2661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onpoi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Dealing With Pollu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330560" y="2284560"/>
            <a:ext cx="6497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evention (Input Contro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331640" y="3956040"/>
            <a:ext cx="6326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eanup (Output Contro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nvironmental and Resource Problem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80" y="2185920"/>
            <a:ext cx="41976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ajor Problems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See Fig. 1-9 p. 12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80" y="4118040"/>
            <a:ext cx="4381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ive Root Cau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884960" y="1654200"/>
            <a:ext cx="7043040" cy="4749840"/>
            <a:chOff x="1884960" y="1654200"/>
            <a:chExt cx="7043040" cy="4749840"/>
          </a:xfrm>
        </p:grpSpPr>
        <p:sp>
          <p:nvSpPr>
            <p:cNvPr id="134" name=""/>
            <p:cNvSpPr/>
            <p:nvPr/>
          </p:nvSpPr>
          <p:spPr>
            <a:xfrm>
              <a:off x="1884960" y="5757840"/>
              <a:ext cx="253368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ff"/>
                  </a:solidFill>
                  <a:latin typeface="Arial"/>
                </a:rPr>
                <a:t>Fig. 1-10 p. 1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5" name="" descr=""/>
            <p:cNvPicPr/>
            <p:nvPr/>
          </p:nvPicPr>
          <p:blipFill>
            <a:blip r:embed="rId1"/>
            <a:srcRect l="12201" t="5617" r="22083" b="2037"/>
            <a:stretch/>
          </p:blipFill>
          <p:spPr>
            <a:xfrm>
              <a:off x="4421160" y="1654200"/>
              <a:ext cx="4506840" cy="4749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</p:spTree>
  </p:cSld>
  <p:transition>
    <p:zoom dir="out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0" t="3549" r="0" b="7622"/>
          <a:stretch/>
        </p:blipFill>
        <p:spPr>
          <a:xfrm>
            <a:off x="411120" y="1314360"/>
            <a:ext cx="8319960" cy="55436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nvironmental Impact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304080" y="6288120"/>
            <a:ext cx="253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ig. 1-13 p. 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nvironmental Interaction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04080" y="6237360"/>
            <a:ext cx="253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Fig. 1-14 p. 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11696" r="0" b="17255"/>
          <a:stretch/>
        </p:blipFill>
        <p:spPr>
          <a:xfrm>
            <a:off x="165240" y="1450800"/>
            <a:ext cx="8812080" cy="46958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nvironmental Worldview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41080" y="1693800"/>
            <a:ext cx="5721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lanetary Manag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41800" y="3006720"/>
            <a:ext cx="5835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nvironmental Wisd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Key Concep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1160" y="1901880"/>
            <a:ext cx="6387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rowth and Sustainabi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61520" y="3121200"/>
            <a:ext cx="6820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sources and Resource U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8640" y="4340160"/>
            <a:ext cx="2606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ol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1880" y="5559480"/>
            <a:ext cx="8289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auses of Environmental Probl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What is Our Greatest Environmental Problem?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36680" y="1944720"/>
            <a:ext cx="8229600" cy="414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s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verpop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ater Short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mate Cha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iodiversity Lo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ove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lnutr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Solutions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urrent Emphasis (Reacti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ustainability Emphasis (Proacti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143080" y="5700600"/>
            <a:ext cx="217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ig. 1-16, p. 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Living More Sustainably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65280" y="1847880"/>
            <a:ext cx="2353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colo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67800" y="3154320"/>
            <a:ext cx="5637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nvironmental Sci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67800" y="4538520"/>
            <a:ext cx="4822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ustainable Socie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363760" y="6237360"/>
            <a:ext cx="18432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What Keeps Us Alive? Capital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ol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atur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59120" y="1600200"/>
            <a:ext cx="5827680" cy="4525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255920" y="5092560"/>
            <a:ext cx="276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ig. 1-2, p.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Population Growth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32920" y="3803760"/>
            <a:ext cx="2225880" cy="76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oubling Time/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ule of 7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49840" y="2725560"/>
            <a:ext cx="194688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xponentia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Grow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738520" y="1486080"/>
            <a:ext cx="6405480" cy="50734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298680" y="1847880"/>
            <a:ext cx="182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ig. 1-4, p. 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0" t="0" r="11043" b="0"/>
          <a:stretch/>
        </p:blipFill>
        <p:spPr>
          <a:xfrm>
            <a:off x="1184400" y="1146240"/>
            <a:ext cx="6777000" cy="5713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69" name=""/>
          <p:cNvSpPr/>
          <p:nvPr/>
        </p:nvSpPr>
        <p:spPr>
          <a:xfrm>
            <a:off x="1249560" y="4240080"/>
            <a:ext cx="186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ig. 1-1 p.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World Popula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conomic Growth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51040" y="2576520"/>
            <a:ext cx="7410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ross Domestic Product (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GDP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27000" y="3825720"/>
            <a:ext cx="4181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er Capita GN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conomic Development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2520" y="1739880"/>
            <a:ext cx="5157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eveloped Count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2160" y="3036960"/>
            <a:ext cx="5328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eveloping Count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49280" y="4334040"/>
            <a:ext cx="82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ositive Aspe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9280" y="5632560"/>
            <a:ext cx="82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egative Aspe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Globalization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14624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13800" y="1868400"/>
            <a:ext cx="2010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oc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14880" y="3618000"/>
            <a:ext cx="2854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conom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6680" y="5367240"/>
            <a:ext cx="5605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nvironmental Effe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1:21:45Z</dcterms:created>
  <dc:creator>Richard Clements</dc:creator>
  <dc:description/>
  <dc:language>en-US</dc:language>
  <cp:lastModifiedBy>Thomson</cp:lastModifiedBy>
  <dcterms:modified xsi:type="dcterms:W3CDTF">2004-09-07T18:58:54Z</dcterms:modified>
  <cp:revision>46</cp:revision>
  <dc:subject/>
  <dc:title>PowerPoint Presentation</dc:title>
</cp:coreProperties>
</file>