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C85-DEE6-4F39-B33B-E0AE8737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D92-E6DC-4187-B1AC-115AEAC0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886-FBA3-454F-A056-596B0D2C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695-F7A2-4C18-8BE5-159ECC3F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E3B-55B8-4615-A28D-330C840D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05B-0612-4198-950F-9B217BF6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36D-3909-45E8-B5D8-E9413C52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BB3-ED36-46CF-A6FA-96869349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6F6-9532-4BBE-998B-8157B9DA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E08-5684-4CC7-8ADA-8393AE8F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C09-0927-41BE-8043-C71F93DB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819-4AD4-43C8-81FF-043CBA3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2D39-0F27-4C91-9E54-B900276DAD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Problem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0680" y="17636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040" y="351324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400" y="52642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7917" t="0" r="18657" b="0"/>
          <a:stretch/>
        </p:blipFill>
        <p:spPr>
          <a:xfrm>
            <a:off x="4017960" y="0"/>
            <a:ext cx="5126040" cy="674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3" name=""/>
          <p:cNvSpPr/>
          <p:nvPr/>
        </p:nvSpPr>
        <p:spPr>
          <a:xfrm>
            <a:off x="3867120" y="731880"/>
            <a:ext cx="2141640" cy="35272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17880" y="4167360"/>
            <a:ext cx="4492800" cy="26906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32600" y="1146240"/>
            <a:ext cx="3011400" cy="300492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16120" y="6313320"/>
            <a:ext cx="2298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ig. 1-6 p.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196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196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160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080" y="6389640"/>
            <a:ext cx="2029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-7 p.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143000" y="1450800"/>
            <a:ext cx="6858000" cy="4832280"/>
            <a:chOff x="1143000" y="1450800"/>
            <a:chExt cx="6858000" cy="48322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0" t="21885" r="0" b="30157"/>
            <a:stretch/>
          </p:blipFill>
          <p:spPr>
            <a:xfrm>
              <a:off x="1143000" y="1450800"/>
              <a:ext cx="6858000" cy="24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0" t="23428" r="0" b="28950"/>
            <a:stretch/>
          </p:blipFill>
          <p:spPr>
            <a:xfrm>
              <a:off x="1143000" y="3833640"/>
              <a:ext cx="6858000" cy="244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2320" y="236844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2320" y="334332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2320" y="492768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319640" y="2997360"/>
            <a:ext cx="4824360" cy="3762360"/>
            <a:chOff x="4319640" y="2997360"/>
            <a:chExt cx="4824360" cy="3762360"/>
          </a:xfrm>
        </p:grpSpPr>
        <p:sp>
          <p:nvSpPr>
            <p:cNvPr id="116" name=""/>
            <p:cNvSpPr/>
            <p:nvPr/>
          </p:nvSpPr>
          <p:spPr>
            <a:xfrm>
              <a:off x="4894200" y="5751720"/>
              <a:ext cx="3675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Economic Deple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Fig. 1-8 p. 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rcRect l="0" t="11696" r="764" b="13213"/>
            <a:stretch/>
          </p:blipFill>
          <p:spPr>
            <a:xfrm>
              <a:off x="4319640" y="2997360"/>
              <a:ext cx="4824360" cy="2738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904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97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2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05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16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8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9 p. 1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8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884960" y="1654200"/>
            <a:ext cx="7043040" cy="4749840"/>
            <a:chOff x="1884960" y="1654200"/>
            <a:chExt cx="7043040" cy="4749840"/>
          </a:xfrm>
        </p:grpSpPr>
        <p:sp>
          <p:nvSpPr>
            <p:cNvPr id="134" name=""/>
            <p:cNvSpPr/>
            <p:nvPr/>
          </p:nvSpPr>
          <p:spPr>
            <a:xfrm>
              <a:off x="1884960" y="5757840"/>
              <a:ext cx="2533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Fig. 1-10 p. 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rcRect l="12201" t="5617" r="22083" b="2037"/>
            <a:stretch/>
          </p:blipFill>
          <p:spPr>
            <a:xfrm>
              <a:off x="4421160" y="1654200"/>
              <a:ext cx="4506840" cy="4749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3549" r="0" b="7622"/>
          <a:stretch/>
        </p:blipFill>
        <p:spPr>
          <a:xfrm>
            <a:off x="411120" y="1314360"/>
            <a:ext cx="831996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04080" y="628812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g. 1-13 p.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04080" y="623736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ig. 1-14 p.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1696" r="0" b="17255"/>
          <a:stretch/>
        </p:blipFill>
        <p:spPr>
          <a:xfrm>
            <a:off x="165240" y="1450800"/>
            <a:ext cx="8812080" cy="4695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116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152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188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Our Greatest Environmental Problem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944720"/>
            <a:ext cx="8229600" cy="41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er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mat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rrent Emphasis (Re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 Emphasis (Pro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143080" y="5700600"/>
            <a:ext cx="21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g. 1-16, p.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780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78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623736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at Keeps Us Alive? Capital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59120" y="1600200"/>
            <a:ext cx="58276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55920" y="509256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ig. 1-2, p.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2920" y="3803760"/>
            <a:ext cx="2225880" cy="7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9840" y="2725560"/>
            <a:ext cx="194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38520" y="1486080"/>
            <a:ext cx="6405480" cy="507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98680" y="1847880"/>
            <a:ext cx="18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g. 1-4, p.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043" b="0"/>
          <a:stretch/>
        </p:blipFill>
        <p:spPr>
          <a:xfrm>
            <a:off x="1184400" y="1146240"/>
            <a:ext cx="6777000" cy="571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9" name=""/>
          <p:cNvSpPr/>
          <p:nvPr/>
        </p:nvSpPr>
        <p:spPr>
          <a:xfrm>
            <a:off x="1249560" y="42400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g. 1-1 p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1040" y="257652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7000" y="38257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2520" y="173988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160" y="303696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280" y="433404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280" y="563256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ga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3800" y="1868400"/>
            <a:ext cx="201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4880" y="3618000"/>
            <a:ext cx="28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680" y="5367240"/>
            <a:ext cx="560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Thomson</cp:lastModifiedBy>
  <dcterms:modified xsi:type="dcterms:W3CDTF">2004-09-07T18:58:54Z</dcterms:modified>
  <cp:revision>46</cp:revision>
  <dc:subject/>
  <dc:title>PowerPoint Presentation</dc:title>
</cp:coreProperties>
</file>