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31A7-B9BF-4D26-8F76-1C08D2D5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EB5D-2546-4DC8-B932-29613757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CCCF1-66DD-4E7A-8EA8-988EAA7D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23FD-6E92-4618-AC0F-B8F4AAA2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058E-9212-493E-B824-DD835AAF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05D4-3B35-4B99-80D2-A761DD6E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9E02-3315-495A-92DD-E6A9AEFD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6701-EAD3-495D-A744-C352EFC6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9426-A583-4BBB-B2A5-47068579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D2FA-8604-480B-B5E5-995C254E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4669-673B-4B31-965F-D8BF2A26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6D207-E1C2-427C-B756-31425772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DF1D-9ACC-4907-9FFD-F9CA5FC0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5FD5-1139-438F-918E-0160F0B9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BD7D-32B4-432D-B3AB-1AA5F450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D7FE-2F41-44AC-A6A9-98984B60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264C-8E9F-4722-AB84-39DCA281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CECE-E3E4-482F-B5C9-783EBAF6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0307-35B5-441E-9C57-29C06782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E05E-7173-4F01-905C-AC703B35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BD21B-4619-41B4-8C1F-D97AE11E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6667-7DE4-48B1-973E-5B227D93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7D8B-607E-4024-9E8F-B82CD180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E4A68-8743-4010-B228-1231A914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9D3A-2317-4B16-9897-569ADF45FD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FA99-0854-490D-9348-F3041D7B2B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Who was Gregor Mendel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he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enes and Domin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ttle Vocabulary for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br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826920" y="1446120"/>
            <a:ext cx="76327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57680" y="259920"/>
            <a:ext cx="44863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endel’s Cross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egreg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203800" cy="5661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948360" y="40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reg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Please complete 11.1 assessment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3:38:50Z</dcterms:created>
  <dc:creator>IBM</dc:creator>
  <dc:description/>
  <dc:language>en-US</dc:language>
  <cp:lastModifiedBy>IBM</cp:lastModifiedBy>
  <dcterms:modified xsi:type="dcterms:W3CDTF">2007-11-29T01:59:31Z</dcterms:modified>
  <cp:revision>5</cp:revision>
  <dc:subject/>
  <dc:title>Who was Gregor Mendel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