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642E-C1C3-4356-A75A-0E46E8E2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E955-12B5-4849-ADDB-D135A181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134A-1BB0-46EF-AF6D-62F6AF6B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8514-4EB8-47BF-AE77-20EBC818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9BAD-3A74-4E22-83BC-41D1665A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2753-6A8C-4270-B9CA-209B5D68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7CE4-DDC2-4A6B-99A3-DB1459FC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D2C9-1DEE-48F8-BE1F-9CCFC5F9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88D1-6018-4739-8AE2-0079CFA0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9DBB-A12E-4C39-9629-E3D37C2A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F251-5D68-4C7F-A0BB-4C974610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F7C3-EBA1-4206-8B87-AA85C3E0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61F5-0673-47A3-BC67-CC85ACDD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3D2E-05DD-4D33-8F88-E8D21E9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3C03-3A1D-439C-BDC7-6DEC346D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91C6-CD5F-4740-83A0-A7F1339D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422D-4EDC-4D01-A7CB-36F342C0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47EF-85A8-4FAD-9993-CCECC401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4A81-7F43-46D6-8C11-CFBFCDA4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7D6D-589A-4C7F-95A6-B9031E3E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1F5A-B1CE-4192-BC69-2B6B8A3F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B9EF-15BA-4828-A071-FA03B11D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BC7D-BC7C-4F2E-B4F7-13FBEC30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57D2-1717-41A3-A595-C0658AE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8EF7-1189-4962-A0F6-3B888DE1A9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4F08-3115-418E-80D4-4726728A09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Who was Gregor Mendel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he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nes and Domin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ttle Vocabulary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br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826920" y="1446120"/>
            <a:ext cx="76327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57680" y="259920"/>
            <a:ext cx="44863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ndel’s Cross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greg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203800" cy="5661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94836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re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lease complete 11.1 assessment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3:38:50Z</dcterms:created>
  <dc:creator>IBM</dc:creator>
  <dc:description/>
  <dc:language>en-US</dc:language>
  <cp:lastModifiedBy>IBM</cp:lastModifiedBy>
  <dcterms:modified xsi:type="dcterms:W3CDTF">2007-11-29T01:59:31Z</dcterms:modified>
  <cp:revision>5</cp:revision>
  <dc:subject/>
  <dc:title>Who was Gregor Mendel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